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EED-417F-43DA-B905-DEF58063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6A1-1D62-456A-A8BA-98DD92FF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F4DF2-7483-4490-A67C-8946DA21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7EA2F-2123-476E-A683-62023608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91C79-7A08-4A0A-BECA-7645D96E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984E0-7D38-4D0E-B1FD-F3E9CBB1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4F8C5-8335-40CF-B23E-C616ED1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2A054-900F-4093-9CBA-9AD06EC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87DD3-4720-422A-BE67-96080415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F54AB-23B1-4B43-883D-2B0DC242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E5C12-0870-4F4F-9828-E1752870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848A5-B669-4C1A-8737-B617EEBE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62B-1AAE-4813-BACA-38FC2C91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06651-9D13-430B-A355-F81F8B22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C767C-2285-42D9-8662-38FBE595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E01C6-76FB-4102-A634-FE65AA32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141C8-D1CC-4E93-96F6-8F7C68A8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8E4ED-F96D-47A0-B975-2546EF07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2DA50-A0C2-43FA-B99B-A527627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B6084-2306-48F4-A5B8-669EA44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D9B67-660D-45B6-AC25-4D195691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37593-9347-4C1C-945D-5088E5B7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2B3D6-6BF4-4BF3-B86C-915184FA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E1F-98F6-4699-A658-47116F32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4B24E-13BF-4C65-93FB-89C59AAF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A691F-4B1C-473F-B759-1628D3BA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67A20-4A4B-4D2A-8CE2-E2FAAF9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694C2-9FC3-4F62-B1F2-EB053234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853AD-CA06-47DE-87AD-27648CE9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1251B-CAB7-4E81-A41A-AEE4BF82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5BAD8-9F17-4506-88B6-B7B2953F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7DD26-077E-4F82-BBEE-7A901918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C67E1-D7E5-485C-BAEC-C0EBD67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0DF01-8EB6-4B10-8216-9B9F6762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DD00-07E5-4D5F-882B-F398C237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B496B-1340-433A-ACD3-ECC9DDBF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9C162-5440-4505-9BAD-98D45334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9174E-6CF9-42AD-9CBC-1D288EF8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74864-D5E0-47F4-8010-E9DD6A7D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E5CC7-5383-4770-9388-9644991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DE252-C37B-42F6-A3B8-06487CBC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A0032-1B53-439F-AEFD-CCB384CA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88473-E149-4332-A53D-5EFE0DBB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97F46-3CCC-452E-8CDD-DBB0BB6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E3009-FF9B-45B6-983B-52222FC3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79B6-FB40-47C2-BCE1-374F4A0D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096E8-A3F9-4831-9F5A-C5E0CBC5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5FE65-280F-4045-9554-263FEDF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E10BC-2C06-4274-9B84-5F11917F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C6A9F-B741-4635-991F-0F591FBE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F0FC4-E955-490F-839C-D1D30192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5510-6F99-4942-8AB6-A008F49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4CB2-2548-4775-886D-B774EF72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4814-CAFA-4C4E-BA71-7EF55331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D337-A714-4A11-B29D-8AAB83BE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2D47-6F71-45B8-A0DD-11471B0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FC0-B05E-4041-98E9-E483924E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F19E-83D1-4F51-94E6-D7079D2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6ED5-0D89-42E0-B38D-02BE65A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5C06-49F0-4A5F-BBBE-FB274843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03FD-4524-4D41-B1AE-8D646330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711D-11D1-436F-AC59-FA6150FC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1F8D-5B2D-4F5B-9715-14193599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A970-19E2-4387-A400-AC52D81D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25A5-0554-476C-9069-6C662FC8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73EE-E652-4342-B30A-927D9D2B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64DF-A266-46BF-A2AB-0CBCB248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CCC-0AAC-4DB1-BA10-F8069BEB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C159-6965-464E-82B2-23A1A6C1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CD13-20DF-4F82-B870-EEED7E6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19FB7-188E-4055-90D8-60DE89AA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D9E5-8ABB-4E24-886F-44939C5F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8AAF0-4C71-41CD-8BBA-468304CC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C8C1-A79B-4C7A-BBBB-C9E92810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1A12-23D4-484C-AF2F-98D8F106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E4B8-28F0-46B4-8612-189018B5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9917F-1721-4CFE-8413-E7E8D7FC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2C3D-A30B-4881-A262-6ECFDBBB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3AF-E8DB-413A-9FB6-1D91E6D5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F7B5-8CA6-4716-A688-A5E4E3EE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9507-E94A-4B59-A2D2-40ABD23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4277-B729-4D42-B611-D8833758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7A29-7E75-4AAB-A56F-817C3275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556F-D634-4A15-88D7-55370AE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0E73-3F76-46CC-AD02-40A021D2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A092-D5EB-4BA1-B199-E3AE7400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1CBA-B85A-421E-8143-3F1D9A90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0FF4-6639-4B60-ABBD-07ED97B3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14DB9-9F9D-4E6D-9C8A-76EA497C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CFD-AF44-46B6-B303-DBE6FFD0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2266-34EF-4B18-8901-F3E096C4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96AF2-EFC1-4B82-8798-4417BD35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28B1-64C9-4CB4-9B1A-BF9A7CE1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BA1A-D620-438B-8D99-4FEB754A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3B79-B997-4755-9E7A-AFD002E3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538A-52BC-413C-B4DA-ECF9834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A2E39-572C-4739-88B7-A2D39999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F60C-F705-48EE-BB7F-7926C5D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E702-9F7D-4E59-A825-F9A7EA39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10B08-5D32-4263-9350-93EF9480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58A-A1D2-4B00-B4BF-B43B5A1E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3326-760A-46FB-8E37-5CBA70A4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90CD1-5119-4901-A8E2-1E96DC97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7C6C-D48D-4185-AE64-8B05CEE9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7A8F-0936-4C3F-8699-CEB6EB7E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6895C-1D79-4253-96B2-6A8AE0E9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A5EF1-76BA-4CB4-89B1-1F7104EE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4367-00E6-4F4A-9B67-45A769D1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9E79D-0331-421F-8770-F26C5F9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7C060-0B37-4E5B-AA0A-2658D98F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4B7DE-851D-4FB5-9D16-0A45C883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C84-4997-4837-BF6B-7E812F5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9BC9-2E97-4303-ACD8-23B22186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0F954-FC98-4DE2-B455-421789D4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3B520-3534-42C5-ACFA-1B805B8A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32FF6-24A5-4E89-8EB0-DA696ADE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1A375-B1FC-49CB-A059-44B744F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D0E15-A496-4C6F-A78E-41BAFD7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81FCA-E87F-4178-AACB-903BD750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674F3-B544-4FAE-AE3F-29730D77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DBE9D-ACC4-457E-BD0B-AECAB278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E10AA-7CDC-4FDD-8785-06E6D7DC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C4C-F7CC-4DF0-BC99-086E91FD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528F-B6D6-4393-9512-F997EA2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F87C3-61E0-4F57-AAD3-3547C861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46249-15F4-4A9C-82B4-D1E85584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AF558-3859-484F-888A-6DBCA9D0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5056-2CE7-4B6E-BC72-FBBAE941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469E-66D1-4D65-8AED-CB1E9839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7405B-53F6-40BA-B887-EE5C2A59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9E09-66A8-4A93-8529-F806CCD1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E2BC-33A4-4D65-868B-4A5A3FA3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871F6-FBC0-46F3-99C8-64CB8C00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D09-1F0F-43EB-A21E-CF2E6CE8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E3D06-099D-4591-B108-73EA1710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BB030-916E-4623-BA1A-6F64485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DEB54-44F5-427F-9C04-0FA0C102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D3DF0-AAEA-447D-B84B-CF780698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9B872-6305-404C-88B4-5EFB4C28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BD83B-08F8-421E-9B32-678CA488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3154-AA38-4CE4-891D-C5421E2D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E7A99-9D24-49E7-ADB4-BB21A456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31F98-13F4-4812-9DC0-AC71EA26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A15EF-DE4E-4EAE-A967-D890C4FC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376C-77DF-4B2C-A345-8FEBAF4DA2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372E-9FF0-4029-ACB0-26FAEC95B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54A4-6975-460D-8787-9869981CD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814E-BBBD-47E5-A14A-A73D0DFB79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D0B8-9492-46DC-8761-7453AF7413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81D-F5F0-4155-9D68-8E28B6BAF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B026-6C9B-4FCE-B23C-7019B3302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1ECF-19D9-4462-8828-7C209DFAF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3B91-397C-49C1-AB4A-74F2D1541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6E7C-6863-4E12-B135-467EBAD35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4E57-4405-4C03-9C50-ECFC00DC73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3456-2145-42CF-9EB2-2F9D830E4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68360" y="90792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Palatino Linotype"/>
              </a:rPr>
              <a:t>	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El diseño curricular de aula (DCA) y el nuevo paradigma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socio-cognitivo de la sociedad del conocimient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br>
              <a:rPr sz="1400"/>
            </a:br>
            <a:r>
              <a:rPr b="0" lang="es-ES_tradnl" sz="900" spc="-1" strike="noStrike">
                <a:solidFill>
                  <a:srgbClr val="000000"/>
                </a:solidFill>
                <a:latin typeface="Palatino Linotype"/>
              </a:rPr>
              <a:t>	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ES_tradnl" sz="1600" spc="-1" strike="noStrike">
                <a:solidFill>
                  <a:srgbClr val="000099"/>
                </a:solidFill>
                <a:latin typeface="Palatino Linotype"/>
              </a:rPr>
              <a:t>Exio Isaac </a:t>
            </a:r>
            <a:r>
              <a:rPr b="1" lang="es-ES_tradnl" sz="1600" spc="-1" strike="noStrike">
                <a:solidFill>
                  <a:srgbClr val="000099"/>
                </a:solidFill>
                <a:latin typeface="Palatino Linotype"/>
              </a:rPr>
              <a:t>Chaparro Martínez</a:t>
            </a:r>
            <a:br>
              <a:rPr sz="1200"/>
            </a:br>
            <a:r>
              <a:rPr b="0" lang="es-ES_tradnl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es-ES_tradnl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Palatino Linotype"/>
              </a:rPr>
              <a:t>Maracay, 10 diciembre de 200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7" name="Picture 7" descr=""/>
          <p:cNvPicPr/>
          <p:nvPr/>
        </p:nvPicPr>
        <p:blipFill>
          <a:blip r:embed="rId1"/>
          <a:stretch/>
        </p:blipFill>
        <p:spPr>
          <a:xfrm>
            <a:off x="4000680" y="785880"/>
            <a:ext cx="1485720" cy="1466640"/>
          </a:xfrm>
          <a:prstGeom prst="rect">
            <a:avLst/>
          </a:prstGeom>
          <a:ln w="0">
            <a:noFill/>
          </a:ln>
        </p:spPr>
      </p:pic>
      <p:sp>
        <p:nvSpPr>
          <p:cNvPr id="608" name="7 Marcador de número de diapositiva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801D-5005-49D4-B1B1-1780CED24FDF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9 Conector recto"/>
          <p:cNvSpPr/>
          <p:nvPr/>
        </p:nvSpPr>
        <p:spPr>
          <a:xfrm>
            <a:off x="4071960" y="4929120"/>
            <a:ext cx="4929120" cy="18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10 Multiplicar"/>
          <p:cNvSpPr/>
          <p:nvPr/>
        </p:nvSpPr>
        <p:spPr>
          <a:xfrm>
            <a:off x="3643200" y="4786200"/>
            <a:ext cx="500040" cy="42876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17"/>
          <p:cNvGrpSpPr/>
          <p:nvPr/>
        </p:nvGrpSpPr>
        <p:grpSpPr>
          <a:xfrm>
            <a:off x="1143000" y="457200"/>
            <a:ext cx="6934320" cy="5943600"/>
            <a:chOff x="1143000" y="457200"/>
            <a:chExt cx="6934320" cy="5943600"/>
          </a:xfrm>
        </p:grpSpPr>
        <p:sp>
          <p:nvSpPr>
            <p:cNvPr id="689" name="Oval 2"/>
            <p:cNvSpPr/>
            <p:nvPr/>
          </p:nvSpPr>
          <p:spPr>
            <a:xfrm>
              <a:off x="2971800" y="5486400"/>
              <a:ext cx="3276720" cy="914400"/>
            </a:xfrm>
            <a:prstGeom prst="ellipse">
              <a:avLst/>
            </a:prstGeom>
            <a:gradFill rotWithShape="0">
              <a:gsLst>
                <a:gs pos="0">
                  <a:srgbClr val="d2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ACTIVIDAD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(Estrategias de aprendizaje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Line 3"/>
            <p:cNvSpPr/>
            <p:nvPr/>
          </p:nvSpPr>
          <p:spPr>
            <a:xfrm>
              <a:off x="4572000" y="510552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Rectangle 5"/>
            <p:cNvSpPr/>
            <p:nvPr/>
          </p:nvSpPr>
          <p:spPr>
            <a:xfrm>
              <a:off x="2438280" y="457200"/>
              <a:ext cx="4267440" cy="609480"/>
            </a:xfrm>
            <a:prstGeom prst="rect">
              <a:avLst/>
            </a:prstGeom>
            <a:solidFill>
              <a:srgbClr val="abde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lbertus Medium"/>
                </a:rPr>
                <a:t>PARADIGMA SOCIO-COGNITIV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Oval 6"/>
            <p:cNvSpPr/>
            <p:nvPr/>
          </p:nvSpPr>
          <p:spPr>
            <a:xfrm>
              <a:off x="3809880" y="1600200"/>
              <a:ext cx="1600200" cy="685800"/>
            </a:xfrm>
            <a:prstGeom prst="ellipse">
              <a:avLst/>
            </a:prstGeom>
            <a:gradFill rotWithShape="0">
              <a:gsLst>
                <a:gs pos="0">
                  <a:srgbClr val="e1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CULTUR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Oval 7"/>
            <p:cNvSpPr/>
            <p:nvPr/>
          </p:nvSpPr>
          <p:spPr>
            <a:xfrm>
              <a:off x="1143000" y="2362320"/>
              <a:ext cx="2362320" cy="838080"/>
            </a:xfrm>
            <a:prstGeom prst="ellipse">
              <a:avLst/>
            </a:prstGeom>
            <a:solidFill>
              <a:srgbClr val="abde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SOCI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(Programas oficiales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Oval 8"/>
            <p:cNvSpPr/>
            <p:nvPr/>
          </p:nvSpPr>
          <p:spPr>
            <a:xfrm>
              <a:off x="5715000" y="2362320"/>
              <a:ext cx="2362320" cy="838080"/>
            </a:xfrm>
            <a:prstGeom prst="ellipse">
              <a:avLst/>
            </a:prstGeom>
            <a:solidFill>
              <a:srgbClr val="abde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INSTITUCION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(Programas propios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Oval 9"/>
            <p:cNvSpPr/>
            <p:nvPr/>
          </p:nvSpPr>
          <p:spPr>
            <a:xfrm>
              <a:off x="3276720" y="3429000"/>
              <a:ext cx="2666880" cy="609480"/>
            </a:xfrm>
            <a:prstGeom prst="ellipse">
              <a:avLst/>
            </a:prstGeom>
            <a:gradFill rotWithShape="0">
              <a:gsLst>
                <a:gs pos="0">
                  <a:srgbClr val="eb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CURRICULU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Rectangle 10"/>
            <p:cNvSpPr/>
            <p:nvPr/>
          </p:nvSpPr>
          <p:spPr>
            <a:xfrm>
              <a:off x="2438280" y="4495680"/>
              <a:ext cx="4267440" cy="609840"/>
            </a:xfrm>
            <a:prstGeom prst="rect">
              <a:avLst/>
            </a:prstGeom>
            <a:solidFill>
              <a:srgbClr val="abde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Objetivos: Capacidades y valor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lbertus Medium"/>
                </a:rPr>
                <a:t>Medios: Contenidos y método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97" name="AutoShape 11"/>
            <p:cNvCxnSpPr>
              <a:stCxn id="692" idx="3"/>
              <a:endCxn id="693" idx="7"/>
            </p:cNvCxnSpPr>
            <p:nvPr/>
          </p:nvCxnSpPr>
          <p:spPr>
            <a:xfrm flipH="1">
              <a:off x="3158280" y="2185560"/>
              <a:ext cx="886680" cy="29916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98" name="AutoShape 12"/>
            <p:cNvCxnSpPr>
              <a:stCxn id="692" idx="5"/>
              <a:endCxn id="694" idx="1"/>
            </p:cNvCxnSpPr>
            <p:nvPr/>
          </p:nvCxnSpPr>
          <p:spPr>
            <a:xfrm>
              <a:off x="5175360" y="2185560"/>
              <a:ext cx="886320" cy="29916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99" name="AutoShape 13"/>
            <p:cNvCxnSpPr>
              <a:stCxn id="693" idx="5"/>
              <a:endCxn id="695" idx="1"/>
            </p:cNvCxnSpPr>
            <p:nvPr/>
          </p:nvCxnSpPr>
          <p:spPr>
            <a:xfrm>
              <a:off x="3158640" y="3078000"/>
              <a:ext cx="508680" cy="44064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700" name="Line 14"/>
            <p:cNvSpPr/>
            <p:nvPr/>
          </p:nvSpPr>
          <p:spPr>
            <a:xfrm>
              <a:off x="4572000" y="4038480"/>
              <a:ext cx="0" cy="4572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5"/>
            <p:cNvSpPr/>
            <p:nvPr/>
          </p:nvSpPr>
          <p:spPr>
            <a:xfrm>
              <a:off x="4572000" y="1066680"/>
              <a:ext cx="0" cy="533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702" name="AutoShape 16"/>
            <p:cNvCxnSpPr>
              <a:stCxn id="694" idx="3"/>
              <a:endCxn id="695" idx="7"/>
            </p:cNvCxnSpPr>
            <p:nvPr/>
          </p:nvCxnSpPr>
          <p:spPr>
            <a:xfrm flipH="1">
              <a:off x="5552280" y="3078000"/>
              <a:ext cx="508680" cy="440640"/>
            </a:xfrm>
            <a:prstGeom prst="straightConnector1">
              <a:avLst/>
            </a:prstGeom>
            <a:ln w="38160">
              <a:solidFill>
                <a:srgbClr val="003399"/>
              </a:solidFill>
              <a:miter/>
              <a:tailEnd len="med" type="triangle" w="med"/>
            </a:ln>
          </p:spPr>
        </p:cxnSp>
      </p:grpSp>
      <p:sp>
        <p:nvSpPr>
          <p:cNvPr id="703" name="17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BC71-1ABC-487F-A0F6-117FB704CE46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0" y="0"/>
            <a:ext cx="609480" cy="68580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0"/>
              <a:gd name="textAreaBottom" fmla="*/ 6828480 h 6858000"/>
            </a:gdLst>
            <a:ahLst/>
            <a:rect l="textAreaLeft" t="textAreaTop" r="textAreaRight" b="textAreaBottom"/>
            <a:pathLst>
              <a:path w="21600" h="242917">
                <a:moveTo>
                  <a:pt x="3600" y="0"/>
                </a:moveTo>
                <a:arcTo wR="3600" hR="3600" stAng="16200000" swAng="-5400000"/>
                <a:lnTo>
                  <a:pt x="0" y="239317"/>
                </a:lnTo>
                <a:arcTo wR="3600" hR="3600" stAng="10800000" swAng="-5400000"/>
                <a:lnTo>
                  <a:pt x="18000" y="242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AutoShape 3"/>
          <p:cNvSpPr/>
          <p:nvPr/>
        </p:nvSpPr>
        <p:spPr>
          <a:xfrm rot="5412000">
            <a:off x="2323800" y="-2095560"/>
            <a:ext cx="609480" cy="525780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AutoShape 4"/>
          <p:cNvSpPr/>
          <p:nvPr/>
        </p:nvSpPr>
        <p:spPr>
          <a:xfrm rot="16249200">
            <a:off x="6132240" y="-1952280"/>
            <a:ext cx="533520" cy="5486400"/>
          </a:xfrm>
          <a:prstGeom prst="triangle">
            <a:avLst>
              <a:gd name="adj" fmla="val 46019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17"/>
          <p:cNvSpPr/>
          <p:nvPr/>
        </p:nvSpPr>
        <p:spPr>
          <a:xfrm>
            <a:off x="838080" y="380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 Black"/>
              </a:rPr>
              <a:t>Objetivos en el marco del conduct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18"/>
          <p:cNvSpPr/>
          <p:nvPr/>
        </p:nvSpPr>
        <p:spPr>
          <a:xfrm>
            <a:off x="1000080" y="1357200"/>
            <a:ext cx="764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 Black"/>
              </a:rPr>
              <a:t>Ejemplos: Taxonomías de Bloom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 Situar y localizar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   6.  Elegir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        11.  Ope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 Caminar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   7.  Usar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        12.  Detec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 Representar                     8.  Calcular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        13.  Compañerism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 Operar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   9.  Seguir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        14.  Sentido de equip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 Desplazarse 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                10.  Ayuda mutua      15.  Indu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 Black"/>
              </a:rPr>
              <a:t>Son verbos en infinitivo para aprender un contenid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 Black"/>
              </a:rPr>
              <a:t>(fin u objetiv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7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AC93-CE60-4836-96FA-AD7AEAFEDEFA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2"/>
          <p:cNvSpPr/>
          <p:nvPr/>
        </p:nvSpPr>
        <p:spPr>
          <a:xfrm>
            <a:off x="0" y="0"/>
            <a:ext cx="609480" cy="68580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0"/>
              <a:gd name="textAreaBottom" fmla="*/ 6828480 h 6858000"/>
            </a:gdLst>
            <a:ahLst/>
            <a:rect l="textAreaLeft" t="textAreaTop" r="textAreaRight" b="textAreaBottom"/>
            <a:pathLst>
              <a:path w="21600" h="242917">
                <a:moveTo>
                  <a:pt x="3600" y="0"/>
                </a:moveTo>
                <a:arcTo wR="3600" hR="3600" stAng="16200000" swAng="-5400000"/>
                <a:lnTo>
                  <a:pt x="0" y="239317"/>
                </a:lnTo>
                <a:arcTo wR="3600" hR="3600" stAng="10800000" swAng="-5400000"/>
                <a:lnTo>
                  <a:pt x="18000" y="242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"/>
          <p:cNvSpPr/>
          <p:nvPr/>
        </p:nvSpPr>
        <p:spPr>
          <a:xfrm rot="5412000">
            <a:off x="2323800" y="-2095560"/>
            <a:ext cx="609480" cy="525780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AutoShape 4"/>
          <p:cNvSpPr/>
          <p:nvPr/>
        </p:nvSpPr>
        <p:spPr>
          <a:xfrm rot="16249200">
            <a:off x="6132240" y="-1952280"/>
            <a:ext cx="533520" cy="5486400"/>
          </a:xfrm>
          <a:prstGeom prst="triangle">
            <a:avLst>
              <a:gd name="adj" fmla="val 46019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838080" y="380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 Black"/>
              </a:rPr>
              <a:t>Objetivos por capac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573120" y="1981080"/>
            <a:ext cx="7997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 Black"/>
              </a:rPr>
              <a:t>Capacidades básicas:</a:t>
            </a:r>
            <a:r>
              <a:rPr b="0" lang="es-ES_tradnl" sz="1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66"/>
                </a:solidFill>
                <a:latin typeface="Arial Black"/>
              </a:rPr>
              <a:t>     Capacidades superior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- Razonamiento lógico.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     - Pensamiento creat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- Orientación espacio-temporal.          - Pensamiento crit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- Expresión oral y escrita.                    - Toma de decisiones.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- Socialización.                                      - Solución de problem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 Black"/>
              </a:rPr>
              <a:t>El contenido es un medio para desarrollar un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7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020C-FE8F-4772-BE72-70A96B7EE97D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2"/>
          <p:cNvSpPr/>
          <p:nvPr/>
        </p:nvSpPr>
        <p:spPr>
          <a:xfrm>
            <a:off x="0" y="0"/>
            <a:ext cx="609480" cy="68580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0"/>
              <a:gd name="textAreaBottom" fmla="*/ 6828480 h 6858000"/>
            </a:gdLst>
            <a:ahLst/>
            <a:rect l="textAreaLeft" t="textAreaTop" r="textAreaRight" b="textAreaBottom"/>
            <a:pathLst>
              <a:path w="21600" h="242917">
                <a:moveTo>
                  <a:pt x="3600" y="0"/>
                </a:moveTo>
                <a:arcTo wR="3600" hR="3600" stAng="16200000" swAng="-5400000"/>
                <a:lnTo>
                  <a:pt x="0" y="239317"/>
                </a:lnTo>
                <a:arcTo wR="3600" hR="3600" stAng="10800000" swAng="-5400000"/>
                <a:lnTo>
                  <a:pt x="18000" y="242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AutoShape 3"/>
          <p:cNvSpPr/>
          <p:nvPr/>
        </p:nvSpPr>
        <p:spPr>
          <a:xfrm rot="5412000">
            <a:off x="2323800" y="-2095560"/>
            <a:ext cx="609480" cy="5257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AutoShape 4"/>
          <p:cNvSpPr/>
          <p:nvPr/>
        </p:nvSpPr>
        <p:spPr>
          <a:xfrm rot="16249200">
            <a:off x="6132240" y="-1952280"/>
            <a:ext cx="533520" cy="5486400"/>
          </a:xfrm>
          <a:prstGeom prst="triangle">
            <a:avLst>
              <a:gd name="adj" fmla="val 46019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609480" y="3808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Arial Black"/>
              </a:rPr>
              <a:t>Diseño Curricular de Aul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s-ES_tradnl" sz="2200" spc="-1" strike="noStrike">
                <a:solidFill>
                  <a:srgbClr val="000066"/>
                </a:solidFill>
                <a:latin typeface="Arial Black"/>
              </a:rPr>
              <a:t>Elemento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1325520" y="1735200"/>
            <a:ext cx="6496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 Black"/>
              </a:rPr>
              <a:t>A.- Programación larga (anual, semestr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a.- Evaluación inicial (o diagnostic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b.- Modelo  de la asignat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c.- Modelos de unidad de aprendizaje (de 3 a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por añ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d.- Evaluación de objetivos (capacidades-destrez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y valores-actitud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7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C8BE-6F1F-4675-A561-0A988AA06937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AutoShape 2"/>
          <p:cNvSpPr/>
          <p:nvPr/>
        </p:nvSpPr>
        <p:spPr>
          <a:xfrm>
            <a:off x="0" y="0"/>
            <a:ext cx="609480" cy="68580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0"/>
              <a:gd name="textAreaBottom" fmla="*/ 6828480 h 6858000"/>
            </a:gdLst>
            <a:ahLst/>
            <a:rect l="textAreaLeft" t="textAreaTop" r="textAreaRight" b="textAreaBottom"/>
            <a:pathLst>
              <a:path w="21600" h="242917">
                <a:moveTo>
                  <a:pt x="3600" y="0"/>
                </a:moveTo>
                <a:arcTo wR="3600" hR="3600" stAng="16200000" swAng="-5400000"/>
                <a:lnTo>
                  <a:pt x="0" y="239317"/>
                </a:lnTo>
                <a:arcTo wR="3600" hR="3600" stAng="10800000" swAng="-5400000"/>
                <a:lnTo>
                  <a:pt x="18000" y="242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AutoShape 3"/>
          <p:cNvSpPr/>
          <p:nvPr/>
        </p:nvSpPr>
        <p:spPr>
          <a:xfrm rot="5412000">
            <a:off x="2323800" y="-2095560"/>
            <a:ext cx="609480" cy="5257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AutoShape 4"/>
          <p:cNvSpPr/>
          <p:nvPr/>
        </p:nvSpPr>
        <p:spPr>
          <a:xfrm rot="16249200">
            <a:off x="6132240" y="-1952280"/>
            <a:ext cx="533520" cy="5486400"/>
          </a:xfrm>
          <a:prstGeom prst="triangle">
            <a:avLst>
              <a:gd name="adj" fmla="val 46019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609480" y="3808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Arial Black"/>
              </a:rPr>
              <a:t>Diseño Curricular de Aul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Arial Black"/>
              </a:rPr>
              <a:t>Elemento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951840" y="1596960"/>
            <a:ext cx="7268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 Black"/>
              </a:rPr>
              <a:t>B.- Programaciones de unidades de aprendizaje (3 a 6 por añ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a.- Objetivos por capacidades y destrezas (obje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cognitiv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b.- Objetivos por valores y actitudes (objetivos afecti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v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c.- Contenidos significativos (arquitectura del conoci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d.- Actividades como estrategias de aprendizaj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e.- Evaluación por objetivos (de contenidos y méto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7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F483-A416-4E2E-87D2-F58649447D08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Group 3"/>
          <p:cNvGrpSpPr/>
          <p:nvPr/>
        </p:nvGrpSpPr>
        <p:grpSpPr>
          <a:xfrm>
            <a:off x="533520" y="1447920"/>
            <a:ext cx="3580920" cy="5105160"/>
            <a:chOff x="533520" y="1447920"/>
            <a:chExt cx="3580920" cy="5105160"/>
          </a:xfrm>
        </p:grpSpPr>
        <p:sp>
          <p:nvSpPr>
            <p:cNvPr id="729" name="Rectangle 4"/>
            <p:cNvSpPr/>
            <p:nvPr/>
          </p:nvSpPr>
          <p:spPr>
            <a:xfrm>
              <a:off x="533520" y="1447920"/>
              <a:ext cx="3580920" cy="51051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5d1d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COGNITIVA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compren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imagin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sintetiz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utilizar (saber qué hac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con lo que se sabe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pensamiento creado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relacion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planificar el conocimient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razonamiento lógic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interiorizar concepto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pensamiento y sentido crític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clasific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globaliz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percibi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memoriz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5"/>
            <p:cNvSpPr/>
            <p:nvPr/>
          </p:nvSpPr>
          <p:spPr>
            <a:xfrm>
              <a:off x="533520" y="2057040"/>
              <a:ext cx="358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1" name="Group 6"/>
          <p:cNvGrpSpPr/>
          <p:nvPr/>
        </p:nvGrpSpPr>
        <p:grpSpPr>
          <a:xfrm>
            <a:off x="5105520" y="1981080"/>
            <a:ext cx="3276000" cy="3810240"/>
            <a:chOff x="5105520" y="1981080"/>
            <a:chExt cx="3276000" cy="3810240"/>
          </a:xfrm>
        </p:grpSpPr>
        <p:sp>
          <p:nvSpPr>
            <p:cNvPr id="732" name="Rectangle 7"/>
            <p:cNvSpPr/>
            <p:nvPr/>
          </p:nvSpPr>
          <p:spPr>
            <a:xfrm>
              <a:off x="5105520" y="1981080"/>
              <a:ext cx="3276000" cy="381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5d1d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PSICOMOTORA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orientación espaci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orientación tempor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creativida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aplic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expresión corpor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coordinación psicomotriz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utilizar (manejar utensilios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construi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automatiz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manipul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explor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8"/>
            <p:cNvSpPr/>
            <p:nvPr/>
          </p:nvSpPr>
          <p:spPr>
            <a:xfrm>
              <a:off x="5105520" y="2514600"/>
              <a:ext cx="32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4" name="WordArt 9"/>
          <p:cNvSpPr txBox="1"/>
          <p:nvPr/>
        </p:nvSpPr>
        <p:spPr>
          <a:xfrm>
            <a:off x="2133720" y="380880"/>
            <a:ext cx="4886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nel de Capacidades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9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B00B-891D-4C63-AC0E-59919688C83C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3"/>
          <p:cNvGrpSpPr/>
          <p:nvPr/>
        </p:nvGrpSpPr>
        <p:grpSpPr>
          <a:xfrm>
            <a:off x="304920" y="1447920"/>
            <a:ext cx="5562000" cy="3429000"/>
            <a:chOff x="304920" y="1447920"/>
            <a:chExt cx="5562000" cy="3429000"/>
          </a:xfrm>
        </p:grpSpPr>
        <p:sp>
          <p:nvSpPr>
            <p:cNvPr id="737" name="Rectangle 4"/>
            <p:cNvSpPr/>
            <p:nvPr/>
          </p:nvSpPr>
          <p:spPr>
            <a:xfrm>
              <a:off x="304920" y="1447920"/>
              <a:ext cx="5562000" cy="3429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5d1d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INSERCIÓN SOC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integración en el medi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relacionar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colabora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convivi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participa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aceptar críticamente: valores, normas, estilos de vida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comparti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asumir responsabilidades (derechos y debere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sentido de equip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comprensión de la realidad soc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5"/>
            <p:cNvSpPr/>
            <p:nvPr/>
          </p:nvSpPr>
          <p:spPr>
            <a:xfrm>
              <a:off x="304920" y="1857240"/>
              <a:ext cx="556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9" name="Group 6"/>
          <p:cNvGrpSpPr/>
          <p:nvPr/>
        </p:nvGrpSpPr>
        <p:grpSpPr>
          <a:xfrm>
            <a:off x="5562720" y="3429000"/>
            <a:ext cx="3124080" cy="3200400"/>
            <a:chOff x="5562720" y="3429000"/>
            <a:chExt cx="3124080" cy="3200400"/>
          </a:xfrm>
        </p:grpSpPr>
        <p:sp>
          <p:nvSpPr>
            <p:cNvPr id="740" name="Rectangle 7"/>
            <p:cNvSpPr/>
            <p:nvPr/>
          </p:nvSpPr>
          <p:spPr>
            <a:xfrm>
              <a:off x="5562720" y="3429000"/>
              <a:ext cx="3124080" cy="3200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5d1d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COMUNICACIÓ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expresión or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expresión escrit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expresión gráfic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expresión artístic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expresión corpor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expresión music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expresión plástic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expresión dinámic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expresión icónic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lbertu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dialoga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lbertus Medium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8"/>
            <p:cNvSpPr/>
            <p:nvPr/>
          </p:nvSpPr>
          <p:spPr>
            <a:xfrm>
              <a:off x="5562720" y="387684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2" name="WordArt 9"/>
          <p:cNvSpPr txBox="1"/>
          <p:nvPr/>
        </p:nvSpPr>
        <p:spPr>
          <a:xfrm>
            <a:off x="2133720" y="380880"/>
            <a:ext cx="4886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nel de Capacidades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3" name="9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C96F-1266-4607-9E94-68E204076FF0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solidFill>
            <a:srgbClr val="dbffff"/>
          </a:solidFill>
          <a:ln w="93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b9899"/>
                </a:solidFill>
                <a:latin typeface="Arial"/>
              </a:rPr>
              <a:t>INTELIGENCIA ESCOLAR COMO UN CONJUNTO DE </a:t>
            </a:r>
            <a:br>
              <a:rPr sz="2400"/>
            </a:br>
            <a:r>
              <a:rPr b="1" lang="es-ES" sz="2400" spc="-1" strike="noStrike">
                <a:solidFill>
                  <a:srgbClr val="7b9899"/>
                </a:solidFill>
                <a:latin typeface="Arial"/>
              </a:rPr>
              <a:t>CAPACIDADES-DESTREZAS Y VALORES-ACTITUDES</a:t>
            </a:r>
            <a:r>
              <a:rPr b="0" lang="es-ES" sz="2400" spc="-1" strike="noStrike">
                <a:solidFill>
                  <a:srgbClr val="7b98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8675640" y="18900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6" name="Group 23"/>
          <p:cNvGrpSpPr/>
          <p:nvPr/>
        </p:nvGrpSpPr>
        <p:grpSpPr>
          <a:xfrm>
            <a:off x="1476000" y="1628640"/>
            <a:ext cx="6264360" cy="4896000"/>
            <a:chOff x="1476000" y="1628640"/>
            <a:chExt cx="6264360" cy="4896000"/>
          </a:xfrm>
        </p:grpSpPr>
        <p:sp>
          <p:nvSpPr>
            <p:cNvPr id="747" name="AutoShape 5"/>
            <p:cNvSpPr/>
            <p:nvPr/>
          </p:nvSpPr>
          <p:spPr>
            <a:xfrm rot="10800000">
              <a:off x="1476000" y="1628280"/>
              <a:ext cx="6264360" cy="4896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AutoShape 6"/>
            <p:cNvSpPr/>
            <p:nvPr/>
          </p:nvSpPr>
          <p:spPr>
            <a:xfrm rot="10800000">
              <a:off x="2195640" y="2133360"/>
              <a:ext cx="4844880" cy="3927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Text Box 7"/>
            <p:cNvSpPr/>
            <p:nvPr/>
          </p:nvSpPr>
          <p:spPr>
            <a:xfrm>
              <a:off x="3130560" y="2262240"/>
              <a:ext cx="295596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TALENT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8"/>
            <p:cNvSpPr/>
            <p:nvPr/>
          </p:nvSpPr>
          <p:spPr>
            <a:xfrm>
              <a:off x="3013200" y="2641680"/>
              <a:ext cx="31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Text Box 9"/>
            <p:cNvSpPr/>
            <p:nvPr/>
          </p:nvSpPr>
          <p:spPr>
            <a:xfrm>
              <a:off x="3130560" y="1755720"/>
              <a:ext cx="29559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VALORES - ACTITUD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Text Box 10"/>
            <p:cNvSpPr/>
            <p:nvPr/>
          </p:nvSpPr>
          <p:spPr>
            <a:xfrm>
              <a:off x="3013200" y="6191280"/>
              <a:ext cx="29541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VALORES - ACTITUD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11"/>
            <p:cNvSpPr/>
            <p:nvPr/>
          </p:nvSpPr>
          <p:spPr>
            <a:xfrm>
              <a:off x="6440400" y="1882800"/>
              <a:ext cx="946080" cy="4433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12"/>
            <p:cNvSpPr/>
            <p:nvPr/>
          </p:nvSpPr>
          <p:spPr>
            <a:xfrm flipH="1" flipV="1">
              <a:off x="5724000" y="6308640"/>
              <a:ext cx="1662120" cy="7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13"/>
            <p:cNvSpPr/>
            <p:nvPr/>
          </p:nvSpPr>
          <p:spPr>
            <a:xfrm flipH="1">
              <a:off x="1830240" y="6308640"/>
              <a:ext cx="1517760" cy="7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14"/>
            <p:cNvSpPr/>
            <p:nvPr/>
          </p:nvSpPr>
          <p:spPr>
            <a:xfrm flipH="1">
              <a:off x="1829880" y="1882800"/>
              <a:ext cx="946440" cy="4433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Text Box 15"/>
            <p:cNvSpPr/>
            <p:nvPr/>
          </p:nvSpPr>
          <p:spPr>
            <a:xfrm>
              <a:off x="3132000" y="2924280"/>
              <a:ext cx="295596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Tahoma"/>
                </a:rPr>
                <a:t>CAPACIDADES SUPERIORES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16"/>
            <p:cNvSpPr/>
            <p:nvPr/>
          </p:nvSpPr>
          <p:spPr>
            <a:xfrm>
              <a:off x="2843280" y="3429000"/>
              <a:ext cx="36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17"/>
            <p:cNvSpPr/>
            <p:nvPr/>
          </p:nvSpPr>
          <p:spPr>
            <a:xfrm>
              <a:off x="3130560" y="3656160"/>
              <a:ext cx="295596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CAPACIDADES BASICA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Line 18"/>
            <p:cNvSpPr/>
            <p:nvPr/>
          </p:nvSpPr>
          <p:spPr>
            <a:xfrm>
              <a:off x="2627280" y="4221000"/>
              <a:ext cx="39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Text Box 19"/>
            <p:cNvSpPr/>
            <p:nvPr/>
          </p:nvSpPr>
          <p:spPr>
            <a:xfrm>
              <a:off x="2971800" y="4543560"/>
              <a:ext cx="334656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CAPACIDADES PREBASICA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0"/>
            <p:cNvSpPr/>
            <p:nvPr/>
          </p:nvSpPr>
          <p:spPr>
            <a:xfrm>
              <a:off x="2484360" y="5084640"/>
              <a:ext cx="43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1"/>
            <p:cNvSpPr/>
            <p:nvPr/>
          </p:nvSpPr>
          <p:spPr>
            <a:xfrm>
              <a:off x="2771640" y="184464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2"/>
            <p:cNvSpPr/>
            <p:nvPr/>
          </p:nvSpPr>
          <p:spPr>
            <a:xfrm>
              <a:off x="5867280" y="1844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8"/>
          <p:cNvSpPr/>
          <p:nvPr/>
        </p:nvSpPr>
        <p:spPr>
          <a:xfrm>
            <a:off x="1905120" y="907920"/>
            <a:ext cx="5333760" cy="609840"/>
          </a:xfrm>
          <a:prstGeom prst="rect">
            <a:avLst/>
          </a:prstGeom>
          <a:solidFill>
            <a:srgbClr val="00a3d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aradigmas  en Edu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6"/>
          <p:cNvGrpSpPr/>
          <p:nvPr/>
        </p:nvGrpSpPr>
        <p:grpSpPr>
          <a:xfrm>
            <a:off x="857160" y="1928520"/>
            <a:ext cx="3657240" cy="1679400"/>
            <a:chOff x="857160" y="1928520"/>
            <a:chExt cx="3657240" cy="1679400"/>
          </a:xfrm>
        </p:grpSpPr>
        <p:sp>
          <p:nvSpPr>
            <p:cNvPr id="613" name="Rectangle 8"/>
            <p:cNvSpPr/>
            <p:nvPr/>
          </p:nvSpPr>
          <p:spPr>
            <a:xfrm>
              <a:off x="857160" y="2770200"/>
              <a:ext cx="1523880" cy="837720"/>
            </a:xfrm>
            <a:prstGeom prst="rect">
              <a:avLst/>
            </a:prstGeom>
            <a:solidFill>
              <a:srgbClr val="00a3d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Paradigma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Conductis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14" name="AutoShape 33"/>
            <p:cNvCxnSpPr>
              <a:stCxn id="611" idx="2"/>
              <a:endCxn id="613" idx="0"/>
            </p:cNvCxnSpPr>
            <p:nvPr/>
          </p:nvCxnSpPr>
          <p:spPr>
            <a:xfrm rot="5400000">
              <a:off x="2652840" y="894240"/>
              <a:ext cx="827640" cy="2896200"/>
            </a:xfrm>
            <a:prstGeom prst="bentConnector3">
              <a:avLst>
                <a:gd name="adj1" fmla="val 49869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615" name="Group 47"/>
          <p:cNvGrpSpPr/>
          <p:nvPr/>
        </p:nvGrpSpPr>
        <p:grpSpPr>
          <a:xfrm>
            <a:off x="2857680" y="2356920"/>
            <a:ext cx="1752480" cy="2556360"/>
            <a:chOff x="2857680" y="2356920"/>
            <a:chExt cx="1752480" cy="2556360"/>
          </a:xfrm>
        </p:grpSpPr>
        <p:sp>
          <p:nvSpPr>
            <p:cNvPr id="616" name="Rectangle 30"/>
            <p:cNvSpPr/>
            <p:nvPr/>
          </p:nvSpPr>
          <p:spPr>
            <a:xfrm>
              <a:off x="2857680" y="3214800"/>
              <a:ext cx="1523880" cy="1698480"/>
            </a:xfrm>
            <a:prstGeom prst="rect">
              <a:avLst/>
            </a:prstGeom>
            <a:solidFill>
              <a:srgbClr val="00a3d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Paradigma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Cognitiv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17" name="AutoShape 34"/>
            <p:cNvCxnSpPr>
              <a:stCxn id="611" idx="2"/>
              <a:endCxn id="616" idx="0"/>
            </p:cNvCxnSpPr>
            <p:nvPr/>
          </p:nvCxnSpPr>
          <p:spPr>
            <a:xfrm rot="5400000">
              <a:off x="3686400" y="2289600"/>
              <a:ext cx="856440" cy="991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618" name="Group 48"/>
          <p:cNvGrpSpPr/>
          <p:nvPr/>
        </p:nvGrpSpPr>
        <p:grpSpPr>
          <a:xfrm>
            <a:off x="4500720" y="1928520"/>
            <a:ext cx="1747800" cy="1679400"/>
            <a:chOff x="4500720" y="1928520"/>
            <a:chExt cx="1747800" cy="1679400"/>
          </a:xfrm>
        </p:grpSpPr>
        <p:sp>
          <p:nvSpPr>
            <p:cNvPr id="619" name="Rectangle 31"/>
            <p:cNvSpPr/>
            <p:nvPr/>
          </p:nvSpPr>
          <p:spPr>
            <a:xfrm>
              <a:off x="4724280" y="2770200"/>
              <a:ext cx="1524240" cy="837720"/>
            </a:xfrm>
            <a:prstGeom prst="rect">
              <a:avLst/>
            </a:prstGeom>
            <a:solidFill>
              <a:srgbClr val="00a3d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ahoma"/>
                </a:rPr>
                <a:t>Paradigma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ahoma"/>
                </a:rPr>
                <a:t>Constructivis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20" name="AutoShape 35"/>
            <p:cNvCxnSpPr/>
            <p:nvPr/>
          </p:nvCxnSpPr>
          <p:spPr>
            <a:xfrm flipH="1" rot="16200000">
              <a:off x="4544280" y="1884600"/>
              <a:ext cx="827640" cy="915120"/>
            </a:xfrm>
            <a:prstGeom prst="bentConnector3">
              <a:avLst>
                <a:gd name="adj1" fmla="val 49869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621" name="Group 49"/>
          <p:cNvGrpSpPr/>
          <p:nvPr/>
        </p:nvGrpSpPr>
        <p:grpSpPr>
          <a:xfrm>
            <a:off x="4499640" y="1571760"/>
            <a:ext cx="3658680" cy="2555280"/>
            <a:chOff x="4499640" y="1571760"/>
            <a:chExt cx="3658680" cy="2555280"/>
          </a:xfrm>
        </p:grpSpPr>
        <p:sp>
          <p:nvSpPr>
            <p:cNvPr id="622" name="Rectangle 32"/>
            <p:cNvSpPr/>
            <p:nvPr/>
          </p:nvSpPr>
          <p:spPr>
            <a:xfrm>
              <a:off x="6634440" y="2428920"/>
              <a:ext cx="1523880" cy="1698120"/>
            </a:xfrm>
            <a:prstGeom prst="rect">
              <a:avLst/>
            </a:prstGeom>
            <a:solidFill>
              <a:srgbClr val="00a3d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ahoma"/>
                </a:rPr>
                <a:t>Paradigma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ahoma"/>
                </a:rPr>
                <a:t>sociocultur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23" name="AutoShape 36"/>
            <p:cNvCxnSpPr>
              <a:stCxn id="611" idx="2"/>
              <a:endCxn id="622" idx="0"/>
            </p:cNvCxnSpPr>
            <p:nvPr/>
          </p:nvCxnSpPr>
          <p:spPr>
            <a:xfrm flipH="1" rot="16200000">
              <a:off x="5519880" y="551520"/>
              <a:ext cx="856080" cy="289620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624" name="AutoShape 43"/>
          <p:cNvCxnSpPr>
            <a:stCxn id="616" idx="2"/>
          </p:cNvCxnSpPr>
          <p:nvPr/>
        </p:nvCxnSpPr>
        <p:spPr>
          <a:xfrm flipH="1" flipV="1">
            <a:off x="3617640" y="4590360"/>
            <a:ext cx="2160" cy="3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685800" y="457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aradigma Sociocogni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1640" y="1268280"/>
            <a:ext cx="3504960" cy="9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Metáfora Básica: 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organismo, 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que desarrolla procesos cognitivos y afectivos en un escenario de aprendizaj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7" name="Group 20"/>
          <p:cNvGrpSpPr/>
          <p:nvPr/>
        </p:nvGrpSpPr>
        <p:grpSpPr>
          <a:xfrm>
            <a:off x="826920" y="2182680"/>
            <a:ext cx="3810240" cy="957240"/>
            <a:chOff x="826920" y="2182680"/>
            <a:chExt cx="3810240" cy="957240"/>
          </a:xfrm>
        </p:grpSpPr>
        <p:sp>
          <p:nvSpPr>
            <p:cNvPr id="628" name="Rectangle 6"/>
            <p:cNvSpPr/>
            <p:nvPr/>
          </p:nvSpPr>
          <p:spPr>
            <a:xfrm>
              <a:off x="826920" y="2492280"/>
              <a:ext cx="3810240" cy="647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urrículum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abierto y flexible (libertad de programa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29" name="AutoShape 9"/>
            <p:cNvCxnSpPr>
              <a:stCxn id="626" idx="2"/>
              <a:endCxn id="628" idx="0"/>
            </p:cNvCxnSpPr>
            <p:nvPr/>
          </p:nvCxnSpPr>
          <p:spPr>
            <a:xfrm>
              <a:off x="2724120" y="2182680"/>
              <a:ext cx="8640" cy="310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grpSp>
        <p:nvGrpSpPr>
          <p:cNvPr id="630" name="Group 21"/>
          <p:cNvGrpSpPr/>
          <p:nvPr/>
        </p:nvGrpSpPr>
        <p:grpSpPr>
          <a:xfrm>
            <a:off x="684360" y="3139920"/>
            <a:ext cx="4140000" cy="2738520"/>
            <a:chOff x="684360" y="3139920"/>
            <a:chExt cx="4140000" cy="2738520"/>
          </a:xfrm>
        </p:grpSpPr>
        <p:sp>
          <p:nvSpPr>
            <p:cNvPr id="631" name="Rectangle 7"/>
            <p:cNvSpPr/>
            <p:nvPr/>
          </p:nvSpPr>
          <p:spPr>
            <a:xfrm>
              <a:off x="684360" y="3860640"/>
              <a:ext cx="2057400" cy="2016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Los Objetivos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e plantean por capacidades (procesos cognitivos) y por valores (procesos afectivos), para desarrollar personas y ciudadanos capaces individual, social y profesionalmente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2843280" y="3860640"/>
              <a:ext cx="1981080" cy="2017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La Evaluación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cualitativa para el proceso (formativa) y cuantitativa para el producto (sumativa). Se realiza una evaluación inicial de conceptos previos y destrezas básica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33" name="AutoShape 10"/>
            <p:cNvCxnSpPr>
              <a:stCxn id="628" idx="2"/>
              <a:endCxn id="631" idx="0"/>
            </p:cNvCxnSpPr>
            <p:nvPr/>
          </p:nvCxnSpPr>
          <p:spPr>
            <a:xfrm rot="5400000">
              <a:off x="1861200" y="2990520"/>
              <a:ext cx="721440" cy="1019880"/>
            </a:xfrm>
            <a:prstGeom prst="bentConnector3">
              <a:avLst>
                <a:gd name="adj1" fmla="val 4997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34" name="AutoShape 11"/>
            <p:cNvCxnSpPr>
              <a:stCxn id="628" idx="2"/>
              <a:endCxn id="632" idx="0"/>
            </p:cNvCxnSpPr>
            <p:nvPr/>
          </p:nvCxnSpPr>
          <p:spPr>
            <a:xfrm flipH="1" rot="16200000">
              <a:off x="2922480" y="2949120"/>
              <a:ext cx="721440" cy="1102320"/>
            </a:xfrm>
            <a:prstGeom prst="bentConnector3">
              <a:avLst>
                <a:gd name="adj1" fmla="val 49975"/>
              </a:avLst>
            </a:prstGeom>
            <a:ln w="12600">
              <a:solidFill>
                <a:srgbClr val="000000"/>
              </a:solidFill>
              <a:miter/>
            </a:ln>
          </p:spPr>
        </p:cxnSp>
      </p:grpSp>
      <p:grpSp>
        <p:nvGrpSpPr>
          <p:cNvPr id="635" name="Group 22"/>
          <p:cNvGrpSpPr/>
          <p:nvPr/>
        </p:nvGrpSpPr>
        <p:grpSpPr>
          <a:xfrm>
            <a:off x="4476600" y="836640"/>
            <a:ext cx="4127760" cy="1363680"/>
            <a:chOff x="4476600" y="836640"/>
            <a:chExt cx="4127760" cy="1363680"/>
          </a:xfrm>
        </p:grpSpPr>
        <p:sp>
          <p:nvSpPr>
            <p:cNvPr id="636" name="Rectangle 4"/>
            <p:cNvSpPr/>
            <p:nvPr/>
          </p:nvSpPr>
          <p:spPr>
            <a:xfrm>
              <a:off x="5724360" y="836640"/>
              <a:ext cx="2880000" cy="13636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fesor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un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mediador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del aprendizaje y de la cultura social. Utiliza contenidos y métodos como medios para desarrollar capacidades y valores tanto individuales como sociales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37" name="AutoShape 15"/>
            <p:cNvCxnSpPr>
              <a:stCxn id="626" idx="3"/>
              <a:endCxn id="636" idx="1"/>
            </p:cNvCxnSpPr>
            <p:nvPr/>
          </p:nvCxnSpPr>
          <p:spPr>
            <a:xfrm flipV="1">
              <a:off x="4476600" y="1518480"/>
              <a:ext cx="1248480" cy="207000"/>
            </a:xfrm>
            <a:prstGeom prst="bentConnector3">
              <a:avLst>
                <a:gd name="adj1" fmla="val 49985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38" name="Group 23"/>
          <p:cNvGrpSpPr/>
          <p:nvPr/>
        </p:nvGrpSpPr>
        <p:grpSpPr>
          <a:xfrm>
            <a:off x="4476600" y="1725120"/>
            <a:ext cx="4127760" cy="1538640"/>
            <a:chOff x="4476600" y="1725120"/>
            <a:chExt cx="4127760" cy="1538640"/>
          </a:xfrm>
        </p:grpSpPr>
        <p:sp>
          <p:nvSpPr>
            <p:cNvPr id="639" name="Rectangle 5"/>
            <p:cNvSpPr/>
            <p:nvPr/>
          </p:nvSpPr>
          <p:spPr>
            <a:xfrm>
              <a:off x="5724360" y="2349360"/>
              <a:ext cx="2880000" cy="914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Alumno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posee un potencial de aprendizaje que debe desarrollar con la mediación adecuada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40" name="AutoShape 16"/>
            <p:cNvCxnSpPr>
              <a:stCxn id="626" idx="3"/>
              <a:endCxn id="639" idx="1"/>
            </p:cNvCxnSpPr>
            <p:nvPr/>
          </p:nvCxnSpPr>
          <p:spPr>
            <a:xfrm>
              <a:off x="4476600" y="1725120"/>
              <a:ext cx="1248480" cy="1081800"/>
            </a:xfrm>
            <a:prstGeom prst="bentConnector3">
              <a:avLst>
                <a:gd name="adj1" fmla="val 49985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41" name="Group 24"/>
          <p:cNvGrpSpPr/>
          <p:nvPr/>
        </p:nvGrpSpPr>
        <p:grpSpPr>
          <a:xfrm>
            <a:off x="4476600" y="1725120"/>
            <a:ext cx="4127760" cy="2856240"/>
            <a:chOff x="4476600" y="1725120"/>
            <a:chExt cx="4127760" cy="2856240"/>
          </a:xfrm>
        </p:grpSpPr>
        <p:sp>
          <p:nvSpPr>
            <p:cNvPr id="642" name="Rectangle 12"/>
            <p:cNvSpPr/>
            <p:nvPr/>
          </p:nvSpPr>
          <p:spPr>
            <a:xfrm>
              <a:off x="5724360" y="3429000"/>
              <a:ext cx="2880000" cy="1152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La Enseñanza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se entiende como una intervención en procesos cognitivos y afectivos en entornos determinados (mediación del aprendizaje)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43" name="AutoShape 17"/>
            <p:cNvCxnSpPr>
              <a:stCxn id="626" idx="3"/>
              <a:endCxn id="642" idx="1"/>
            </p:cNvCxnSpPr>
            <p:nvPr/>
          </p:nvCxnSpPr>
          <p:spPr>
            <a:xfrm>
              <a:off x="4476600" y="1725120"/>
              <a:ext cx="1248480" cy="2280600"/>
            </a:xfrm>
            <a:prstGeom prst="bentConnector3">
              <a:avLst>
                <a:gd name="adj1" fmla="val 49985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3"/>
          <p:cNvGrpSpPr/>
          <p:nvPr/>
        </p:nvGrpSpPr>
        <p:grpSpPr>
          <a:xfrm>
            <a:off x="1516320" y="1039680"/>
            <a:ext cx="5455800" cy="2811600"/>
            <a:chOff x="1516320" y="1039680"/>
            <a:chExt cx="5455800" cy="2811600"/>
          </a:xfrm>
        </p:grpSpPr>
        <p:sp>
          <p:nvSpPr>
            <p:cNvPr id="645" name="Text Box 4"/>
            <p:cNvSpPr/>
            <p:nvPr/>
          </p:nvSpPr>
          <p:spPr>
            <a:xfrm>
              <a:off x="2030400" y="1039680"/>
              <a:ext cx="494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993300"/>
                  </a:solidFill>
                  <a:latin typeface="Arial Black"/>
                </a:rPr>
                <a:t>SOCIEDAD DEL CONOCIMIENTO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993300"/>
                  </a:solidFill>
                  <a:latin typeface="Arial Black"/>
                </a:rPr>
                <a:t>Características más relevantes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Text Box 5"/>
            <p:cNvSpPr/>
            <p:nvPr/>
          </p:nvSpPr>
          <p:spPr>
            <a:xfrm>
              <a:off x="1516320" y="2787480"/>
              <a:ext cx="367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Materia prima el conocimien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1627560" y="3483000"/>
              <a:ext cx="457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El aprendizaje sustituye a la enseñanz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8" name="Group 7"/>
          <p:cNvGrpSpPr/>
          <p:nvPr/>
        </p:nvGrpSpPr>
        <p:grpSpPr>
          <a:xfrm>
            <a:off x="1619280" y="4179960"/>
            <a:ext cx="4997520" cy="1065240"/>
            <a:chOff x="1619280" y="4179960"/>
            <a:chExt cx="4997520" cy="1065240"/>
          </a:xfrm>
        </p:grpSpPr>
        <p:sp>
          <p:nvSpPr>
            <p:cNvPr id="649" name="Text Box 8"/>
            <p:cNvSpPr/>
            <p:nvPr/>
          </p:nvSpPr>
          <p:spPr>
            <a:xfrm>
              <a:off x="1619280" y="4179960"/>
              <a:ext cx="49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Conocimiento frente a datos e información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Text Box 9"/>
            <p:cNvSpPr/>
            <p:nvPr/>
          </p:nvSpPr>
          <p:spPr>
            <a:xfrm>
              <a:off x="1657080" y="4876920"/>
              <a:ext cx="48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Una nueva sociedad centrada en servicios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9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73EC-ED6C-40FA-B982-255472DD75C8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3"/>
          <p:cNvGrpSpPr/>
          <p:nvPr/>
        </p:nvGrpSpPr>
        <p:grpSpPr>
          <a:xfrm>
            <a:off x="1451160" y="1039680"/>
            <a:ext cx="5520960" cy="2811600"/>
            <a:chOff x="1451160" y="1039680"/>
            <a:chExt cx="5520960" cy="2811600"/>
          </a:xfrm>
        </p:grpSpPr>
        <p:sp>
          <p:nvSpPr>
            <p:cNvPr id="653" name="Text Box 4"/>
            <p:cNvSpPr/>
            <p:nvPr/>
          </p:nvSpPr>
          <p:spPr>
            <a:xfrm>
              <a:off x="2030400" y="1039680"/>
              <a:ext cx="494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993300"/>
                  </a:solidFill>
                  <a:latin typeface="Arial Black"/>
                </a:rPr>
                <a:t>SOCIEDAD DEL CONOCIMIENTO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993300"/>
                  </a:solidFill>
                  <a:latin typeface="Arial Black"/>
                </a:rPr>
                <a:t>Características más relevantes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Text Box 5"/>
            <p:cNvSpPr/>
            <p:nvPr/>
          </p:nvSpPr>
          <p:spPr>
            <a:xfrm>
              <a:off x="1485000" y="2787480"/>
              <a:ext cx="362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Organizaciones que aprenden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Text Box 6"/>
            <p:cNvSpPr/>
            <p:nvPr/>
          </p:nvSpPr>
          <p:spPr>
            <a:xfrm>
              <a:off x="1451160" y="3483000"/>
              <a:ext cx="311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Aprendizaje permanente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6" name="Group 7"/>
          <p:cNvGrpSpPr/>
          <p:nvPr/>
        </p:nvGrpSpPr>
        <p:grpSpPr>
          <a:xfrm>
            <a:off x="1603080" y="4179960"/>
            <a:ext cx="4713120" cy="1065240"/>
            <a:chOff x="1603080" y="4179960"/>
            <a:chExt cx="4713120" cy="1065240"/>
          </a:xfrm>
        </p:grpSpPr>
        <p:sp>
          <p:nvSpPr>
            <p:cNvPr id="657" name="Text Box 8"/>
            <p:cNvSpPr/>
            <p:nvPr/>
          </p:nvSpPr>
          <p:spPr>
            <a:xfrm>
              <a:off x="1627920" y="4179960"/>
              <a:ext cx="468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Desarrollo de habilidades y capacidades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Text Box 9"/>
            <p:cNvSpPr/>
            <p:nvPr/>
          </p:nvSpPr>
          <p:spPr>
            <a:xfrm>
              <a:off x="1603080" y="48769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Pensamiento sistémico y sintético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9" name="9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CF84-EAD2-47DB-8D7A-585233102764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AutoShape 2"/>
          <p:cNvSpPr/>
          <p:nvPr/>
        </p:nvSpPr>
        <p:spPr>
          <a:xfrm>
            <a:off x="0" y="0"/>
            <a:ext cx="609480" cy="68580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0"/>
              <a:gd name="textAreaBottom" fmla="*/ 6828480 h 6858000"/>
            </a:gdLst>
            <a:ahLst/>
            <a:rect l="textAreaLeft" t="textAreaTop" r="textAreaRight" b="textAreaBottom"/>
            <a:pathLst>
              <a:path w="21600" h="242917">
                <a:moveTo>
                  <a:pt x="3600" y="0"/>
                </a:moveTo>
                <a:arcTo wR="3600" hR="3600" stAng="16200000" swAng="-5400000"/>
                <a:lnTo>
                  <a:pt x="0" y="239317"/>
                </a:lnTo>
                <a:arcTo wR="3600" hR="3600" stAng="10800000" swAng="-5400000"/>
                <a:lnTo>
                  <a:pt x="18000" y="242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AutoShape 3"/>
          <p:cNvSpPr/>
          <p:nvPr/>
        </p:nvSpPr>
        <p:spPr>
          <a:xfrm rot="5412000">
            <a:off x="2323800" y="-2095560"/>
            <a:ext cx="609480" cy="525780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AutoShape 4"/>
          <p:cNvSpPr/>
          <p:nvPr/>
        </p:nvSpPr>
        <p:spPr>
          <a:xfrm rot="16249200">
            <a:off x="6132240" y="-1952280"/>
            <a:ext cx="533520" cy="5486400"/>
          </a:xfrm>
          <a:prstGeom prst="triangle">
            <a:avLst>
              <a:gd name="adj" fmla="val 46019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1374480" y="1428840"/>
            <a:ext cx="6439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El paradigma conductista sirvió a la sociedad industri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La sociedad del conocimiento reclama un nuevo paradig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ma socio-cognit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Desarrollo de la caja de herramientas para apre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(capacidades, destrezas y habilidad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Su desarrollo implica un qué (contenidos sintéticos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globales), un cómo (procesos y contenidos aplicados)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sobre todo un para qué (capacidades y valor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Demanda el desarrollo de mentes bien ordenadas (cono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cimientos sintéticos, globales y sistémicos) en forma 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  </a:t>
            </a:r>
            <a:r>
              <a:rPr b="0" lang="es-ES_tradnl" sz="1800" spc="-1" strike="noStrike">
                <a:solidFill>
                  <a:srgbClr val="006600"/>
                </a:solidFill>
                <a:latin typeface="Arial Black"/>
              </a:rPr>
              <a:t>arquitectura men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838080" y="8380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7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24E-A8C1-473A-9388-F6469CCEA919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AutoShape 2"/>
          <p:cNvSpPr/>
          <p:nvPr/>
        </p:nvSpPr>
        <p:spPr>
          <a:xfrm>
            <a:off x="0" y="0"/>
            <a:ext cx="609480" cy="68580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0"/>
              <a:gd name="textAreaBottom" fmla="*/ 6828480 h 6858000"/>
            </a:gdLst>
            <a:ahLst/>
            <a:rect l="textAreaLeft" t="textAreaTop" r="textAreaRight" b="textAreaBottom"/>
            <a:pathLst>
              <a:path w="21600" h="242917">
                <a:moveTo>
                  <a:pt x="3600" y="0"/>
                </a:moveTo>
                <a:arcTo wR="3600" hR="3600" stAng="16200000" swAng="-5400000"/>
                <a:lnTo>
                  <a:pt x="0" y="239317"/>
                </a:lnTo>
                <a:arcTo wR="3600" hR="3600" stAng="10800000" swAng="-5400000"/>
                <a:lnTo>
                  <a:pt x="18000" y="242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AutoShape 3"/>
          <p:cNvSpPr/>
          <p:nvPr/>
        </p:nvSpPr>
        <p:spPr>
          <a:xfrm rot="5412000">
            <a:off x="2323800" y="-2095560"/>
            <a:ext cx="609480" cy="5257800"/>
          </a:xfrm>
          <a:prstGeom prst="triangle">
            <a:avLst>
              <a:gd name="adj" fmla="val 50000"/>
            </a:avLst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AutoShape 4"/>
          <p:cNvSpPr/>
          <p:nvPr/>
        </p:nvSpPr>
        <p:spPr>
          <a:xfrm rot="16249200">
            <a:off x="6132240" y="-1952280"/>
            <a:ext cx="533520" cy="5486400"/>
          </a:xfrm>
          <a:prstGeom prst="triangle">
            <a:avLst>
              <a:gd name="adj" fmla="val 46019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2171880" y="2357280"/>
            <a:ext cx="516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El conocimiento ocupa un lugar de privilegi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en la globaliz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8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No es una época de cambio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800000"/>
                </a:solidFill>
                <a:latin typeface="Arial Black"/>
              </a:rPr>
              <a:t>sino </a:t>
            </a:r>
            <a:r>
              <a:rPr b="0" lang="es-ES_tradnl" sz="2400" spc="-1" strike="noStrike">
                <a:solidFill>
                  <a:srgbClr val="800000"/>
                </a:solidFill>
                <a:latin typeface="Arial Black"/>
              </a:rPr>
              <a:t>un cambio de épo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838080" y="68580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Dimensiones fundamentales de 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Sociedad del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7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326E-642A-4F05-848E-1BD70E0FD9B0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3"/>
          <p:cNvGrpSpPr/>
          <p:nvPr/>
        </p:nvGrpSpPr>
        <p:grpSpPr>
          <a:xfrm>
            <a:off x="1066680" y="533520"/>
            <a:ext cx="7772400" cy="2515680"/>
            <a:chOff x="1066680" y="533520"/>
            <a:chExt cx="7772400" cy="2515680"/>
          </a:xfrm>
        </p:grpSpPr>
        <p:sp>
          <p:nvSpPr>
            <p:cNvPr id="673" name="Text Box 4"/>
            <p:cNvSpPr/>
            <p:nvPr/>
          </p:nvSpPr>
          <p:spPr>
            <a:xfrm>
              <a:off x="2039400" y="533520"/>
              <a:ext cx="499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66"/>
                  </a:solidFill>
                  <a:latin typeface="Arial Black"/>
                </a:rPr>
                <a:t>PARADIGMA SOCIO - COGNITIVO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66"/>
                  </a:solidFill>
                  <a:latin typeface="Arial Black"/>
                </a:rPr>
                <a:t>En la sociedad del conocimient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Text Box 5"/>
            <p:cNvSpPr/>
            <p:nvPr/>
          </p:nvSpPr>
          <p:spPr>
            <a:xfrm>
              <a:off x="1553760" y="1671480"/>
              <a:ext cx="54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33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Curriculum abierto y flexible: libertades básica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1066680" y="2468520"/>
              <a:ext cx="777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33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663300"/>
                  </a:solidFill>
                  <a:latin typeface="Arial Black"/>
                </a:rPr>
                <a:t> </a:t>
              </a:r>
              <a:r>
                <a:rPr b="0" lang="es-ES_tradnl" sz="1600" spc="-1" strike="noStrike">
                  <a:solidFill>
                    <a:srgbClr val="663300"/>
                  </a:solidFill>
                  <a:latin typeface="Arial Black"/>
                </a:rPr>
                <a:t>Cultura social e institucional: capacidades y valores como fin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           </a:t>
              </a:r>
              <a:r>
                <a:rPr b="0" lang="es-ES_tradnl" sz="1600" spc="-1" strike="noStrike">
                  <a:solidFill>
                    <a:srgbClr val="663300"/>
                  </a:solidFill>
                  <a:latin typeface="Arial Black"/>
                </a:rPr>
                <a:t>contenidos y métodos como medios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6" name="Group 7"/>
          <p:cNvGrpSpPr/>
          <p:nvPr/>
        </p:nvGrpSpPr>
        <p:grpSpPr>
          <a:xfrm>
            <a:off x="1480680" y="3773520"/>
            <a:ext cx="6360120" cy="1166760"/>
            <a:chOff x="1480680" y="3773520"/>
            <a:chExt cx="6360120" cy="1166760"/>
          </a:xfrm>
        </p:grpSpPr>
        <p:sp>
          <p:nvSpPr>
            <p:cNvPr id="677" name="Text Box 8"/>
            <p:cNvSpPr/>
            <p:nvPr/>
          </p:nvSpPr>
          <p:spPr>
            <a:xfrm>
              <a:off x="1480680" y="3773520"/>
              <a:ext cx="51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33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Enseñanza centrada en procesos y contexto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Text Box 9"/>
            <p:cNvSpPr/>
            <p:nvPr/>
          </p:nvSpPr>
          <p:spPr>
            <a:xfrm>
              <a:off x="1547640" y="4572000"/>
              <a:ext cx="629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33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Profesor mediador del aprendizaje y de la cultura soci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9" name="9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2DF5-CB9A-474F-9629-FA0AA8778C4A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3"/>
          <p:cNvGrpSpPr/>
          <p:nvPr/>
        </p:nvGrpSpPr>
        <p:grpSpPr>
          <a:xfrm>
            <a:off x="914400" y="1066680"/>
            <a:ext cx="7772400" cy="2772000"/>
            <a:chOff x="914400" y="1066680"/>
            <a:chExt cx="7772400" cy="2772000"/>
          </a:xfrm>
        </p:grpSpPr>
        <p:sp>
          <p:nvSpPr>
            <p:cNvPr id="681" name="Text Box 4"/>
            <p:cNvSpPr/>
            <p:nvPr/>
          </p:nvSpPr>
          <p:spPr>
            <a:xfrm>
              <a:off x="2004480" y="1066680"/>
              <a:ext cx="499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66"/>
                  </a:solidFill>
                  <a:latin typeface="Arial Black"/>
                </a:rPr>
                <a:t>PARADIGMA SOCIO - COGNITIVO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66"/>
                  </a:solidFill>
                  <a:latin typeface="Arial Black"/>
                </a:rPr>
                <a:t>En la sociedad del conocimient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Text Box 5"/>
            <p:cNvSpPr/>
            <p:nvPr/>
          </p:nvSpPr>
          <p:spPr>
            <a:xfrm>
              <a:off x="1480680" y="3470400"/>
              <a:ext cx="64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Contenidos significativos (arquitectura del conocimient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Text Box 6"/>
            <p:cNvSpPr/>
            <p:nvPr/>
          </p:nvSpPr>
          <p:spPr>
            <a:xfrm>
              <a:off x="914400" y="2362320"/>
              <a:ext cx="777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Objetivos cognitivos: capacidades, destrezas y habilidade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      </a:t>
              </a: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afectivos: valores y actitud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Group 7"/>
          <p:cNvGrpSpPr/>
          <p:nvPr/>
        </p:nvGrpSpPr>
        <p:grpSpPr>
          <a:xfrm>
            <a:off x="1306800" y="4363920"/>
            <a:ext cx="6665400" cy="1262160"/>
            <a:chOff x="1306800" y="4363920"/>
            <a:chExt cx="6665400" cy="1262160"/>
          </a:xfrm>
        </p:grpSpPr>
        <p:sp>
          <p:nvSpPr>
            <p:cNvPr id="685" name="Text Box 8"/>
            <p:cNvSpPr/>
            <p:nvPr/>
          </p:nvSpPr>
          <p:spPr>
            <a:xfrm>
              <a:off x="1432080" y="4363920"/>
              <a:ext cx="65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Metodología: mediada, constructiva y por descubrimient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Text Box 9"/>
            <p:cNvSpPr/>
            <p:nvPr/>
          </p:nvSpPr>
          <p:spPr>
            <a:xfrm>
              <a:off x="1306800" y="5257800"/>
              <a:ext cx="44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663300"/>
                  </a:solidFill>
                  <a:latin typeface="Arial Black"/>
                </a:rPr>
                <a:t>Evaluación de objetivos y por objetivo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7" name="9 Marcador de número de diapositiva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AD7E-D1CE-4FAC-9782-5F4E1E58D594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3:27:16Z</dcterms:created>
  <dc:creator>Lexington Emilio</dc:creator>
  <dc:description/>
  <cp:keywords/>
  <dc:language>en-US</dc:language>
  <cp:lastModifiedBy>Exio</cp:lastModifiedBy>
  <dcterms:modified xsi:type="dcterms:W3CDTF">2008-12-10T21:21:15Z</dcterms:modified>
  <cp:revision>50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213082</vt:lpwstr>
  </property>
</Properties>
</file>