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8C2-8887-43E7-80E7-6A30598E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5B2-97D9-401E-B899-98C948A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9C4-34A5-45F1-AA15-FA24779F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A47-22E0-4359-AD25-8B8AC533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6276-D334-443E-9F3E-0F206392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CC8C-9CD2-47DD-B146-081D26FE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6BF8-6717-4E37-AAAB-65E4742A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465F-678E-4204-B8D5-7C5FE3AA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03CC-D02E-4CDA-9557-99A5D72E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CC35-D802-42A2-889B-7B1E2D3E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0184-D3B0-4E47-8553-84967E90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559-283C-462D-B62C-75A6AC1B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AE74-6ED9-4BED-8BA8-F7B80CC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B645-54BE-41ED-AE4C-161A470C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E45A-D23B-47B4-BE9B-C8C112F0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906-3FB1-42DA-B920-A322EF49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A02D-7721-4FF4-98D1-CF6BA5BF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AF89-EFF6-469C-AE69-AA833DB6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99D3-F11F-4F61-AF6B-EABA630C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AD9B2-410B-4751-87D6-CE014F52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105E-ED62-4F83-9483-DFD017F9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E9E4-048C-4A66-A55A-FD7B2EE9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5CC-A905-422A-AD1A-7D4FF83C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C712-129B-4820-B97A-74C27EEE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0B09-2F7C-4C42-97F3-EB971C1A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4899B-8D20-4AAE-B913-0D1C4DB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32A9-4218-463C-954F-3548C6EB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50E7-0482-4116-AFC4-74C2A91C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183C-ABFC-4AE0-880F-0D6E4733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A309-6711-4A96-A25D-2BC66DD3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45DD1-C7D2-42A2-8A65-D9C9A7EB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A5ED1-D131-4525-9869-F6E54E94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0EE7-F901-4ABB-B545-87C14B68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727-133A-4580-8851-7BB31B83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96CB-A2F2-493E-A465-46A041F0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864A1-3308-47ED-9C48-1BFDD90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25A6F-1D93-423E-8131-4B0AA190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97F0C-EA37-4F34-AF5D-2147C5E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36A7-780E-4A22-984B-B2DA2F9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744B-2064-4159-8385-3BA6AD8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F4D3-8E18-4474-A0D4-C13486B1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7EBFC-F1FC-4D41-B7AE-044F329E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1FEB-DC52-4EC4-AFAE-3C958E9B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675-EB40-4EEA-8972-C3CB740F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47E-7B9A-471F-8E0C-B2E76A7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60D-7124-43E5-9ED3-F34C9F6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D87-C79B-47A8-8A16-628DD903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A90-28C1-4E0F-8B39-6788046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AC71-7AF5-434D-9BD0-C0648503EAF0}" type="slidenum">
              <a:rPr b="0" lang="es-ES_tradn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980-ECD8-44FF-B9D4-B952FDEF88FA}" type="slidenum">
              <a:rPr b="0" lang="es-ES_tradn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D2FB-288E-4471-A0CB-03FBD14739BD}" type="slidenum">
              <a:rPr b="0" lang="es-ES_tradn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E728-4525-4F08-BEC6-7C9A140CBC67}" type="slidenum">
              <a:rPr b="0" lang="es-ES_tradn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3 Título" descr=""/>
          <p:cNvPicPr/>
          <p:nvPr/>
        </p:nvPicPr>
        <p:blipFill>
          <a:blip r:embed="rId2"/>
          <a:stretch/>
        </p:blipFill>
        <p:spPr>
          <a:xfrm>
            <a:off x="530280" y="407880"/>
            <a:ext cx="7864560" cy="1859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499840"/>
            <a:ext cx="78548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Constantia"/>
              </a:rPr>
              <a:t>Héctor  Fabio Libreros Jaramill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Constantia"/>
              </a:rPr>
              <a:t>Docente y Asesor Curricula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Constantia"/>
              </a:rPr>
              <a:t>FRADIEAR, Venezuela, Diciembre/200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7 Imagen" descr="logo mvz.jpg"/>
          <p:cNvPicPr/>
          <p:nvPr/>
        </p:nvPicPr>
        <p:blipFill>
          <a:blip r:embed="rId3"/>
          <a:stretch/>
        </p:blipFill>
        <p:spPr>
          <a:xfrm>
            <a:off x="642960" y="4071960"/>
            <a:ext cx="3000240" cy="2500200"/>
          </a:xfrm>
          <a:prstGeom prst="rect">
            <a:avLst/>
          </a:prstGeom>
          <a:ln w="0">
            <a:noFill/>
          </a:ln>
        </p:spPr>
      </p:pic>
      <p:pic>
        <p:nvPicPr>
          <p:cNvPr id="198" name="6 Imagen" descr="logo-ut.png"/>
          <p:cNvPicPr/>
          <p:nvPr/>
        </p:nvPicPr>
        <p:blipFill>
          <a:blip r:embed="rId4"/>
          <a:stretch/>
        </p:blipFill>
        <p:spPr>
          <a:xfrm>
            <a:off x="5786280" y="4071960"/>
            <a:ext cx="2857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5728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AUTOORGANIZACIÓN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Es pensar los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Constantia"/>
              </a:rPr>
              <a:t>fenómenos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 en torno a cóm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se organizan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cambian 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evoluciona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buscando alcanzar metas, desde relaciones cambiantes con el ento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14200" y="723960"/>
          <a:ext cx="8572680" cy="5419800"/>
        </p:xfrm>
        <a:graphic>
          <a:graphicData uri="http://schemas.openxmlformats.org/drawingml/2006/table">
            <a:tbl>
              <a:tblPr/>
              <a:tblGrid>
                <a:gridCol w="3500640"/>
                <a:gridCol w="5072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UTOORGAN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¿Cómo evolucionan  y se organizan los factores de producción (clima, suelo, agua, vegetación y animales) en los sistemas de producción para alcanzar metas de productividad, sostenibilidad y bienestar animal, desde diferentes condiciones geográficas, socioeconómicas y culturale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bicación geográfica: latitud/ longitu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onas de vida (Holdridge/ Par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erarquía de sistemas de producción  (H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os del suelo: actual/ potencial y conflictos de 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gramación de sistemas productivos  con base en simbología de circuitos  (Odum/ H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acterización de la finca como sistema: elementos, estructura y fun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álisis estratégico (DOFA) , estructural y funcional del sistema finca (H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METACOGNICIÓN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Es auto reflexionar par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tomar conciencia de las cosas 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regular el propio desempeñ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ante la realidad contextualiz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14200" y="714240"/>
          <a:ext cx="8715600" cy="5715000"/>
        </p:xfrm>
        <a:graphic>
          <a:graphicData uri="http://schemas.openxmlformats.org/drawingml/2006/table">
            <a:tbl>
              <a:tblPr/>
              <a:tblGrid>
                <a:gridCol w="3676680"/>
                <a:gridCol w="5038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TACOGNI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9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udio  comparativo,  entr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stura convencional (pasto so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stema silvopastoril Intens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o generadores de servicios ambientales, productividad y bienestar animal, pa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ma de conciencia sobre mejor opción produc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ma de decisiones técnicas con idone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 guiada en pradera convencional y silvopastoreo intensivo, (práctica de campo), para determinar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odivers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mperatura amb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claje de nutr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ferta forraj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plicación de análisis DOF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álisis de investigaciones comparativas y sobre visiones de mundo, representaciones y conceptos estructurantes de ganaderos (Libreros, 2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METANOIA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Análisis de la realidad  desd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al menos dos a tres perspectivas distinta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buscando que el conocimiento sea abierto, dinámico e idóne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85840" y="642960"/>
          <a:ext cx="8501040" cy="5918040"/>
        </p:xfrm>
        <a:graphic>
          <a:graphicData uri="http://schemas.openxmlformats.org/drawingml/2006/table">
            <a:tbl>
              <a:tblPr/>
              <a:tblGrid>
                <a:gridCol w="4249800"/>
                <a:gridCol w="42512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TANO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0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álisis de sistemas de producción  regionales, desde diferentes condiciones, d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calización geo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lima/ zonas de 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elos/ Vegetación/ Anim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ceso a recursos produc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amaño de pred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ructura y procesos produc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unción de 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arrollo tecno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jercicios de identificación de sistemas de producción regionales, de finca y agro ecosistemas (CORPOICA/ H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ácticas de campo sobre identificación y caracterización de componentes del sistema finca: clima, suelo, vegetación, animales, plagas, enfermedades, recicl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gramación del sistema finca para  facilitar el análisis integ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álisis de estructura y función del sistema fi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4617b"/>
                </a:solidFill>
                <a:latin typeface="Calibri"/>
              </a:rPr>
              <a:t>HOLOGRAMÁTICA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Consiste e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nstantia"/>
              </a:rPr>
              <a:t>construir </a:t>
            </a: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nstantia"/>
              </a:rPr>
              <a:t>conocimiento</a:t>
            </a: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, buscand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no solamente que las partes estén en el todo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sino que el todo esté en las partes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o sea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que  el todo esté en la parte que está en el to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42920" y="785880"/>
          <a:ext cx="8501040" cy="5357880"/>
        </p:xfrm>
        <a:graphic>
          <a:graphicData uri="http://schemas.openxmlformats.org/drawingml/2006/table">
            <a:tbl>
              <a:tblPr/>
              <a:tblGrid>
                <a:gridCol w="4249800"/>
                <a:gridCol w="4251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OLOGRAMÁ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álisis jerárquico de sistemas: desde sistema solar, hasta  agro ecosiste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udio del ecosistema de influencia y su relación con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lasificación de zonas de vid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plicación de tres niveles mínimos de análisis: Región/ Finca/ Agro ecosis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álisis de la finca como sistema: elementos, estructura y fun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dentificación jerárquica de  sistemas de producción: mapamundi, cartografía y estudios regionales (CORPOICA, 199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grama jerárquico y análisis de tres niveles mínimos (H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onas de vida (Holdridge/ Par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grama de finca con base en simbología de circuitos (Odum/ H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DIALÓGICA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Es la construcción del conocimiento, buscand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que las partes se complementen entre sí para alcanzar resultados de mayor impacto a los obtenidos por separado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nstantia"/>
              </a:rPr>
              <a:t>Permite mantener la dualidad en el seno de la uni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428760" y="642960"/>
          <a:ext cx="8286480" cy="550080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IALÓG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unción de producción del sistema fi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stema silvopastoril intensiv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ñosas perennes: árboles, arbustos y palm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rbáceas: gramíneas y leguminos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v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storeo en sistemas silvopastoriles: oferta forrajera/ pastoreo rotacional/ productividad y bienestar 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áctica de campo en finca con agroecosistema pecuario y sistemas silvopastor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grama de la finca como sis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grama del agroecosistema pecu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grama del sistema silvopasto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álisis de estructura y función: interacciones entre componentes/ relación de entradas y sal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4617b"/>
                </a:solidFill>
                <a:latin typeface="Calibri"/>
              </a:rPr>
              <a:t>¿CÓMO SE APLICA EL PENSAMIENTO COMPLEJO</a:t>
            </a:r>
            <a:r>
              <a:rPr b="1" i="1" lang="es-ES_tradnl" sz="28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PROYECTOS FORMATIVOS DISEÑADOS CON ENFOQUE SISTÉMICO CONTEXT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UNIDADES TEMÁTICAS HOLOGRAMÁT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DESARROLLO Y AFIANZAMIENTO DE  HABILIDADES EN LOS ESTUDI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4617b"/>
                </a:solidFill>
                <a:latin typeface="Calibri"/>
              </a:rPr>
              <a:t>REFERENCIAS BIBLIOGRAFICA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orin, Edgar. 2000. Introducción al Pensamiento    Complejo. Editorial GEDISA, Barcelona, España. 167 p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orin, Edgar. 2000. La mente bien ordenada. Editorial Nueva Visión. Buenos Aires, Argent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bón Sergio. 2008. Gestión curricular y ciclos propedeúticos por competencias. Editorial ECOE, Santafé de Bogot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Villada O. Diego. 2007. Competencias. Editorial Sintagma, Manizales. 412 p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4617b"/>
                </a:solidFill>
                <a:latin typeface="Calibri"/>
              </a:rPr>
              <a:t>PENSAMIENTO COMPLEJO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Está animado por una tensión permanente entre la aspiración a un saber no parcelado, no dividido, no reduccionista y el reconocimiento de lo inacabado e incompleto de todo conoc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Aspira al conocimiento multidimensional, integrador de los modos simplificadores de pensar, pero reconoce la imposibilidad de un pensamiento completo, de una omn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(Morin, Edgar, 200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COMPETENCIAS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CAPACIDAD EN ACCION DEMOSTRADA CON SUFICIENCIA Y REPONSA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TIENE QUE VER CON EL SABER CONOCER, EL SABER PENSAR, EL SABER HACER Y EL SABER S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DESARROLLO DE HABILIDADES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TIENE QUE VER CON LA FORMACIÓN DE COMPETENCIAS (Capacidades y Saber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nstantia"/>
              </a:rPr>
              <a:t>INTEGRA EL SABER CONOCER CON EL SABER HACER, A TRAVÉS DEL SABER PEN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4617b"/>
                </a:solidFill>
                <a:latin typeface="Calibri"/>
              </a:rPr>
              <a:t>HABILIDADES DE PENSAMIENTO COMPLEJ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3 Marcador de contenido" descr=""/>
          <p:cNvPicPr/>
          <p:nvPr/>
        </p:nvPicPr>
        <p:blipFill>
          <a:blip r:embed="rId2"/>
          <a:stretch/>
        </p:blipFill>
        <p:spPr>
          <a:xfrm>
            <a:off x="493560" y="1695600"/>
            <a:ext cx="824256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GENERALIDAD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935000"/>
          <a:ext cx="8229600" cy="4029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ACULTAD: Medicina Veterinaria y Zootec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GRAMA:  MV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RSO: Sistemas  de Pro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ÓDIGO: 0101-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EA DE FORMACIÓN: Básica Profe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IVEL: II se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ÉDITOS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RAS/ SEMANA: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ULA: 05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RARIO: 2 A 5PM/ Jue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ÚCLEO PROBLEMÁTICO: Integración de los sistemas de producción, la salud productiva  animal y la salud púb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DALIDAD: Teórico/ 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ENTE: Héctor Fabio Libreros Jarami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-mail: hflibrer@ut.edu.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4617b"/>
                </a:solidFill>
                <a:latin typeface="Calibri"/>
              </a:rPr>
              <a:t>2. DESCRIPCIÓN DE COMPETENCI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935000"/>
          <a:ext cx="8229600" cy="457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39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MPETENCIA ESPECÍFICA/ GLOBA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iseñar, implementar, Integrar y Evaluar procesos de salud animal preventiva y curativa y de producción pecuaria sostenible de los sistemas de producción, las unidades y cadenas productivas, la fauna silvestre y los individuos anim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IDAD DE COMPETENCI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acterizar  el sistema finca, en el marco de un contexto de ubicación  eco sistémicay sociocultural, para la generación sostenible e inocua de productos, bienes y servicios y la búsqueda del bienestar a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EMENTOS DE COMPETENCI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dentificar y diagramar  niveles  jerárquicos  de los sistemas de produ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dentificar, diagramar y describir  la finca como sistema: elementos, estructura y fun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izar estratégica , integral y funcionalmente el sistema fin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1420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nstantia"/>
              </a:rPr>
              <a:t>3. DESARROLLO DE HABILIDADES DE PENSAMIENTO COMPLEJO PARA LA FORMACIÓN DE COMPETENCIA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02:13:00Z</dcterms:created>
  <dc:creator>WinuE</dc:creator>
  <dc:description/>
  <dc:language>en-US</dc:language>
  <cp:lastModifiedBy>MICROSOFT</cp:lastModifiedBy>
  <dcterms:modified xsi:type="dcterms:W3CDTF">2008-12-08T14:18:25Z</dcterms:modified>
  <cp:revision>51</cp:revision>
  <dc:subject/>
  <dc:title>DESARROLLO DE HABILIDADES DE PENSAMIENTO COMPLEJO PARA FORMAR COMPETENCIAS</dc:title>
</cp:coreProperties>
</file>