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5B15-1975-471E-BDDF-D6EF91F34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4673-789F-4809-AA57-ED327304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107A-83F9-4527-9ADC-FCA7D906E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2979-B0BF-44F1-8043-577205606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D21C-51C8-4936-9A40-114A378D2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5B8D-329A-4A88-9439-5AE024B6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7793-FDA6-43BE-990C-D2FBF307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CA5F-99DB-4EE5-BC58-8B663AAB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4526-6DBB-4F83-A7B2-AA1517B3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07AA-820A-47D2-A4C6-B85B217A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45BA-7F53-4A9D-8E38-123A7B99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081E-86CC-4568-BA5C-CA0BDA7A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7725-3D60-429A-A8B2-FBA88588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4881-F28D-418E-AF85-719BF67B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AAF45-5CF0-4CCE-A80D-A142AD23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0A754-F379-4E9B-9277-DD8BA98D7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43E8-DDCF-4FCE-BD63-5F56B50AD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0232C-82D0-4853-846C-656A1EF17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6838F-D245-4667-BAC5-09D2D088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8FCDB-8BB7-4751-9294-EC0C45DB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DECF3-E173-42A6-9833-2A1DFB64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82ACC-253A-4235-9BF7-F616101F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56DA-AAB3-47C1-8F90-8FEE7372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2405F-4FD2-43D0-AFB0-FDBDFF18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121C2-5ADB-4887-9093-00E1C656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70045-7FFB-4E09-8F9F-E049CA5A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C5E71-1BEA-4661-B2E8-357969BD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760C1-AD52-4465-BBFB-104C1FEE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0DF99-0B11-47A1-97C4-99E612327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D8F72-877A-41EF-9D0A-A485494A4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787F6-7A99-4E95-A0F8-A1E82C9ED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999D9-FE2E-411F-AC4B-9FD3164E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BDFF4-3DF8-48F0-8FC2-91A8FF71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8C9B-BAF4-4090-81FF-800B6688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90EDB-01FE-4476-9B3C-005ABD8B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E349C-76C2-40F7-B773-E1462900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71A2B-5CF9-452E-A6F7-153BB091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2A3F8-AAA0-42B0-B774-4D8A93B7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DB093-DF2A-42BC-8416-7CF7D2FD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90C3F-9FF4-4ACF-80C7-9BB795F8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5BC2B-A327-4A86-B1F7-A8630BF0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42972-E121-46DC-BBFA-265B7CCCE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135F0-117A-407C-BE91-241E8C8C0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70346-BCEC-462C-802A-298EE9F1F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037F-1863-43BB-943D-E8EB2FD1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8AA7A-CA48-450F-9A0B-8CAF5D9C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44323-8BC4-4FDB-8FB5-1305C3F0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8A4B7-5AA9-4F16-87FB-F4469F2F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84DC5-5918-4DA5-A660-C3E3566D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D20E0-7827-4C03-B933-8137E8A3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42B28-CCC6-4B3B-A8FB-35824EE4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48009-149A-46FB-A5AF-62391E78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98ECC-452B-4DD2-A540-5A52853F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4E4DC-EF73-44D5-BD11-09C91A78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BE33B-8C67-44A0-9C1E-18EF2860A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5DD5-16C0-4FAA-9E3C-2D60D1D9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774D5-3D27-476D-9CFA-A31A42311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1532E-CD5F-4316-8CBD-339C2A42F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3A313-06EC-4059-B40F-EB67F896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F0557-A2D8-40DC-978C-E9D185E5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D8829-554F-499A-A5E2-1F64490A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2AA3F-46B9-438E-89E2-CAC7B0E2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83FCA-DA13-4255-BB75-D4ED2985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8F20F-1D37-47B4-ABC1-8B9374AF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D46EF-4371-42E5-A904-821163C0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90E06-6FE1-488C-9031-87AFF307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8E7D-82D1-4566-9C76-DAAA7A58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47C8A-1C02-412A-AC51-C1264023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FEC8C-6E57-4E45-8EEF-EAB680F75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B9EE6-E94C-4160-BBE8-0F8AFE574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6485-1938-4370-9409-C6C0005C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E1B7-131A-4E46-8F64-B0F8DA70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1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15 Forma libre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1C87-7024-4BF9-BFBA-8EED24DD08B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10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12 Forma libre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F7FA-C6B9-477B-B3FA-5E482032EC58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10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12 Forma libre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8A24-C03D-4DBE-89D3-7510A069AE5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7DBB-4B60-4A6F-928D-355515A63AA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11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15 Forma libre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BF4B-19B3-4E67-A00B-2F9EA759D3A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0C29-3A8A-42A1-AD67-D3DD255086D4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1 Título" descr=""/>
          <p:cNvPicPr/>
          <p:nvPr/>
        </p:nvPicPr>
        <p:blipFill>
          <a:blip r:embed="rId1"/>
          <a:stretch/>
        </p:blipFill>
        <p:spPr>
          <a:xfrm>
            <a:off x="-6480" y="347760"/>
            <a:ext cx="9156960" cy="237168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142640" y="2571840"/>
            <a:ext cx="683748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IX REUNIÓN DEL FRADI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Arial"/>
              </a:rPr>
              <a:t>LA SEGUNDA ESPECIALIZACIÓN PROFESIONAL, UN POSTGRADO QUE DEBE TENER VALOR AGREGADO Y CONDICIONALIDAD, SEGÚN UNA EXPERIENCIA EN LA UNIVERSIDAD DE HUACHO - PER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2 Subtítulo"/>
          <p:cNvSpPr/>
          <p:nvPr/>
        </p:nvSpPr>
        <p:spPr>
          <a:xfrm>
            <a:off x="3643200" y="3786120"/>
            <a:ext cx="683748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0" bIns="0" anchor="b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ffff"/>
                </a:solidFill>
                <a:latin typeface="Arial"/>
              </a:rPr>
              <a:t>Ponen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ffffff"/>
                </a:solidFill>
                <a:latin typeface="Arial"/>
              </a:rPr>
              <a:t>Ms. Cs. César Gallegos Solí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3 Imagen" descr=""/>
          <p:cNvPicPr/>
          <p:nvPr/>
        </p:nvPicPr>
        <p:blipFill>
          <a:blip r:embed="rId1"/>
          <a:srcRect l="15916" t="37554" r="15498" b="18676"/>
          <a:stretch/>
        </p:blipFill>
        <p:spPr>
          <a:xfrm>
            <a:off x="857160" y="1143000"/>
            <a:ext cx="735804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1 Título" descr=""/>
          <p:cNvPicPr/>
          <p:nvPr/>
        </p:nvPicPr>
        <p:blipFill>
          <a:blip r:embed="rId1"/>
          <a:stretch/>
        </p:blipFill>
        <p:spPr>
          <a:xfrm>
            <a:off x="-189000" y="2725560"/>
            <a:ext cx="9448920" cy="3872160"/>
          </a:xfrm>
          <a:prstGeom prst="rect">
            <a:avLst/>
          </a:prstGeom>
          <a:ln w="0">
            <a:noFill/>
          </a:ln>
        </p:spPr>
      </p:pic>
      <p:pic>
        <p:nvPicPr>
          <p:cNvPr id="275" name="1 Título" descr=""/>
          <p:cNvPicPr/>
          <p:nvPr/>
        </p:nvPicPr>
        <p:blipFill>
          <a:blip r:embed="rId2"/>
          <a:stretch/>
        </p:blipFill>
        <p:spPr>
          <a:xfrm>
            <a:off x="-6480" y="347760"/>
            <a:ext cx="915696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642600" y="1714320"/>
            <a:ext cx="80010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marL="457200" indent="-457200" algn="just">
              <a:lnSpc>
                <a:spcPct val="9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ffffff"/>
                </a:solidFill>
                <a:latin typeface="Arial"/>
              </a:rPr>
              <a:t>RESUMEN.-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1700" spc="-1" strike="noStrike">
                <a:solidFill>
                  <a:srgbClr val="ffffff"/>
                </a:solidFill>
                <a:latin typeface="Arial"/>
              </a:rPr>
              <a:t>En los años 1994 – 1995 en la facultad de Ingeniería Pesquera y de Alimentos se llevó a cabo un programa de Post Grado dirigido a profesionales del área que se encontraban laborando en el campo industrial y en la educación superior técnica y universitaria. Este fue un programa de Segunda Especialización Profesional a Distancia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700" spc="-1" strike="noStrike">
                <a:solidFill>
                  <a:srgbClr val="ffffff"/>
                </a:solidFill>
                <a:latin typeface="Arial"/>
              </a:rPr>
              <a:t>Se realizó mediante el Convenio entre el Instituto de Capacitación y Especialización Profesional Latinoamericano (INCELACE) y  la UNIVERSIDAD DE HUACHO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700" spc="-1" strike="noStrike">
                <a:solidFill>
                  <a:srgbClr val="ffffff"/>
                </a:solidFill>
                <a:latin typeface="Arial"/>
              </a:rPr>
              <a:t>Mediante un Subconvenio, la Facultad  de Ingeniería Pesquera y Alimentos y el INCELACE ofertamos el curso de Segunda Especialización a Distancia, en Tecnología de los Recursos Pesqueros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700" spc="-1" strike="noStrike">
                <a:solidFill>
                  <a:srgbClr val="ffffff"/>
                </a:solidFill>
                <a:latin typeface="Arial"/>
              </a:rPr>
              <a:t>INCELACE, proveía la infraestructura requerida para la impresión y distribución de los textos. Asimismo de los costos operativos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700" spc="-1" strike="noStrike">
                <a:solidFill>
                  <a:srgbClr val="ffffff"/>
                </a:solidFill>
                <a:latin typeface="Arial"/>
              </a:rPr>
              <a:t>La  Facultad encargó a 3 docentes la responsabilidad académica así como la evaluación de textos, asesoría y evaluación de participantes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700" spc="-1" strike="noStrike">
                <a:solidFill>
                  <a:srgbClr val="ffffff"/>
                </a:solidFill>
                <a:latin typeface="Arial"/>
              </a:rPr>
              <a:t>El Certificado se expedía a nombre de las 2 instituciones con la membrecía de especialista con mención en Tecnología de los Recursos Pesqueros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1 Título" descr=""/>
          <p:cNvPicPr/>
          <p:nvPr/>
        </p:nvPicPr>
        <p:blipFill>
          <a:blip r:embed="rId1"/>
          <a:stretch/>
        </p:blipFill>
        <p:spPr>
          <a:xfrm>
            <a:off x="781200" y="384120"/>
            <a:ext cx="472428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71680" y="2565000"/>
            <a:ext cx="796104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marL="457200" indent="-457200" algn="just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100" spc="-1" strike="noStrike">
                <a:solidFill>
                  <a:srgbClr val="ffffff"/>
                </a:solidFill>
                <a:latin typeface="Arial"/>
              </a:rPr>
              <a:t>OBJETIVOS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1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s-PE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100" spc="-1" strike="noStrike">
                <a:solidFill>
                  <a:srgbClr val="ffffff"/>
                </a:solidFill>
                <a:latin typeface="Arial"/>
              </a:rPr>
              <a:t>Formar profesionales Especialistas de alto nivel en las </a:t>
            </a:r>
            <a:r>
              <a:rPr b="0" lang="es-PE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100" spc="-1" strike="noStrike">
                <a:solidFill>
                  <a:srgbClr val="ffffff"/>
                </a:solidFill>
                <a:latin typeface="Arial"/>
              </a:rPr>
              <a:t>ciencias Agropecuarias y afine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1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PE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100" spc="-1" strike="noStrike">
                <a:solidFill>
                  <a:srgbClr val="ffffff"/>
                </a:solidFill>
                <a:latin typeface="Arial"/>
              </a:rPr>
              <a:t>Promover la creación de programas de calidad de </a:t>
            </a:r>
            <a:r>
              <a:rPr b="0" lang="es-PE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100" spc="-1" strike="noStrike">
                <a:solidFill>
                  <a:srgbClr val="ffffff"/>
                </a:solidFill>
                <a:latin typeface="Arial"/>
              </a:rPr>
              <a:t>Segunda Especialización Profesional a Nivel de la </a:t>
            </a:r>
            <a:r>
              <a:rPr b="0" lang="es-PE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100" spc="-1" strike="noStrike">
                <a:solidFill>
                  <a:srgbClr val="ffffff"/>
                </a:solidFill>
                <a:latin typeface="Arial"/>
              </a:rPr>
              <a:t>Región Andina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1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s-PE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100" spc="-1" strike="noStrike">
                <a:solidFill>
                  <a:srgbClr val="ffffff"/>
                </a:solidFill>
                <a:latin typeface="Arial"/>
              </a:rPr>
              <a:t>Consecuentemente formar investigadores – especialistas </a:t>
            </a:r>
            <a:r>
              <a:rPr b="0" lang="es-PE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100" spc="-1" strike="noStrike">
                <a:solidFill>
                  <a:srgbClr val="ffffff"/>
                </a:solidFill>
                <a:latin typeface="Arial"/>
              </a:rPr>
              <a:t>de nivel, aptos para el ejercicio de la Cátedra </a:t>
            </a:r>
            <a:r>
              <a:rPr b="0" lang="es-PE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100" spc="-1" strike="noStrike">
                <a:solidFill>
                  <a:srgbClr val="ffffff"/>
                </a:solidFill>
                <a:latin typeface="Arial"/>
              </a:rPr>
              <a:t>Universitaria y el trabajo en el Campo Industrial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1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s-PE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100" spc="-1" strike="noStrike">
                <a:solidFill>
                  <a:srgbClr val="ffffff"/>
                </a:solidFill>
                <a:latin typeface="Arial"/>
              </a:rPr>
              <a:t>Darle relevancia a la Segunda Especialización Profesional </a:t>
            </a:r>
            <a:r>
              <a:rPr b="0" lang="es-PE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100" spc="-1" strike="noStrike">
                <a:solidFill>
                  <a:srgbClr val="ffffff"/>
                </a:solidFill>
                <a:latin typeface="Arial"/>
              </a:rPr>
              <a:t>mediante valor agregado legal y condicionalidad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100" spc="-1" strike="noStrike">
                <a:solidFill>
                  <a:srgbClr val="ffffff"/>
                </a:solidFill>
                <a:latin typeface="Arial"/>
              </a:rPr>
              <a:t>5. Utilizar las tecnologías de la información virtual que faciliten </a:t>
            </a:r>
            <a:r>
              <a:rPr b="0" lang="es-PE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100" spc="-1" strike="noStrike">
                <a:solidFill>
                  <a:srgbClr val="ffffff"/>
                </a:solidFill>
                <a:latin typeface="Arial"/>
              </a:rPr>
              <a:t>el auto aprendizaje de los futuros especialista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1 Título" descr=""/>
          <p:cNvPicPr/>
          <p:nvPr/>
        </p:nvPicPr>
        <p:blipFill>
          <a:blip r:embed="rId1"/>
          <a:stretch/>
        </p:blipFill>
        <p:spPr>
          <a:xfrm>
            <a:off x="781200" y="384120"/>
            <a:ext cx="472428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33080" y="2830320"/>
            <a:ext cx="8210520" cy="40273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marL="457200" indent="-457200" algn="just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BASE LEG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 Ley Universitaria N° 23733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- Art. 17° Los estudios profesionales, los de segunda </a:t>
            </a: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especialidad y según el caso que establecen el Art. 13° </a:t>
            </a: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de la presente ley, los de Post Grado se realizan en las </a:t>
            </a: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facultades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- Art. 22° Sólo las Universidades otorgan los Grados Académicos </a:t>
            </a: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de Bachiller, Maestro y Doctor. Además otorgan a nombre </a:t>
            </a: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de la nación los títulos profesionales de licenciado y sus </a:t>
            </a: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equivalencias que tienen denominación propia, así como </a:t>
            </a: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los de segunda especialidad profesiona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- Art. 23° La Segunda Especialidad Profesional requiere la </a:t>
            </a: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licenciatura u otro titulo Profesional equivalente previo. Da </a:t>
            </a: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acceso al titulo, o a la Certificación o mención </a:t>
            </a: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correspondien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1 Título" descr=""/>
          <p:cNvPicPr/>
          <p:nvPr/>
        </p:nvPicPr>
        <p:blipFill>
          <a:blip r:embed="rId1"/>
          <a:stretch/>
        </p:blipFill>
        <p:spPr>
          <a:xfrm>
            <a:off x="706320" y="596880"/>
            <a:ext cx="473076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28400" y="856800"/>
            <a:ext cx="8281800" cy="4170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marL="457200" indent="-457200" algn="just">
              <a:spcBef>
                <a:spcPts val="499"/>
              </a:spcBef>
              <a:buClr>
                <a:srgbClr val="6ea0b0"/>
              </a:buClr>
              <a:buSzPct val="80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Desarrollo Académico: Generalidades del Post Gr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6ea0b0"/>
              </a:buClr>
              <a:buSzPct val="80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6ea0b0"/>
              </a:buClr>
              <a:buSzPct val="80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6ea0b0"/>
              </a:buClr>
              <a:buSzPct val="80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6ea0b0"/>
              </a:buClr>
              <a:buSzPct val="80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6ea0b0"/>
              </a:buClr>
              <a:buSzPct val="80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Después del Segundo Semestre el participante debe complement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rcRect l="5981" t="36813" r="12293" b="21065"/>
          <a:stretch/>
        </p:blipFill>
        <p:spPr>
          <a:xfrm>
            <a:off x="1258920" y="1628640"/>
            <a:ext cx="5689440" cy="21970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rcRect l="5981" t="29272" r="14286" b="46791"/>
          <a:stretch/>
        </p:blipFill>
        <p:spPr>
          <a:xfrm>
            <a:off x="1258920" y="4869000"/>
            <a:ext cx="56894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504360" y="999720"/>
            <a:ext cx="78534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marL="457200" indent="-457200" algn="just">
              <a:spcBef>
                <a:spcPts val="499"/>
              </a:spcBef>
              <a:buClr>
                <a:srgbClr val="6ea0b0"/>
              </a:buClr>
              <a:buSzPct val="80000"/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EL TEXTO AUTO EDUCATIVO.- Contie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6ea0b0"/>
              </a:buClr>
              <a:buSzPct val="80000"/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- Present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- Directivas Generales para el uso del tex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- Introdu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- Obje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- Unidades didáctic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- Lecciones Desarrolla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- Activ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- Glosa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- Bibliograf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- Prueba de Autoevaluación de la Un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856800" y="499680"/>
            <a:ext cx="72867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El Texto Autoeducativo. (1er text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ffff"/>
                </a:solidFill>
                <a:latin typeface="Arial"/>
              </a:rPr>
              <a:t>Primera Unidad Didác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ffff"/>
                </a:solidFill>
                <a:latin typeface="Arial"/>
              </a:rPr>
              <a:t>Manipulación y Control de los recursos Pesqueros a bor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rcRect l="3987" t="23723" r="14286" b="24838"/>
          <a:stretch/>
        </p:blipFill>
        <p:spPr>
          <a:xfrm>
            <a:off x="971640" y="2492280"/>
            <a:ext cx="7200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504360" y="999720"/>
            <a:ext cx="8067960" cy="5286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marL="457200" indent="-457200" algn="just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Arial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900" spc="-1" strike="noStrike">
                <a:solidFill>
                  <a:srgbClr val="ffffff"/>
                </a:solidFill>
                <a:latin typeface="Arial"/>
              </a:rPr>
              <a:t>RESULTADOS.-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Arial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Durante el año 1994 de apertura, se tuvo 23 participantes matriculados, 15 provenientes de la misma universidad y 8 del campo industria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Al final de la capacitación solo 5 concluyeron satisfactoriamente. Ellos provenían de la misma universidad  y obtuvieron certificación correspondien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El curso no se volvió a repetir  por el desaliento de los participantes  en cuanto al valor profesional que debería tener y también por la pérdida de entusiasmo de sus organizadores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Dificultaron el éxito del curso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- Los costos de matrícula y de los materiales educativos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- Ni la industria ni la universidad le otorgó valor académico</a:t>
            </a: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  extraordinario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- No constituyó pre-requisito para el ascenso o promoción a una</a:t>
            </a: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  categoría o puesto  administrativo siguiente, mejor remunerado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- La expansión de la Maestría en Ciencias y del Doctorado</a:t>
            </a: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  postergaron definitivamente la segunda Especialización</a:t>
            </a: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1900" spc="-1" strike="noStrike">
                <a:solidFill>
                  <a:srgbClr val="ffffff"/>
                </a:solidFill>
                <a:latin typeface="Arial"/>
              </a:rPr>
              <a:t>  Profesiona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33080" y="857160"/>
            <a:ext cx="821052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Arial"/>
              <a:buAutoNum type="alpha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RECOMEND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Se propone la creación de programas de segunda especialización profesional, actualizados acorde con las necesidades de la industria y de las instituciones académicas superiores como la Universidad utilizando la tecnología moderna de las comunicaciones y la información con las siguientes característic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Después del segundo semestre el participante debe complement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4 Imagen" descr=""/>
          <p:cNvPicPr/>
          <p:nvPr/>
        </p:nvPicPr>
        <p:blipFill>
          <a:blip r:embed="rId1"/>
          <a:srcRect l="22124" t="49508" r="21363" b="33410"/>
          <a:stretch/>
        </p:blipFill>
        <p:spPr>
          <a:xfrm>
            <a:off x="2000160" y="5072040"/>
            <a:ext cx="5357880" cy="14288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rcRect l="5981" t="36813" r="14286" b="29046"/>
          <a:stretch/>
        </p:blipFill>
        <p:spPr>
          <a:xfrm>
            <a:off x="1547640" y="2565360"/>
            <a:ext cx="619308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12:38:28Z</dcterms:created>
  <dc:creator>George Zuasnabar</dc:creator>
  <dc:description/>
  <dc:language>en-US</dc:language>
  <cp:lastModifiedBy>Ernesto Joel Benites Rodríguez</cp:lastModifiedBy>
  <dcterms:modified xsi:type="dcterms:W3CDTF">2008-12-06T15:52:17Z</dcterms:modified>
  <cp:revision>15</cp:revision>
  <dc:subject/>
  <dc:title>Universidad nacional “José Faustino Sánchez Carrión huacho Perú</dc:title>
</cp:coreProperties>
</file>