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7FC1C-DC4B-4E95-866B-7546EBB18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81D55-46C0-42C8-8DC8-6E91A828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39521-0AC2-4EC0-9693-3D97A7E2A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7AAC8-58C0-440D-B460-A37C0A6D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DD9A84-87E3-4B8F-A568-E1F98E677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76DAF2-0868-4D20-B042-47AE036DD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7B1B20-7850-4786-A862-D5FBA8E25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A5ABED-35C9-4AD4-8D97-B50D45643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EF5C37-A15E-4EA3-A017-01CD7DE6A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1AE796-EAF3-4B4C-ACD7-FCF2DCA52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3FF68B-4102-4F3F-AD0D-B32D4AC93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277E7-4BEA-43C9-9473-E0A253F98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661D0B-030D-4856-9096-C1392E5E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60E08C-7123-42C3-B4C7-68C7FD4D3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C807FB-C663-49D1-8C68-FD3D3CE79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B00DB6-E042-4EEA-AE96-2D56EAD73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862C0B-FC91-4D24-B4E6-C9CE286F7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EE1F-A430-4AF8-9668-472EBA0F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A7A4-2E03-4374-9B0B-9FC3FDEAC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2F57-EB0D-41E1-AFDA-0E598A34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E8B0-A499-4D5B-9C50-5319523AD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5C0C-1E7B-42DA-BAF4-006DA66C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7944F-24C0-44EF-8F34-6134C980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9AC8-C682-4F96-BA97-61EDAD8F4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C9CF-C0F7-4DDB-AC08-338B7ABF76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CAC0-4184-438B-A8BA-A32616B8AB1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6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Times New Roman"/>
              </a:rPr>
              <a:t>REPÚBLICA BOLIVARIANA DE VENEZUELA</a:t>
            </a:r>
            <a:br>
              <a:rPr sz="2000"/>
            </a:br>
            <a:r>
              <a:rPr b="1" lang="en-US" sz="2000" spc="-1" strike="noStrike">
                <a:solidFill>
                  <a:srgbClr val="e3e3ff"/>
                </a:solidFill>
                <a:latin typeface="Times New Roman"/>
              </a:rPr>
              <a:t>UNIVERSIDAD PEDAGÓGICA EXPERIMENTAL LIBERTADOR</a:t>
            </a:r>
            <a:br>
              <a:rPr sz="2000"/>
            </a:br>
            <a:r>
              <a:rPr b="1" lang="en-US" sz="2000" spc="-1" strike="noStrike">
                <a:solidFill>
                  <a:srgbClr val="e3e3ff"/>
                </a:solidFill>
                <a:latin typeface="Times New Roman"/>
              </a:rPr>
              <a:t>INSTITUTO PEDAGÓGICO RURAL “EL MÁCARO</a:t>
            </a:r>
            <a:r>
              <a:rPr b="1" lang="en-US" sz="2400" spc="-1" strike="noStrike">
                <a:solidFill>
                  <a:srgbClr val="e3e3ff"/>
                </a:solidFill>
                <a:latin typeface="Times New Roman"/>
              </a:rPr>
              <a:t>”</a:t>
            </a:r>
            <a:endParaRPr b="0" lang="en-US" sz="2400" spc="-1" strike="noStrike">
              <a:solidFill>
                <a:srgbClr val="e3e3ff"/>
              </a:solidFill>
              <a:latin typeface="Arial"/>
            </a:endParaRPr>
          </a:p>
        </p:txBody>
      </p:sp>
      <p:sp>
        <p:nvSpPr>
          <p:cNvPr id="123" name="PlaceHolder 2"/>
          <p:cNvSpPr>
            <a:spLocks noGrp="1"/>
          </p:cNvSpPr>
          <p:nvPr>
            <p:ph type="subTitle"/>
          </p:nvPr>
        </p:nvSpPr>
        <p:spPr>
          <a:xfrm>
            <a:off x="1258920" y="2636640"/>
            <a:ext cx="6400800" cy="2447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ALIDAD RURAL DE LA COMUNIDAD  QUEBRADA SECA SECTOR EL HONDÓN UBICADA EN EL MUNICIPIO JOSÉ RAFAEL REVENG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imes New Roman"/>
              </a:rPr>
              <a: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imes New Roman"/>
              </a:rPr>
              <a: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imes New Roman"/>
              </a:rPr>
              <a:t>                                        </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imes New Roman"/>
              </a:rPr>
              <a:t>                                         </a:t>
            </a:r>
            <a:r>
              <a:rPr b="1" lang="es-VE" sz="2000" spc="-1" strike="noStrike">
                <a:solidFill>
                  <a:srgbClr val="ffffff"/>
                </a:solidFill>
                <a:latin typeface="Times New Roman"/>
              </a:rPr>
              <a:t>Autora: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imes New Roman"/>
              </a:rPr>
              <a:t>                                                </a:t>
            </a:r>
            <a:r>
              <a:rPr b="1" lang="es-VE" sz="2000" spc="-1" strike="noStrike">
                <a:solidFill>
                  <a:srgbClr val="ffffff"/>
                </a:solidFill>
                <a:latin typeface="Times New Roman"/>
              </a:rPr>
              <a:t>Ahimara Fría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imes New Roman"/>
              </a:rPr>
              <a:t>                                                                                    </a:t>
            </a:r>
            <a:r>
              <a:rPr b="1" lang="es-VE" sz="2000" spc="-1" strike="noStrike">
                <a:solidFill>
                  <a:srgbClr val="ffffff"/>
                </a:solidFill>
                <a:latin typeface="Times New Roman"/>
              </a:rPr>
              <a:t>	</a:t>
            </a:r>
            <a:r>
              <a:rPr b="1" lang="es-VE" sz="2000" spc="-1" strike="noStrike">
                <a:solidFill>
                  <a:srgbClr val="ffffff"/>
                </a:solidFill>
                <a:latin typeface="Times New Roman"/>
              </a:rPr>
              <a:t>	</a:t>
            </a:r>
            <a:r>
              <a:rPr b="1" lang="es-VE" sz="2000" spc="-1" strike="noStrike">
                <a:solidFill>
                  <a:srgbClr val="ffffff"/>
                </a:solidFill>
                <a:latin typeface="Times New Roman"/>
              </a:rPr>
              <a:t>	</a:t>
            </a:r>
            <a:r>
              <a:rPr b="1" lang="es-VE"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rPr>
              <a:t>REALIDAD AGRO-PRODUCTIVA DESDE UN ENFOQUE EXTENSIONISTA</a:t>
            </a:r>
            <a:endParaRPr b="0" lang="en-US" sz="2800" spc="-1" strike="noStrike">
              <a:solidFill>
                <a:srgbClr val="e3e3ff"/>
              </a:solidFill>
              <a:latin typeface="Arial"/>
            </a:endParaRPr>
          </a:p>
        </p:txBody>
      </p:sp>
      <p:sp>
        <p:nvSpPr>
          <p:cNvPr id="141" name="PlaceHolder 2"/>
          <p:cNvSpPr>
            <a:spLocks noGrp="1"/>
          </p:cNvSpPr>
          <p:nvPr>
            <p:ph/>
          </p:nvPr>
        </p:nvSpPr>
        <p:spPr>
          <a:xfrm>
            <a:off x="395280" y="1600200"/>
            <a:ext cx="7848720" cy="1757520"/>
          </a:xfrm>
          <a:prstGeom prst="rect">
            <a:avLst/>
          </a:prstGeom>
          <a:noFill/>
          <a:ln w="0">
            <a:noFill/>
          </a:ln>
        </p:spPr>
        <p:txBody>
          <a:bodyPr anchor="t">
            <a:normAutofit fontScale="52000"/>
          </a:bodyPr>
          <a:p>
            <a:pPr marL="178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8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8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8200" indent="-178200">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178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8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7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8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8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p:txBody>
      </p:sp>
      <p:sp>
        <p:nvSpPr>
          <p:cNvPr id="142" name="Rectangle 4"/>
          <p:cNvSpPr/>
          <p:nvPr/>
        </p:nvSpPr>
        <p:spPr>
          <a:xfrm>
            <a:off x="684360" y="1200600"/>
            <a:ext cx="79912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Symbol" charset="2"/>
              <a:buChar char=""/>
              <a:tabLst>
                <a:tab algn="l" pos="1305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as en la capacitación efectiva sobre formación y manejo de estructuras de la Cooperativa lo que hace que las toma de decisiones sea lenta, entre los productores lo que conlleva a una baja productividad del trabajo colectivo y rendimiento de las unidades de producción.</a:t>
            </a:r>
            <a:endParaRPr b="0" lang="en-US" sz="2800" spc="-1" strike="noStrike">
              <a:solidFill>
                <a:srgbClr val="ffffff"/>
              </a:solidFill>
              <a:latin typeface="Arial"/>
            </a:endParaRPr>
          </a:p>
          <a:p>
            <a:pPr algn="just">
              <a:lnSpc>
                <a:spcPct val="100000"/>
              </a:lnSpc>
              <a:buClr>
                <a:srgbClr val="ffffff"/>
              </a:buClr>
              <a:buFont typeface="Symbol" charset="2"/>
              <a:buChar char=""/>
              <a:tabLst>
                <a:tab algn="l" pos="1305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Rectangle 5"/>
          <p:cNvSpPr/>
          <p:nvPr/>
        </p:nvSpPr>
        <p:spPr>
          <a:xfrm>
            <a:off x="539640" y="4075200"/>
            <a:ext cx="7920000" cy="2226960"/>
          </a:xfrm>
          <a:prstGeom prst="rect">
            <a:avLst/>
          </a:prstGeom>
          <a:noFill/>
          <a:ln w="0">
            <a:noFill/>
          </a:ln>
        </p:spPr>
        <p:style>
          <a:lnRef idx="0"/>
          <a:fillRef idx="0"/>
          <a:effectRef idx="0"/>
          <a:fontRef idx="minor"/>
        </p:style>
        <p:txBody>
          <a:bodyPr lIns="90000" rIns="90000" tIns="46800" bIns="46800" anchor="ctr">
            <a:spAutoFit/>
          </a:bodyPr>
          <a:p>
            <a:pPr algn="just">
              <a:buClr>
                <a:srgbClr val="ffffff"/>
              </a:buClr>
              <a:buFont typeface="Symbol" charset="2"/>
              <a:buChar char=""/>
              <a:tabLst>
                <a:tab algn="l" pos="1305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Times New Roman"/>
              </a:rPr>
              <a:t>Contradicciones y desarticulación entre los Organismos del Estado, lo cual origina una  la falta   de enlace interdisciplinario que proporcione una mayor eficiencia en la aplicación de los programas para el logro de la productiv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rPr>
              <a:t>UBICACIÓN GEOGRÁFICA</a:t>
            </a:r>
            <a:endParaRPr b="0" lang="en-US" sz="28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bicación Política: </a:t>
            </a:r>
            <a:r>
              <a:rPr b="0" lang="en-US" sz="3200" spc="-1" strike="noStrike">
                <a:solidFill>
                  <a:srgbClr val="ffffff"/>
                </a:solidFill>
                <a:latin typeface="Times New Roman"/>
              </a:rPr>
              <a:t>Quebrada Seca de Urbina, El Consejo Municipio José Rafael Revenga del Estado Aragua. </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ías de acceso:</a:t>
            </a:r>
            <a:r>
              <a:rPr b="0" lang="en-US" sz="3200" spc="-1" strike="noStrike">
                <a:solidFill>
                  <a:srgbClr val="ffffff"/>
                </a:solidFill>
                <a:latin typeface="Times New Roman"/>
              </a:rPr>
              <a:t> Carretera Nacional que conduce a Tejerías (Vía a la población del Conde), la misma se encuentra entre la Hacienda Barrios y la comunidad de Quebrada Sec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9152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Limites:</a:t>
            </a:r>
            <a:r>
              <a:rPr b="0" lang="en-US" sz="4000" spc="-1" strike="noStrike">
                <a:solidFill>
                  <a:srgbClr val="e3e3ff"/>
                </a:solidFill>
                <a:latin typeface="Arial"/>
              </a:rPr>
              <a:t> </a:t>
            </a:r>
            <a:br>
              <a:rPr sz="4000"/>
            </a:br>
            <a:endParaRPr b="0" lang="en-US" sz="4000" spc="-1" strike="noStrike">
              <a:solidFill>
                <a:srgbClr val="e3e3ff"/>
              </a:solidFill>
              <a:latin typeface="Arial"/>
            </a:endParaRPr>
          </a:p>
        </p:txBody>
      </p:sp>
      <p:sp>
        <p:nvSpPr>
          <p:cNvPr id="127" name="Rectangle 4"/>
          <p:cNvSpPr/>
          <p:nvPr/>
        </p:nvSpPr>
        <p:spPr>
          <a:xfrm>
            <a:off x="539640" y="1474200"/>
            <a:ext cx="79200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te:</a:t>
            </a:r>
            <a:r>
              <a:rPr b="0" lang="en-US" sz="2800" spc="-1" strike="noStrike">
                <a:solidFill>
                  <a:srgbClr val="ffffff"/>
                </a:solidFill>
                <a:latin typeface="Arial"/>
              </a:rPr>
              <a:t> Carretera Nacional que conduce del pueblo de El Consejo, Hacienda El Cond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 </a:t>
            </a:r>
            <a:r>
              <a:rPr b="0" lang="en-US" sz="2800" spc="-1" strike="noStrike">
                <a:solidFill>
                  <a:srgbClr val="ffffff"/>
                </a:solidFill>
                <a:latin typeface="Arial"/>
              </a:rPr>
              <a:t>Acequia Principal de la Hacienda la Urbina, prosiguiendo por la misma hasta llegar a la Carretera Nacional antes citada, incluyendo los linderos de la estación de bombeo El Hondó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e:</a:t>
            </a:r>
            <a:r>
              <a:rPr b="0" lang="en-US" sz="2800" spc="-1" strike="noStrike">
                <a:solidFill>
                  <a:srgbClr val="ffffff"/>
                </a:solidFill>
                <a:latin typeface="Arial"/>
              </a:rPr>
              <a:t> Cauce conocido como Quebrada Sec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este:</a:t>
            </a:r>
            <a:r>
              <a:rPr b="0" lang="en-US" sz="2800" spc="-1" strike="noStrike">
                <a:solidFill>
                  <a:srgbClr val="ffffff"/>
                </a:solidFill>
                <a:latin typeface="Arial"/>
              </a:rPr>
              <a:t> Carretera Nacion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3336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rPr>
              <a:t>REALIDAD DE LA COMUNIDAD QUEBRADA SECA SECTOR EL HONDÓN</a:t>
            </a:r>
            <a:endParaRPr b="0" lang="en-US" sz="2800" spc="-1" strike="noStrike">
              <a:solidFill>
                <a:srgbClr val="e3e3ff"/>
              </a:solidFill>
              <a:latin typeface="Arial"/>
            </a:endParaRPr>
          </a:p>
        </p:txBody>
      </p:sp>
      <p:sp>
        <p:nvSpPr>
          <p:cNvPr id="129"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versaciones informales con los habitantes, manifestaron que existe cierto nivel de descontento por los  alcances de los programas implementados por el Estado.</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otorgamiento de las casas  (otorgamiento casa por rancho).</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y evidencia de una cultura muy arraigada al paternalismo de Estado.</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inconformidad se presenta como un elemento permanente; hay familias que han logrado solventar sus aspiraciones iniciales,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 a los visitantes como entes vinculados al gobiern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14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FUNDO ZAMORANO JOSÉ FÉLIX RIBAS</a:t>
            </a:r>
            <a:endParaRPr b="0" lang="en-US" sz="3200" spc="-1" strike="noStrike">
              <a:solidFill>
                <a:srgbClr val="e3e3ff"/>
              </a:solidFill>
              <a:latin typeface="Arial"/>
            </a:endParaRPr>
          </a:p>
        </p:txBody>
      </p:sp>
      <p:sp>
        <p:nvSpPr>
          <p:cNvPr id="131" name="PlaceHolder 2"/>
          <p:cNvSpPr>
            <a:spLocks noGrp="1"/>
          </p:cNvSpPr>
          <p:nvPr>
            <p:ph/>
          </p:nvPr>
        </p:nvSpPr>
        <p:spPr>
          <a:xfrm>
            <a:off x="468360" y="1773000"/>
            <a:ext cx="8229600" cy="4608360"/>
          </a:xfrm>
          <a:prstGeom prst="rect">
            <a:avLst/>
          </a:prstGeom>
          <a:noFill/>
          <a:ln w="0">
            <a:noFill/>
          </a:ln>
        </p:spPr>
        <p:txBody>
          <a:bodyPr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e NUDE conformado inicialmente en enero 2006, por 98 Lanceros de la Misión Vuelvan Caras, en la finca que pertenecían a la antigua Hacienda Fondón de la familia Völlmer .</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reteras asfaltas, drenajes, electrificación, tanques de agua, pozos profundos, Centros de Acopio, Galpones dotadas de planta procesadora de leguminosa, refrigeradoras, 3 grandes Invernaderos para cultivos protegid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FUNDO ZAMORANO JOSÉ FÉLIX RIBAS</a:t>
            </a:r>
            <a:endParaRPr b="0" lang="en-US" sz="32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ue fundado en el año 2006 como parte del Polo de Desarrollo Endógeno Aragüeño conjuntamente con los fundos El Ingenio, El Paují, y El Socorro. </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aspira que se convierta en un punto de referencia productiva en la zona y en el principal proveedor del centro del país.</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imes New Roman"/>
              </a:rPr>
              <a:t>El área del terreno es de 110 Has. De las cuales 100 son aptas para el cultivo de leguminosas y hortaliza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MISIÓN Y VISIÓN DEL FUNDO ZAMORANO</a:t>
            </a:r>
            <a:endParaRPr b="0" lang="en-US" sz="3200" spc="-1" strike="noStrike">
              <a:solidFill>
                <a:srgbClr val="e3e3ff"/>
              </a:solidFill>
              <a:latin typeface="Arial"/>
            </a:endParaRPr>
          </a:p>
        </p:txBody>
      </p:sp>
      <p:sp>
        <p:nvSpPr>
          <p:cNvPr id="135" name="PlaceHolder 2"/>
          <p:cNvSpPr>
            <a:spLocks noGrp="1"/>
          </p:cNvSpPr>
          <p:nvPr>
            <p:ph/>
          </p:nvPr>
        </p:nvSpPr>
        <p:spPr>
          <a:xfrm>
            <a:off x="457200" y="1283760"/>
            <a:ext cx="8686800" cy="557388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organizar la tenencia y uso de las tierras ociosas, con vocación agrícola para erradicar el Latifundio.</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Garantizar la seguridad agroalimentaria de la población a través del desarrollo de una agricultura sustentable.</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Promover el desarrollo del medio rural en los ejes estratégicos del país.</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Fortalecer y promover el desarrollo del medio rural, a través del apoyo crediticio, capacitación, asistencia técnica, servicios básicos y obras de infraestructura agríco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FORTALEZAS Y DEBILIDADES DEL FONDO ZAMORANO</a:t>
            </a:r>
            <a:endParaRPr b="0" lang="en-US" sz="3200" spc="-1" strike="noStrike">
              <a:solidFill>
                <a:srgbClr val="e3e3ff"/>
              </a:solidFill>
              <a:latin typeface="Arial"/>
            </a:endParaRPr>
          </a:p>
        </p:txBody>
      </p:sp>
      <p:sp>
        <p:nvSpPr>
          <p:cNvPr id="137" name="PlaceHolder 2"/>
          <p:cNvSpPr>
            <a:spLocks noGrp="1"/>
          </p:cNvSpPr>
          <p:nvPr>
            <p:ph/>
          </p:nvPr>
        </p:nvSpPr>
        <p:spPr>
          <a:xfrm>
            <a:off x="539640" y="1844640"/>
            <a:ext cx="8229600" cy="4495680"/>
          </a:xfrm>
          <a:prstGeom prst="rect">
            <a:avLst/>
          </a:prstGeom>
          <a:noFill/>
          <a:ln w="0">
            <a:noFill/>
          </a:ln>
        </p:spPr>
        <p:txBody>
          <a:bodyPr anchor="t">
            <a:normAutofit/>
          </a:bodyPr>
          <a:p>
            <a:pPr marL="609480" indent="-6094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imes New Roman"/>
              </a:rPr>
              <a:t>Tierras productivas</a:t>
            </a:r>
            <a:r>
              <a:rPr b="0" lang="es-ES" sz="2800" spc="-1" strike="noStrike">
                <a:solidFill>
                  <a:srgbClr val="ffffff"/>
                </a:solidFill>
                <a:latin typeface="Times New Roman"/>
              </a:rPr>
              <a:t>. </a:t>
            </a:r>
            <a:endParaRPr b="0" lang="en-US" sz="2800" spc="-1" strike="noStrike">
              <a:solidFill>
                <a:srgbClr val="ffffff"/>
              </a:solidFill>
              <a:latin typeface="Arial"/>
            </a:endParaRPr>
          </a:p>
          <a:p>
            <a:pPr marL="609480" indent="-6094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ejecución un 40 % del proyecto socio productivo.:(Entre las cuales se cultivaron 15 Ha de pimentón y 15 Ha  de cebolla , desarrollada por la cooperativa esperando su productividad). </a:t>
            </a:r>
            <a:endParaRPr b="0" lang="en-US" sz="2800" spc="-1" strike="noStrike">
              <a:solidFill>
                <a:srgbClr val="ffffff"/>
              </a:solidFill>
              <a:latin typeface="Arial"/>
            </a:endParaRPr>
          </a:p>
          <a:p>
            <a:pPr marL="609480" indent="-6094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INIA realiza una asociación de cultivos con la finalidad de incorporar al pequeño productor a un sistema de producción integral.</a:t>
            </a:r>
            <a:endParaRPr b="0" lang="en-US" sz="2800" spc="-1" strike="noStrike">
              <a:solidFill>
                <a:srgbClr val="ffffff"/>
              </a:solidFill>
              <a:latin typeface="Arial"/>
            </a:endParaRPr>
          </a:p>
          <a:p>
            <a:pPr marL="609480" indent="-6094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tiene un proyecto de siembra de cítricos (100 H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rPr>
              <a:t>REALIDAD AGRO-PRODUCTIVA DESDE UN ENFOQUE EXTENSIONISTA</a:t>
            </a:r>
            <a:endParaRPr b="0" lang="en-US" sz="28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ca cohesión del grupo social   entre  : (Estado comunidad- productores ) </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 cuanto vocación productiva se evidencia `poca estimulación y conocimiento en cuanto al área agrícola.</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ca productividad con proporciones productivas muy bajas, no acompañada con estudios técnicos-económicos sustent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2:51:50Z</dcterms:created>
  <dc:creator>TATY</dc:creator>
  <dc:description/>
  <dc:language>en-US</dc:language>
  <cp:lastModifiedBy>anna clemente</cp:lastModifiedBy>
  <dcterms:modified xsi:type="dcterms:W3CDTF">2008-12-10T22:37:05Z</dcterms:modified>
  <cp:revision>17</cp:revision>
  <dc:subject/>
  <dc:title>Diapositiva 1</dc:title>
</cp:coreProperties>
</file>