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43C-1831-4B6B-B7C1-B0A41913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1F3-299C-4DE3-9280-DAB37621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7FF-41B6-4B58-9B92-EC073ADB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0C9-2C28-44C4-A48D-65DB85BF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F86-08F4-46BA-8489-4B549D7D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688-2AF3-4754-AADC-7C07D91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CD2F-9F2B-4E8D-9DDE-1D82694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70B-C221-4FEF-94DB-A82CECB8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BFE0-3A3F-4031-88AC-BC89D164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FC75-8A91-4CF4-9891-144C229B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2A27-EE80-4FD0-A959-7628BF1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F44-FAC2-4AA3-B4FD-6E04EBD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45F9-F6C8-48C9-9C23-6C89B2F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1610-EA79-41C8-BE10-3BD93490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885-146C-4AB8-A172-AAB7E9C1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443F-2368-4986-AE4B-C9A5D2CC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F9E-8842-4816-B88F-2FAC412C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2156-8490-488F-B23B-DD4397D3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7E48-F2A2-4EC9-AC26-1C19DBC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2520-9B9C-41A6-99FB-58C1C000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4BA4-9A45-413A-88A7-E6B4A51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5D51-E19D-46D2-BB25-B3062A0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A73-F1D3-4F87-B2A6-10921A43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F416-10FE-41EE-973A-8DF631E5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E100-6EAC-4762-AB32-D198C465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B85E-E837-4DA7-B913-17CFED0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866B-0B20-47B3-8ED3-A6AA3AB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255C-541C-4033-AA15-F30E968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CF31-24AE-4B76-91D4-2E1538A8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D30C-EA00-4943-AA6B-E6D32BC8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D532-93D1-4943-9AA8-F6C47049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15A4-8046-494E-87F2-46EC35E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A107-9E93-4796-961B-34F26B3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2AB-20EF-4A22-BFF6-08F676C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AEBC-F6DD-49B4-8FED-2F3FBCF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0D8AD-6795-4E04-BD71-DE723CD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915D-7518-4E85-8525-41CB610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818B-2924-4D3F-BC2E-1AF57C7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B6AE-E7F4-42C4-A05F-3326AA0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57F7-A724-4750-9A55-8E966AA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AC8A-52CB-4397-A08D-8CAA63A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B373-2F38-46CE-A936-CE74ACF1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C9D1-237B-49F1-9421-975B79D2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D07-3AC2-41CE-A0FF-6F7DB5D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180-56BF-4D18-8C33-39B12C1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99F-7012-437C-BF16-816C48B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4DE-C264-47D6-AB76-F6F9D1C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BE0-EF0B-424E-8DD3-59E0D9D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A6C-F437-43FA-9A0B-C1E72C1E0660}" type="slidenum"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2A2B-0804-47DC-BB70-8685D0C64D68}" type="slidenum"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57B-0952-4845-BD8D-69748182C476}" type="slidenum"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05B-7ED7-4341-AF57-8B8A228482C5}" type="slidenum"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523800"/>
            <a:ext cx="7912080" cy="2347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071880"/>
            <a:ext cx="7854840" cy="2643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Héctor  Fabio Libreros Jaramillo; Ginés F. Ramírez B.; Héctor Fabio Valencia R.; César A. Serrano N.; Pedro A. Alarcón G.; Luis A. Malagón P. y Diego Villada 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FRADIEAR, Venezuela, diciembre de 200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7 Imagen" descr="logo mvz.jpg"/>
          <p:cNvPicPr/>
          <p:nvPr/>
        </p:nvPicPr>
        <p:blipFill>
          <a:blip r:embed="rId2"/>
          <a:stretch/>
        </p:blipFill>
        <p:spPr>
          <a:xfrm>
            <a:off x="642960" y="492912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198" name="6 Imagen" descr="logo-ut.png"/>
          <p:cNvPicPr/>
          <p:nvPr/>
        </p:nvPicPr>
        <p:blipFill>
          <a:blip r:embed="rId3"/>
          <a:stretch/>
        </p:blipFill>
        <p:spPr>
          <a:xfrm>
            <a:off x="6072120" y="485784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28760" y="1500120"/>
          <a:ext cx="7800840" cy="471492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MPO TEM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NTEXTO DE OCUR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NÁLISIS DE C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licación del sistema de créditos y competencias, en los programas de MV, Z y MVZ de Colombia, mediado por el decreto 2566/2003 y la resolución 3458/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ituciones de Educación Superior de Colombia, con programas de MV, Z y MV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gramas d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V: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: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VZ: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4617b"/>
                </a:solidFill>
                <a:latin typeface="Calibri"/>
              </a:rPr>
              <a:t>TÉCNICAS DE RECOLECCIÓN DE INFORM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ANÁLISIS DOCUM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OBSERVACIÓN PARTICIPA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ENTREVISTA  SEMIESTRUCTURADA  A INFORMANTES CL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SEMINARIO DE ENCUENTR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El proceso de recolección de información da significado y sentido al trabajo de investigación cualita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FUENTES DE INFORMACIÓ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23572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DECANOS DE FACULTADES O ESCUE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DIRECTORES DE PROGRAMAS O DEPARTAM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COORDINADORES CURRICU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FUENTES DE FINANCIACIÓ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COMVEZC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ASFAMEV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PROGRAMAS EN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INDICADORES DE IMPACT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HOMOLOGACIÓN DE PROGRAMAS Y PLANE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MAYOR MOVILIDAD, INTERCAMBIO Y TRANSFERENCIA ESTUDIANT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AMPLIO INTERCAMBIO DE ESTUDIANTES, DOCENTES, ADMINISTRATIVOS, EGRESADOS Y SERVICIOS ACADÉM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MEJORA EN PROCESOS EDUCATIVOS POR CRÉDITOS Y COMPET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RESULTADOS ESPERAD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857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PAUTAS GENERALES DE ORIENTACIONES CURRICULARES (LINEAMIENTOS) PARA LOS PROGRAMAS DE MEDICINA VETERINARIA, ZOOTECNIA Y MEDICINA VETERINARIA Y ZOOTECNIA DE COLOMB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RESPONSABLES DEL PROYECT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ASFAMEVE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COMVEZ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INVESTIGADOR COORDIN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COINVESTIGAD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ASESORES CURRICU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ECANOS Y DIRECTORES DE PROGRAMAS INVOLUCR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56800" y="785520"/>
            <a:ext cx="737244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nstantia"/>
              </a:rPr>
              <a:t>MUCHAS GRACIAS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7 Imagen" descr="logo mvz.jpg"/>
          <p:cNvPicPr/>
          <p:nvPr/>
        </p:nvPicPr>
        <p:blipFill>
          <a:blip r:embed="rId1"/>
          <a:stretch/>
        </p:blipFill>
        <p:spPr>
          <a:xfrm>
            <a:off x="1357200" y="1785960"/>
            <a:ext cx="6215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4617b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Acreditación  de programas académicos: Decreto 2566/2003. Ley 1188/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rocesos de acreditación y homologación en América latina: COPEVET/ MERCOS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ebate sobre  Educación Superior. Articulación del pre y posgrado en Europa: Proyecto Tuning (200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Foro Regional Andino de instituciones de educación agraria y rural: FRADIE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royecto  ASFAMEVEZ/ COMVEZ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SITUACIÓN PROBLÉMICA (I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568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n Colombia, según COMVEZCOL, existen 16 programas de Zootecnia, 8 de Medicina Veterinaria y 12 de Medicina Veterinaria y Zootecnia, los que se caracterizan, por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Diversas propuestas pedagógicas, didácticas y evaluativ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Diversa y variada conceptualización, aplicación y equivalencia de créditos acadé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Diversos y variados planes de estudio, áreas de formación, contenidos, número y tipo de créditos, prerrequisitos y correquisitos, graduación y duración de actividades académic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SITUACIÓN PROBLÉMICA (II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IFICULTAD PARA HOMOLOGACIÓN DE PLANES DE ESTUD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ISPENDIOSA MOVILIDAD ESTUDIANT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IFÍCIL INTERCAMBIO DE ESTUDIANTES, DOCENTES Y SERVICIOS ACADÉM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ROCESOS DE ACREDITACIÓN DISPARES Y POCO COLABORATIV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IFÍCIL  ARTICULACIÓN DE PROGRA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MARCO TEÓR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Necesidad de profundizar en temas que se ajustan a los límites del problema de investigación (Zemelman, 1997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SISTEMA DE CRÉDITOS  ACADÉ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FORMACIÓN POR COMPETENCI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PROCESOS EDUCATIVOS POR COMPETENCI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PROCESOS DE ACREDITACIÓN Y HOMOLOGACIÓN NACIONAL E INTERNACION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TENDENCIAS Y PROSPECTIVAS DE LOS PROGRAM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OBJETIVO GENER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2856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DESARROLLAR LINEAMIENTOS CURRICULARES QUE ORIENTEN LOS PROCESOS EDUCATIVOS POR CRÉDITOS Y COMPETENCIAS DE LOS PROGRAMAS DE MEDICINA VETERINARIA, ZOOTECNIA Y MEDICINA VETERINARIA Y ZOOTECNIA DE COLOMB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OBJETIVOS ESPECÍFICOS (I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Determinar puntos de encuentro y desencuentro, en cuanto 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OBJETOS DE ESTUD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ERFILES PROFES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ERFILES OCUPA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COMPETENCIAS ESPECÍFICAS Y GENÉ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NÚCLEOS PROBLEMÁTICOS/ NODOS PROBLEMATIZAD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OBJETIVOS ESPECÍFICOS (II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MÓDULOS/NÚCLEOS  y/0 UNIDADES DE FORM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CONTENIDOS:  Conocimientos. Habilidades. Destrezas. Actitu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CRÉDITOS ACADÉMICOS: Número total y por áreas de  formación. Tipología. Equivalencia hora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NIVELES DE FORMACIÓN y duración de los mism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REQUISITOS DE INGRESO, PROCESO Y GRADU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CONTRASTACIÓN CON PROCESOS DE ACREDITACIÓN Y HOMOLOGACIÓN INTERNACIONAL (COPEVE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METODOLOG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Investigación social con enfoque cualitativo- interpretativo: Trabajo de campo (de Tezanos, 1997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Inmersión del investigador en el fenómeno a estudi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articipación activa durante el proceso: Generar teoría a partir de información obtenida (Lerma, 200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Propósito: Comprender para transformar (de Souza, 200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25:04Z</dcterms:created>
  <dc:creator>WinuE</dc:creator>
  <dc:description/>
  <dc:language>en-US</dc:language>
  <cp:lastModifiedBy>WinuE</cp:lastModifiedBy>
  <dcterms:modified xsi:type="dcterms:W3CDTF">2008-12-07T04:15:57Z</dcterms:modified>
  <cp:revision>17</cp:revision>
  <dc:subject/>
  <dc:title>ESTADO ACTUAL DEL CURRÍCULO BAJO EL SISTEMA DE CRÉDITOS Y COMPETENCIAS DE LOS PROGRAMAS DE MEDICINA VETERINARIA, ZOOTECNIA Y MEDICINA VETERINARIA Y ZOOTECNIA DE COLOMBIA. ORIENTACIONES CURRICULARES PARA SU MEJORAMIENTO</dc:title>
</cp:coreProperties>
</file>