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463-A246-452F-9949-AFE5C2FB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946-F9A9-4765-84AA-6600032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423-AF14-476B-902F-2170DC41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57B-2DE9-4F14-9FB3-12F82355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29EF-B308-4D45-A544-FCFEABB5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0F1-C6F7-4502-B5D5-45073AB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4B5-0B6C-438D-976B-5D4524C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DE58-9AEE-4AE3-852B-5914EBDB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DA65-5D1C-4CE2-BC65-0168B8CC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22B0-4602-4540-9938-F14B26A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0CED-F513-4EC2-8137-F7FEBC1A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FD4-84CC-4782-A262-71F83F4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0D3E-8EB3-4E9C-AEFA-796D537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212F-1B83-4CD4-B498-F9FD398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9A3-7E04-4FA6-BC7F-C0D2326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6FF-2577-413D-A6F1-83C9C85C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3A55-6699-4D42-929C-FB16109E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BAE-A040-4C60-A83C-EA6CB2B6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E63-52D1-4AC0-B00F-FBC5668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A8A-73D6-4EC2-BA98-63B56CB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786-460F-4F88-A7EA-6A52EC3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260-F87D-4281-BFAA-C437CDB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5A2-4AA0-4646-A173-E54A8FE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597-C90F-40EF-B989-68EE32B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BA0-742F-4548-8AA9-2FA57F3DFC5D}" type="slidenum">
              <a:rPr b="0" lang="es-E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0AD-6B74-45A5-8966-015C5D5723E5}" type="slidenum">
              <a:rPr b="0" lang="es-E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8800" y="6858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PROCESO DE FORMACIÓN DE LOS PROFESIONALES DE ENFERMER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5760" y="339552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mic Sans MS"/>
              </a:rPr>
              <a:t>Diseño Curricul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4950000"/>
            <a:ext cx="629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UNIVERSIDAD DE CUNDINAMAR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FACULTAD CIENCIAS DE LA SAL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PROGRAMA DE 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158920"/>
            <a:ext cx="746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La promoción y mantenimiento de la salud y de la vida; la prevención de la enfermedad; el tratamiento, recuperación y rehabilitación de la salud de las personas, familias y grupos comunitarios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4880" y="838080"/>
            <a:ext cx="60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8408"/>
                </a:solidFill>
                <a:latin typeface="Comic Sans MS"/>
              </a:rPr>
              <a:t>PROBLEMA PROFESION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-76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BJETO DE LA CULTURA DE LA</a:t>
            </a:r>
            <a:r>
              <a:rPr b="1" lang="en-US" sz="2800" spc="-1" strike="noStrike">
                <a:solidFill>
                  <a:srgbClr val="af840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FE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Las ciencias de la salud: anatomía, fisiología, patología, farmacología, bioquímica, psicología, microbiología, principios científicos y procedimientos del cuidado, bioética, epidemiología, semiología; las ciencias naturales: biología; las ciencias sociales: sociología, antropología, comunicación; la investigación científica; las ciencias medio- ambientales; las ciencias de la administración y gerencia de la salud; las ciencias económicas, políticas y legales y  la informática aplicada a la salud.</a:t>
            </a:r>
            <a:r>
              <a:rPr b="1" lang="es-ES" sz="26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14590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Profesional competente para desempeñarse en el cuidado de enfermería de la vida y de la salud de las personas, familias y comunidades; capaz de desarrollar la asistencia, la investigación, la gestión y educación en enfermería y salud, comprometido social y profesionalmente, flexible en la cultura, trascendente en su contexto y ético en su profesión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1080" y="6523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8408"/>
                </a:solidFill>
                <a:latin typeface="Comic Sans MS"/>
              </a:rPr>
              <a:t>OBJETIVO DEL PROFES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54484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CUIDADO DE ENFERMERÍ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5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El Programa de Enfermería de la Universidad de Cundinamar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94640" y="30481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Objeto de estud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95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Esencia epistemológica y filosófica de la formación del profes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1676520"/>
            <a:ext cx="47242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conceptuali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657600"/>
            <a:ext cx="548640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dimensio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3880" y="457200"/>
            <a:ext cx="6934320" cy="5335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CUIDADO DE 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066680"/>
            <a:ext cx="3124080" cy="91440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Desarroll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057400"/>
            <a:ext cx="2666880" cy="12952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Procesos d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886200"/>
            <a:ext cx="2438280" cy="11430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Asistencia d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886200"/>
            <a:ext cx="2438640" cy="12193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ducación e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nfermerí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y en Salu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876920"/>
            <a:ext cx="2361960" cy="16761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Gestión e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y Salu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029200"/>
            <a:ext cx="2438640" cy="12193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Investigación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n Enfermerí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y en Salu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952640"/>
            <a:ext cx="976320" cy="1095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4040" y="2147760"/>
            <a:ext cx="29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3120" y="3532320"/>
            <a:ext cx="349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Relación dialéc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salud-enferme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7040" y="5437080"/>
            <a:ext cx="32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Continuo entre 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vida y la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289548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472428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1040" y="533520"/>
            <a:ext cx="66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8408"/>
                </a:solidFill>
                <a:latin typeface="Comic Sans MS"/>
              </a:rPr>
              <a:t>Competencias Profesional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676520"/>
            <a:ext cx="685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El profesional de enfermería egresado de la Universidad de Cundinamarca, es competente: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 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§</a:t>
            </a:r>
            <a:r>
              <a:rPr b="1" lang="en-US" sz="30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 E</a:t>
            </a:r>
            <a:r>
              <a:rPr b="1" lang="en-U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n la promoción de la salud, la prevención de la enfermedad y en la capacitación en salud y en enfermería a las personas, familias y grupos comunitarios en sus contextos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228600"/>
            <a:ext cx="746748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§</a:t>
            </a: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 </a:t>
            </a: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Brindando asistencia de enfermería integral, humanizada y ética a las personas sanas o enfermas, familias y grupos comunitarios en sus contextos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 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§</a:t>
            </a: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 </a:t>
            </a:r>
            <a:r>
              <a:rPr b="1" lang="es-ES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En la gestión de los procesos de enfermería y de los proyectos de salud, de enfermería y de educación en salud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§</a:t>
            </a:r>
            <a:r>
              <a:rPr b="1" lang="es-MX" sz="30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 </a:t>
            </a:r>
            <a:r>
              <a:rPr b="1" lang="es-MX" sz="3000" spc="-1" strike="noStrike">
                <a:solidFill>
                  <a:srgbClr val="663300"/>
                </a:solidFill>
                <a:latin typeface="Comic Sans MS"/>
                <a:ea typeface="Arial"/>
              </a:rPr>
              <a:t>En el desarrollo de los procesos investigativos en enfermería y de salud que respondan a problemas sociales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39720" y="2209680"/>
            <a:ext cx="73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TENDENCIAS DEL EJERCICIO PROFESIONAL Y DE LA FORMACIÓN DEL ENFERMER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990720"/>
            <a:ext cx="7358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Se proyecta a las enfermeras(os) como lideres en políticas, en defensa de los usuarios de salud y en la práctica asistencial. Preparadas(os), competentes y dispuestas(os) para cuida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reocupadas(os) por las necesidades de los que gozan de salud, por los enfermos y por los que no tienen el cuidado que necesitan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52480" y="1752480"/>
            <a:ext cx="65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Cuidado ético, basado en evidencia científica, que usa hábilmente la tecnología, sin perder de vista lo humano y lo social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158436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MODELO CURRICULAR POR COMPETENCIAS PROFESIONALES Y CRÉDITOS ACADÉMIC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5960" y="4950000"/>
            <a:ext cx="629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UNIVERSIDAD DE CUNDINAMAR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FACULTAD CIENCIAS DE LA SAL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PROGRAMA DE 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39720" y="609480"/>
            <a:ext cx="691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Los cambios económicos, políticos y sociales se convierten en desafíos permanentes para una formación flexible y sensible a las diferencias culturales, basada en las ciencias formales, naturales y social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60948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Las reformas de salud implican menos camas hospitalarias, en el futuro se necesitarán menos enfermeras hospitalarias en la medida en que las personas se cuidan en cas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809880"/>
            <a:ext cx="7391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336600"/>
                </a:solidFill>
                <a:latin typeface="Comic Sans MS"/>
              </a:rPr>
              <a:t>La intervención de enfermería ligada a la cotidianidad de las personas y la interacción con los cuidadores domiciliarios, crearán nuevas oportunidades de desempeñ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60640" y="533520"/>
            <a:ext cx="7831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Mayor potencial investigativo y de participación en grupos multidisciplinarios para buscar formas de proveer cuidado de la salud de manera más accesib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Fortalecer los programas de promoción y prevención, así como las estrategias de comunicación para  cambios de comportamiento, como nuevas formas de afrontar la atención en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44600" y="228600"/>
            <a:ext cx="749448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mpliación y mejoramiento de atención a las madres, a los niños y a las niñas, mediante la capacitación e identificación de competencias que debe desarrollar el personal de salud y con prioridad para enfermerí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romoción de la salud de los adolescentes y de los jóvenes, desde la definición de políticas hasta el establecimiento de programas de atención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34960" y="533520"/>
            <a:ext cx="709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Enfermería debe prepararse para  asegurarse de mantener la calidad de vida y el ofrecimiento, en forma saludable de los siguientes servicios al grupo de adultos may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5080" y="3733920"/>
            <a:ext cx="743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Cuidado en casa y/o en instituciones específica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Cuidado de dí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Cuidado a grupos de interé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Facilidades para personas con demencia y Alzheimer, entre otr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74480" y="380880"/>
            <a:ext cx="54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es-ES_tradnl" sz="3600" spc="-1" strike="noStrike">
                <a:solidFill>
                  <a:srgbClr val="333333"/>
                </a:solidFill>
                <a:latin typeface="Comic Sans MS"/>
              </a:rPr>
              <a:t>MODELO PEDAGÓGIC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219320"/>
            <a:ext cx="6933960" cy="990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PROCESO DE FORMACIÓN DE L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PROFESION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514600"/>
            <a:ext cx="6934320" cy="1371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Espacio de construcción de significad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y sentidos y como un proces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Comic Sans MS"/>
              </a:rPr>
              <a:t>de desarrollo huma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4267080"/>
            <a:ext cx="2133720" cy="685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CONC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486400"/>
            <a:ext cx="2133720" cy="685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COMPLEJ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343400"/>
            <a:ext cx="2133360" cy="685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HOLÍS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5410080"/>
            <a:ext cx="2133720" cy="685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DIALÉC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962520"/>
            <a:ext cx="1295280" cy="236196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3962520"/>
            <a:ext cx="1218960" cy="236196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831960"/>
            <a:ext cx="7540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Es un proceso CONSCIENTE no sólo por su naturaleza social, es decir por tener al hombre en su centro, sino por que se trata de comprometer y hacer consciente y responsable al sujeto de su proceso de crecimiento y transformación, para que pueda además trazarse nuevas meta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1373040"/>
            <a:ext cx="7531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COMPLEJO, por los múltiples movimientos y transformaciones que se dan en su interior y que dan cuenta de las cualidades del proceso como un todo, las que en su integración determinan el comportamiento del mismo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609480"/>
            <a:ext cx="76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HOLÍSTICO, por su naturaleza totalizadora. Porque cada uno de sus eventos está no solo en constante interacción con los restantes sino con el todo; lo que hace que cada uno de estos sea expresión de las cualidades del todo, cuya existencia se da en los event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9360" y="4035600"/>
            <a:ext cx="746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DIALÉCTICO, por el carácter contradictorio de las relaciones que en este se producen y que determinan su movimiento y desarroll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58720" y="969840"/>
            <a:ext cx="57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MODELO Y ESTRUCTURA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CURRICUL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2819520"/>
            <a:ext cx="68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El proceso de formación de profesionales de enfermería a partir de un modelo de competencias profesional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25760" y="2362320"/>
            <a:ext cx="69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mic Sans MS"/>
              </a:rPr>
              <a:t>VISIÓN DEL PROGRAMA DE ENFERMERÍ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1240" y="787320"/>
            <a:ext cx="60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STRUCTURA ORGANIZ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057400"/>
            <a:ext cx="762120" cy="1752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2057400"/>
            <a:ext cx="914400" cy="1752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9560" y="2238480"/>
            <a:ext cx="46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ción Curricul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3809880"/>
            <a:ext cx="320040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Component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De Form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3809880"/>
            <a:ext cx="320040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Cic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De Form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114800"/>
            <a:ext cx="685800" cy="485640"/>
          </a:xfrm>
          <a:prstGeom prst="leftRightArrow">
            <a:avLst>
              <a:gd name="adj1" fmla="val 50000"/>
              <a:gd name="adj2" fmla="val 28112"/>
            </a:avLst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5680" y="207324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mic Sans MS"/>
              </a:rPr>
              <a:t>MICRODISEÑ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mic Sans MS"/>
              </a:rPr>
              <a:t>CURRICUL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8800" y="41878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mic Sans MS"/>
              </a:rPr>
              <a:t>(Contenidos del Programa Académic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182880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omic Sans MS"/>
              </a:rPr>
              <a:t>1. Núcleos de Contenido determinados para el desarrollo de las Competencias Profesionale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228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Times New Roman"/>
              </a:rPr>
              <a:t>1. P</a:t>
            </a: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Arial"/>
              </a:rPr>
              <a:t>romoción de la salud, la prevención de la enfermedad y  capacitación en salud y en enfermería a las personas, familias y grupos comunitarios en sus context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1752480"/>
            <a:ext cx="2666880" cy="11430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ersona, famili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comun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724280"/>
            <a:ext cx="2971800" cy="106704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Salud, enferme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v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505320"/>
            <a:ext cx="2590920" cy="16002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ultura en e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ontexto soc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ambiental e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salud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523880"/>
            <a:ext cx="2895480" cy="27432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Teorías, model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métod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 pa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la promoción 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la salud y 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evención  de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Arial"/>
              </a:rPr>
              <a:t>2. Brindar asistencia de enfermería integral, humanizada y ética a las personas sanas o enfermas, familias y grupos comunitarios en sus context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447920"/>
            <a:ext cx="2361960" cy="18288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Teorías, modelos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métodos y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procedimien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en la asist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de 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1676520"/>
            <a:ext cx="2133720" cy="167616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Fundamen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anatómicos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biológicos y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químic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1676520"/>
            <a:ext cx="2209680" cy="152388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Fundamentos d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fisiología y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patolog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657600"/>
            <a:ext cx="2514600" cy="11430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Semiología human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aplicada 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3657600"/>
            <a:ext cx="2743200" cy="129528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Fundamentos d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psicología evolutiva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social y comunitar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105520"/>
            <a:ext cx="2743200" cy="13716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Educación para l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salud, la enferm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y la vi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00200" y="38088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Times New Roman"/>
              </a:rPr>
              <a:t>3. G</a:t>
            </a:r>
            <a:r>
              <a:rPr b="1" lang="en-US" sz="2000" spc="-1" strike="noStrike">
                <a:solidFill>
                  <a:srgbClr val="af8408"/>
                </a:solidFill>
                <a:latin typeface="Comic Sans MS"/>
                <a:ea typeface="Arial"/>
              </a:rPr>
              <a:t>estión de los procesos de enfermería y de los proyectos de salud, de enfermería y de educación en salud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1676520"/>
            <a:ext cx="2819160" cy="22860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Teorías, model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métodos para l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gestión de l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oces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447920"/>
            <a:ext cx="3200400" cy="22860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Marco político, leg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y normativas, en e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sistema de salud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olombiano, aplic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a los proces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343400"/>
            <a:ext cx="2819520" cy="129528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Gestión 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oyectos soci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4267080"/>
            <a:ext cx="3429000" cy="198144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nformática aplicad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ara la gest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de los proces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1447920"/>
            <a:ext cx="2819520" cy="175248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Fundament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las técnicas de l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nformación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omunic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57200"/>
            <a:ext cx="76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f8408"/>
                </a:solidFill>
                <a:latin typeface="Comic Sans MS"/>
                <a:ea typeface="Arial"/>
              </a:rPr>
              <a:t>4. Desarrollar los procesos investigativos en enfermería y de salud que respondan a problemas social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1143000"/>
            <a:ext cx="2819520" cy="152388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ultura, ciencia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267080"/>
            <a:ext cx="2666880" cy="175284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oceso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nvestigación e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salud y e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nfermer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343400"/>
            <a:ext cx="2819520" cy="205740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Fundament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stadístic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bioestadística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epidemiología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2362320" cy="1295640"/>
          </a:xfrm>
          <a:prstGeom prst="rect">
            <a:avLst/>
          </a:prstGeom>
          <a:noFill/>
          <a:ln w="31680">
            <a:solidFill>
              <a:srgbClr val="af8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Méto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ualitativos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cuantitativ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95280" y="213372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Comic Sans MS"/>
              </a:rPr>
              <a:t>2. CARÁCTER GENERAL, BÁSICO, BÁSICO PROFESIONAL Y PROFESIONAL ESPECÍFICO DE LOS NÚCLEOS DE CONTENID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57200" y="1447920"/>
          <a:ext cx="8001000" cy="4978440"/>
        </p:xfrm>
        <a:graphic>
          <a:graphicData uri="http://schemas.openxmlformats.org/drawingml/2006/table">
            <a:tbl>
              <a:tblPr/>
              <a:tblGrid>
                <a:gridCol w="1238400"/>
                <a:gridCol w="1852560"/>
                <a:gridCol w="1633320"/>
                <a:gridCol w="1676520"/>
                <a:gridCol w="1600200"/>
              </a:tblGrid>
              <a:tr h="75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omponent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Núcleos de Contenid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54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de las técnicas de la información y de la comunicació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ultura, ciencia y ética en enfermería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Proceso de investigació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Métodos cualitativos y cuantitativo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onvivencia social y liderazgo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políticos y cívico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609480"/>
          <a:ext cx="8763120" cy="5253120"/>
        </p:xfrm>
        <a:graphic>
          <a:graphicData uri="http://schemas.openxmlformats.org/drawingml/2006/table">
            <a:tbl>
              <a:tblPr/>
              <a:tblGrid>
                <a:gridCol w="1066680"/>
                <a:gridCol w="1641600"/>
                <a:gridCol w="1406520"/>
                <a:gridCol w="1523880"/>
                <a:gridCol w="1524240"/>
                <a:gridCol w="160020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omponent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Núcleos de Contenido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BÁ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Persona, familia y grupos comunitario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ultura en el contexto social y ambiental en salu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anatómicos, biológicos y químico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de psicología evolutiva, social y comunitari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Marco político, legal y normativas, en el sistema de salud colombiano, aplicados a los procesos de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6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de estadística, bioestadística epidemiología y demograf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Salud, enfermedad y vid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Informática aplicada a los procesos de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457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Liderar en el Departamento la formación de profesionales de 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209680"/>
            <a:ext cx="72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otencial laboral, científico y tecnológi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505320"/>
            <a:ext cx="777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Altas cualidades humanas, científicas, investigativas y socia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46320" y="5334120"/>
            <a:ext cx="79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Contribuir en la solución de los problemas y necesidades de salud y de enfermer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523880"/>
            <a:ext cx="11430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19520"/>
            <a:ext cx="1143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495680"/>
            <a:ext cx="11430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1244520"/>
          <a:ext cx="8305920" cy="42163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16040"/>
                <a:gridCol w="166068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omponen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Núcleos de Contenido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8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BÁSICO PROFESIONAL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de farmacología aplicados a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Fundamentos de fisiología y patolog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Gestión de los procesos de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ducación para la salud, la enfermedad y la vid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Semiología humana aplicada a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fermería: Profesión y discipli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533520" y="5791320"/>
            <a:ext cx="9144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4320" y="573264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Esencia conceptual de 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80880" y="762120"/>
          <a:ext cx="8229600" cy="4572000"/>
        </p:xfrm>
        <a:graphic>
          <a:graphicData uri="http://schemas.openxmlformats.org/drawingml/2006/table">
            <a:tbl>
              <a:tblPr/>
              <a:tblGrid>
                <a:gridCol w="1828800"/>
                <a:gridCol w="2210040"/>
                <a:gridCol w="2232000"/>
                <a:gridCol w="19587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Componen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Núcleos de Contenido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2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PROFESIONAL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SPECÍF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Teorías, modelos y métodos de enfermería para la promoción de la salud y la prevención de la enferme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Teorías, modelos, métodos y procedimientos para la asistencia de enfermería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Teorías, modelos y métodos para la gestión de los procesos de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198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Procesos de investigación en salud y en enfermerí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Gestión de Proyectos Social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533520" y="5638680"/>
            <a:ext cx="914400" cy="304920"/>
          </a:xfrm>
          <a:prstGeom prst="rect">
            <a:avLst/>
          </a:prstGeom>
          <a:solidFill>
            <a:srgbClr val="99ffcc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6840" y="5622840"/>
            <a:ext cx="64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Métodos, interacción y proyección de Enfermerí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2438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Comic Sans MS"/>
              </a:rPr>
              <a:t>3. TIEMPOS REQUERIDOS PARA EL DESARROLLO DE LOS NÚCLEOS DE CONTENID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80880" y="22860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COMPONENTE DE FORMACIÓN GENE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914400"/>
            <a:ext cx="1981440" cy="1676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l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técnicas de l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información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la comunicació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914400"/>
            <a:ext cx="1981440" cy="1676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ultura, cienci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ética 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914400"/>
            <a:ext cx="1676520" cy="7621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Proceso d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investigación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Método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cualitativo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33"/>
                </a:solidFill>
                <a:latin typeface="Comic Sans MS"/>
              </a:rPr>
              <a:t>cuantitativo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914400"/>
            <a:ext cx="1600200" cy="1676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Desarroll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democrát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505320"/>
            <a:ext cx="1828800" cy="1676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olíticos y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ívic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6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4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5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5 C.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5486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3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505320"/>
            <a:ext cx="1143000" cy="1676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Total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Crédito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Académic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5181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0520" y="7632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Comic Sans MS"/>
              </a:rPr>
              <a:t>COMPONENTE DE FORMACIÓN 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5720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ersona, famil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grup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omunitari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057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3 C.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5720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ultura en e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ontexto social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ambiental en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alu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5720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anatómicos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biológicos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químic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457200"/>
            <a:ext cx="198144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sicolog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volutiva, social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comunitar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438280"/>
            <a:ext cx="1981080" cy="1371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Marco político, legal 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normativas del siste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de salud colombiano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aplicados a l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proces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33"/>
                </a:solidFill>
                <a:latin typeface="Comic Sans MS"/>
              </a:rPr>
              <a:t>de enfermerí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438280"/>
            <a:ext cx="1981080" cy="1371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stadística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bioestadística,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pidemiología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mograf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1981440" cy="1371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alud, enfermeda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vid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2438280"/>
            <a:ext cx="1981080" cy="1371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Informátic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aplicada a l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ces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alu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38098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38098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38098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8098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1752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057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10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1752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4114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2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114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2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4114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5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114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2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057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6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1752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2057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4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572000"/>
            <a:ext cx="1143000" cy="1676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Total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Crédito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Académic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3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86560" y="76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Comic Sans MS"/>
              </a:rPr>
              <a:t>COMPONENTE DE FORMACIÓN BÁSICO 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53352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armacolog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aplicados 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28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533520"/>
            <a:ext cx="198144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ducación par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la salud, l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dad y l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vid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53352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Gestión de l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ces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533520"/>
            <a:ext cx="198144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undamentos d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fisiología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atolog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198108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emiología human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aplicada 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590920"/>
            <a:ext cx="198144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fesión 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isciplin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2590920"/>
            <a:ext cx="198108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moción de l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alud y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evención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la enfermeda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 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590920"/>
            <a:ext cx="1981440" cy="12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incipios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métod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procedimient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ara la asistenci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648320"/>
            <a:ext cx="198108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Gestión d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yect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828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21337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5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38862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41911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9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38862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1911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6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1828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21337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6 C.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18288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1337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3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8862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41911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6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38862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1911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3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9436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2485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4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56386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21337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3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4952880"/>
            <a:ext cx="2590920" cy="685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Total  Créditos Académic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4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5943600"/>
            <a:ext cx="2209680" cy="609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Comic Sans MS"/>
              </a:rPr>
              <a:t>Esencia conceptua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Comic Sans MS"/>
              </a:rPr>
              <a:t>de enfermerí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56360" y="441360"/>
            <a:ext cx="74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Comic Sans MS"/>
              </a:rPr>
              <a:t>COMPONENTE DE FORMACIÓN PROFESIONAL ESPECÍF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295280"/>
            <a:ext cx="198108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Teorías, model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méto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 la asistenci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40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981080" cy="152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Teorías, model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y métodos par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la gestión de l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cesos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 y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de salu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1295280"/>
            <a:ext cx="198108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ces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investigación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 salud y 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886200"/>
            <a:ext cx="2133360" cy="1295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33"/>
                </a:solidFill>
                <a:latin typeface="Comic Sans MS"/>
              </a:rPr>
              <a:t>PROFUNDIZACIÓ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252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8 C.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25909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1680" y="2895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8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518148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5486400"/>
            <a:ext cx="914400" cy="304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10 C.A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5334120"/>
            <a:ext cx="914400" cy="304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Comic Sans MS"/>
              </a:rPr>
              <a:t>Propuest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3657600"/>
            <a:ext cx="1143000" cy="16765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Total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Crédito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Comic Sans MS"/>
              </a:rPr>
              <a:t>Académic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omic Sans MS"/>
              </a:rPr>
              <a:t>66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5943600"/>
            <a:ext cx="5257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Comic Sans MS"/>
              </a:rPr>
              <a:t>Métodos, proyección, interacción de enfermerí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52480" y="1523880"/>
            <a:ext cx="58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Comic Sans MS"/>
              </a:rPr>
              <a:t>4. PESO RELATIVO DE LOS COMPONENTES SEGÚN CARÁCTER GENERAL, BÁSICO, BASICO PROFESIONAL Y PROFESIONAL ESPECÍFIC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1219320"/>
            <a:ext cx="335304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12193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12193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2133720"/>
            <a:ext cx="335304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048120"/>
            <a:ext cx="335304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3962520"/>
            <a:ext cx="335304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ESPECÍF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304920"/>
            <a:ext cx="335304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COMPONENTES D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FORM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3049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Comic Sans MS"/>
              </a:rPr>
              <a:t>CRÉDIT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Comic Sans MS"/>
              </a:rPr>
              <a:t>ACADÉMIC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0481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21337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049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Comic Sans MS"/>
              </a:rPr>
              <a:t>PESO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Comic Sans MS"/>
              </a:rPr>
              <a:t>RELATIV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21337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9625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30481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1219320"/>
            <a:ext cx="914400" cy="304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09142"/>
                </a:solidFill>
                <a:latin typeface="Comic Sans MS"/>
              </a:rPr>
              <a:t>Propuest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219320"/>
            <a:ext cx="914400" cy="3045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09142"/>
                </a:solidFill>
                <a:latin typeface="Comic Sans MS"/>
              </a:rPr>
              <a:t>Propuest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4240" y="1676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237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7920" y="3200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4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7920" y="419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3962520"/>
            <a:ext cx="1981080" cy="9144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4876920"/>
            <a:ext cx="335304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Profund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876920"/>
            <a:ext cx="198108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4876920"/>
            <a:ext cx="198108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5257800"/>
            <a:ext cx="335304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Comic Sans MS"/>
              </a:rPr>
              <a:t>TOT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5257800"/>
            <a:ext cx="198108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5257800"/>
            <a:ext cx="198108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0880" y="4876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09142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5520" y="5257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98120" y="5257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</a:rPr>
              <a:t>16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82880" y="1676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9200" y="419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9200" y="3200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5920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09142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34080" y="4876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195640" y="2590920"/>
            <a:ext cx="47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5. CICLOS DE FORM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9920" y="304920"/>
            <a:ext cx="776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En este proceso tomará la calidad expres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7840" y="1143000"/>
            <a:ext cx="2888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Liderazg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erten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ertin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mpac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5960" y="164448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Egresad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67652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352680"/>
            <a:ext cx="803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ompetir en el ámbito profesional y social, cada vez más globalizado, sustentados en sus competencias profesionales, básicas, investigativas y humanísticas, con una amplia cultura profesional, y compromiso con las necesidades del contex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590920"/>
            <a:ext cx="12193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4f3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" y="533520"/>
            <a:ext cx="2590920" cy="6094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Component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Form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143000"/>
            <a:ext cx="25909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752480"/>
            <a:ext cx="2590920" cy="609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2362320"/>
            <a:ext cx="25909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838080"/>
            <a:ext cx="1828800" cy="3049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omic Sans MS"/>
              </a:rPr>
              <a:t>Bás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838080"/>
            <a:ext cx="1828800" cy="3049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omic Sans MS"/>
              </a:rPr>
              <a:t>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838080"/>
            <a:ext cx="1828800" cy="3049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omic Sans MS"/>
              </a:rPr>
              <a:t>Profund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533520"/>
            <a:ext cx="5486400" cy="3045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omic Sans MS"/>
              </a:rPr>
              <a:t>Ciclos del Programa Académ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1143000"/>
            <a:ext cx="1828800" cy="121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1828800" cy="259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3657600"/>
            <a:ext cx="2590920" cy="129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Profesion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Comic Sans MS"/>
              </a:rPr>
              <a:t>Específ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24800" y="3733920"/>
            <a:ext cx="1809720" cy="1218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952880"/>
            <a:ext cx="1828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1143000"/>
            <a:ext cx="0" cy="25909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143000"/>
            <a:ext cx="0" cy="12193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47160" y="12952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.A.: 57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21600" y="18288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Comic Sans MS"/>
              </a:rPr>
              <a:t>P.R.: 34%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77520" y="26416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C.A.:10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2280" y="39369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.R: 60%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04760" y="396252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.A.: 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84240" y="439596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P.R.: 6%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8280" y="1143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37800" y="1143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280" y="4648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8280" y="371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180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8280" y="242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800" y="2117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8280" y="173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8280" y="1508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37800" y="4708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37800" y="371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37800" y="3413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37800" y="242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37800" y="2117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37800" y="173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7800" y="1508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9920" y="2262240"/>
            <a:ext cx="807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ISIÓN DEL PROGRAMA DE ENFERMERÍ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04800" y="898560"/>
            <a:ext cx="725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El Programa de Enfermería, asume el proceso de formación de profesionales como un espacio de construcción de significados y sentidos, pero fundamentalmente de desarrollo human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57200"/>
            <a:ext cx="725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ceso sustentado en el reconocimiento del carácter conciente y contextualizado de la formación de enfermeras(os) comprometidos social y profesionalmente, flexibles en el manejo de la cultura y trascendentes en su contexto, en el que se destaque el desarrollo de actitudes y valores, especialmente ético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204156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ACRODISEÑO CURRICULA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0880" y="37018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(Modelo Profesional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2:06:46Z</dcterms:created>
  <dc:creator>Universidad de Cundinamarca</dc:creator>
  <dc:description/>
  <dc:language>en-US</dc:language>
  <cp:lastModifiedBy>Pedro</cp:lastModifiedBy>
  <dcterms:modified xsi:type="dcterms:W3CDTF">2008-11-24T19:36:34Z</dcterms:modified>
  <cp:revision>48</cp:revision>
  <dc:subject/>
  <dc:title>Presentación de PowerPoint</dc:title>
</cp:coreProperties>
</file>