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4ACB-BF5C-452D-BC25-346060E02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8D88-8A87-4297-B208-57ECFEC17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8645A-715D-47EA-AB33-FB2EABE39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2643-99BD-4EB6-9AE9-CDF752B5E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65368-D608-47A2-8897-928FD6180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31236-6A4E-4B3E-8862-26B72AC0C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4D53A-0DFC-4261-8F7B-B9A17C6F0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53F44-623C-4A0B-9EC9-3682A796B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7B433-76A3-490A-BB85-E26E3B4A3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57AD0-C0E9-4711-8AA6-25CD0EF90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A2BD-767A-44A8-8B3B-EB3F5F3B2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9530E-1690-46C5-B774-F848D235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46528-D5C9-49E7-9953-0353A803A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7647C-C0A2-4D7D-B688-8F2E3B9B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4E908-3EA8-40DD-A847-82943167D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4F245-5CCD-4F07-B00E-29BB893BC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CB396-0710-4EAA-A8F1-6A2FA250D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6588-832D-4104-9DD5-8746CC17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4BE7-3CE6-40D6-B429-3F15711B8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D9FB3-960A-4C43-9F7E-FFAB3716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79A67-62C8-49F5-B95D-29927A95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1CBF-D965-469E-ADB8-5712B2ED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7972-973C-4B4E-BAF5-84499637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C8F9-497F-45EF-B314-5D50E9FAB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6920-DB74-44D2-954D-A316F1F5E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1A71-DF7B-47DC-8334-E284EED364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323640" y="333360"/>
            <a:ext cx="8569080" cy="14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9933"/>
                </a:solidFill>
                <a:latin typeface="Arial"/>
              </a:rPr>
              <a:t>EDUCACIÓN SUPERIOR AGROPECUARIA EN EL PERÚ</a:t>
            </a:r>
            <a:endParaRPr b="0" lang="en-US" sz="4400" spc="-1" strike="noStrike">
              <a:solidFill>
                <a:srgbClr val="ccecff"/>
              </a:solidFill>
              <a:latin typeface="Arial"/>
            </a:endParaRPr>
          </a:p>
        </p:txBody>
      </p:sp>
      <p:sp>
        <p:nvSpPr>
          <p:cNvPr id="213" name="PlaceHolder 2"/>
          <p:cNvSpPr>
            <a:spLocks noGrp="1"/>
          </p:cNvSpPr>
          <p:nvPr>
            <p:ph type="subTitle"/>
          </p:nvPr>
        </p:nvSpPr>
        <p:spPr>
          <a:xfrm>
            <a:off x="2743200" y="6257520"/>
            <a:ext cx="6400800" cy="600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Jorge Aliaga Gutiérrez</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259920"/>
            <a:ext cx="8569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LA EDUCACIÓN SUPERIOR EN CIENCIAS AGROPECUARIAS EN EL PERÚ</a:t>
            </a:r>
            <a:br>
              <a:rPr sz="3200"/>
            </a:br>
            <a:endParaRPr b="0" lang="en-US" sz="32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n 78 carreras afines ofrecidas en áreas como zootecnia, industrias alimentarias, ingeniería agroalimentaria, ingeniería agrícola, veterinaria las que sumadas a las facultades de agronomía totalizan 25,000 alumnos matriculados que constituye el 8% de la población estudiantil universi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LA EDUCACIÓN SUPERIOR EN CIENCIAS AGROPECUARIAS EN EL PERÚ</a:t>
            </a:r>
            <a:br>
              <a:rPr sz="3200"/>
            </a:br>
            <a:endParaRPr b="0" lang="en-US" sz="3200" spc="-1" strike="noStrike">
              <a:solidFill>
                <a:srgbClr val="ccecff"/>
              </a:solidFill>
              <a:latin typeface="Arial"/>
            </a:endParaRPr>
          </a:p>
        </p:txBody>
      </p:sp>
      <p:sp>
        <p:nvSpPr>
          <p:cNvPr id="233" name="PlaceHolder 2"/>
          <p:cNvSpPr>
            <a:spLocks noGrp="1"/>
          </p:cNvSpPr>
          <p:nvPr>
            <p:ph/>
          </p:nvPr>
        </p:nvSpPr>
        <p:spPr>
          <a:xfrm>
            <a:off x="468360" y="1628280"/>
            <a:ext cx="8362800" cy="446436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currículas de las facultades agrarias deben ser actualizadas constantemente y en forma más dinámica. </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deben atender con alta prioridad la actualización de sus docentes y no docentes.</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n la formación actual de los profesionales agrarios en ciencias sociales y humanidades hay una mayor dinámica, se requiere elevar más la capacidad de análisis sobre los procesos políticos-administrativos sobre cultura local y cosmovisión.</a:t>
            </a:r>
            <a:endParaRPr b="0" lang="en-US" sz="2400" spc="-1" strike="noStrike">
              <a:solidFill>
                <a:srgbClr val="ffffff"/>
              </a:solidFill>
              <a:latin typeface="Arial"/>
            </a:endParaRPr>
          </a:p>
          <a:p>
            <a:pPr marL="343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269640"/>
            <a:ext cx="8713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LA EDUCACIÓN SUPERIOR EN CIENCIAS AGROPECUARIAS EN EL PERÚ</a:t>
            </a:r>
            <a:br>
              <a:rPr sz="3200"/>
            </a:br>
            <a:endParaRPr b="0" lang="en-US" sz="3200" spc="-1" strike="noStrike">
              <a:solidFill>
                <a:srgbClr val="ccecff"/>
              </a:solidFill>
              <a:latin typeface="Arial"/>
            </a:endParaRPr>
          </a:p>
        </p:txBody>
      </p:sp>
      <p:sp>
        <p:nvSpPr>
          <p:cNvPr id="235" name="PlaceHolder 2"/>
          <p:cNvSpPr>
            <a:spLocks noGrp="1"/>
          </p:cNvSpPr>
          <p:nvPr>
            <p:ph/>
          </p:nvPr>
        </p:nvSpPr>
        <p:spPr>
          <a:xfrm>
            <a:off x="457200" y="1413000"/>
            <a:ext cx="8362800" cy="4752720"/>
          </a:xfrm>
          <a:prstGeom prst="rect">
            <a:avLst/>
          </a:prstGeom>
          <a:noFill/>
          <a:ln w="0">
            <a:noFill/>
          </a:ln>
        </p:spPr>
        <p:txBody>
          <a:bodyPr lIns="90000" rIns="90000" tIns="46800" bIns="46800" anchor="t">
            <a:normAutofit/>
          </a:bodyPr>
          <a:p>
            <a:pPr marL="343080" indent="-343080">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n las universidades se enseñan cursos muy desfasados de la realidad agraria campesina; tecnologías que nunca estarán al alcance de los pequeños productores</a:t>
            </a:r>
            <a:endParaRPr b="0" lang="en-US" sz="2400" spc="-1" strike="noStrike">
              <a:solidFill>
                <a:srgbClr val="ffffff"/>
              </a:solidFill>
              <a:latin typeface="Arial"/>
            </a:endParaRPr>
          </a:p>
          <a:p>
            <a:pPr marL="343080" indent="-343080">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Existe necesidad de cambios urgentes en la educación superior para atender la demanda de calidad académica que plantea el desarrollo nacional y los retos del entorno global. </a:t>
            </a:r>
            <a:endParaRPr b="0" lang="en-US" sz="2400" spc="-1" strike="noStrike">
              <a:solidFill>
                <a:srgbClr val="ffffff"/>
              </a:solidFill>
              <a:latin typeface="Arial"/>
            </a:endParaRPr>
          </a:p>
          <a:p>
            <a:pPr marL="343080" indent="-343080">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ha establecido el Sistema Nacional de Evaluación, Acreditación y Certificación de la Calidad Educativa para lograr alto nivel de calidad o excelencia académica y de gestión educativa de las universidades del país.</a:t>
            </a:r>
            <a:endParaRPr b="0" lang="en-US" sz="2400" spc="-1" strike="noStrike">
              <a:solidFill>
                <a:srgbClr val="ffffff"/>
              </a:solidFill>
              <a:latin typeface="Arial"/>
            </a:endParaRPr>
          </a:p>
          <a:p>
            <a:pPr marL="343080" indent="0">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37" name="PlaceHolder 2"/>
          <p:cNvSpPr>
            <a:spLocks noGrp="1"/>
          </p:cNvSpPr>
          <p:nvPr>
            <p:ph/>
          </p:nvPr>
        </p:nvSpPr>
        <p:spPr>
          <a:xfrm>
            <a:off x="457200" y="1599840"/>
            <a:ext cx="8291520" cy="4853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Fortalezas:</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Docentes con experiencia y alto nivel académico</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Mejora de los sueldos de los docentes universitarios.</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educación superior agropecuaria competitiva es un negocio rentable en el Perú (Cayetano Heredia, Científica del Sur).</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Capacidad para realizar actividades de extensión y proyección social.</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Capacidad para realizar actividades de investigación y proyectos de desarrollo.</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de provincias cuentan con recursos económicos provenientes del canon minero o petrolero.</a:t>
            </a: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regionalización brinda mayores oportunidades de desarrollo a las universidades de provi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39" name="PlaceHolder 2"/>
          <p:cNvSpPr>
            <a:spLocks noGrp="1"/>
          </p:cNvSpPr>
          <p:nvPr>
            <p:ph/>
          </p:nvPr>
        </p:nvSpPr>
        <p:spPr>
          <a:xfrm>
            <a:off x="457200" y="1599840"/>
            <a:ext cx="8291520" cy="4853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Oportunidades:</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Globalización.</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existencia de la Asociación Peruana de Facultades Agrarias (APFA) y la Federación Andina de Asociaciones de Educación Superior de Ciencias Agraria y Afines (FAESCA).</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tecnologías modernas de información y comunicación.</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Vivimos la era del conocimiento.</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educación y la investigación bases fundamentales del desarrollo de las naciones.</a:t>
            </a:r>
            <a:endParaRPr b="0" lang="en-US" sz="2400" spc="-1" strike="noStrike">
              <a:solidFill>
                <a:srgbClr val="ffffff"/>
              </a:solidFill>
              <a:latin typeface="Arial"/>
            </a:endParaRPr>
          </a:p>
          <a:p>
            <a:pPr marL="343080" indent="-343080">
              <a:lnSpc>
                <a:spcPct val="80000"/>
              </a:lnSpc>
              <a:spcBef>
                <a:spcPts val="9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programas doctorales en el Perú para la capacitación de los docent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Oportunidades:</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Incremento de las exportaciones de productos agropecuarios demanda profesionales competitivos.</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Sistema Nacional de Innovación Agraria (SNIA) contribuirá al desarrollo del sector agropecuario.</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Demanda de innovación tecnológica de productores</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Incremento de la demanda de productos orgánicos.</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programas de biodiversidad y conservación.</a:t>
            </a:r>
            <a:endParaRPr b="0" lang="en-US" sz="2400" spc="-1" strike="noStrike">
              <a:solidFill>
                <a:srgbClr val="ffffff"/>
              </a:solidFill>
              <a:latin typeface="Arial"/>
            </a:endParaRPr>
          </a:p>
          <a:p>
            <a:pPr marL="318960" indent="-31896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Existe fuentes nacionales e internacionales de financiamiento para investigación, extensión y desarrollo rur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4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9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Debilidades:</a:t>
            </a:r>
            <a:endParaRPr b="0" lang="en-US" sz="2400" spc="-1" strike="noStrike">
              <a:solidFill>
                <a:srgbClr val="ffffff"/>
              </a:solidFill>
              <a:latin typeface="Arial"/>
            </a:endParaRPr>
          </a:p>
          <a:p>
            <a:pPr lvl="1" marL="628560" indent="-35712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Facultades agrarias en el país con presupuestos insuficientes y por tanto deficientemente implementadas.</a:t>
            </a:r>
            <a:endParaRPr b="0" lang="en-US" sz="2400" spc="-1" strike="noStrike">
              <a:solidFill>
                <a:srgbClr val="ffffff"/>
              </a:solidFill>
              <a:latin typeface="Arial"/>
            </a:endParaRPr>
          </a:p>
          <a:p>
            <a:pPr lvl="1" marL="628560" indent="-35712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la necesidad de modernizar el marco legal y mejorar el sistema de elección de autoridades.</a:t>
            </a:r>
            <a:endParaRPr b="0" lang="en-US" sz="2400" spc="-1" strike="noStrike">
              <a:solidFill>
                <a:srgbClr val="ffffff"/>
              </a:solidFill>
              <a:latin typeface="Arial"/>
            </a:endParaRPr>
          </a:p>
          <a:p>
            <a:pPr lvl="1" marL="628560" indent="-35712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Disminución del número de investigaciones debido a la existencia de otras modalidades para optar el título profesional: ciclos optativos, examen profesional, trabajos profesionales, etc.</a:t>
            </a:r>
            <a:endParaRPr b="0" lang="en-US" sz="2400" spc="-1" strike="noStrike">
              <a:solidFill>
                <a:srgbClr val="ffffff"/>
              </a:solidFill>
              <a:latin typeface="Arial"/>
            </a:endParaRPr>
          </a:p>
          <a:p>
            <a:pPr lvl="1" marL="628560" indent="-35712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oca difusión y aplicación de los resultados de la investigación.</a:t>
            </a:r>
            <a:endParaRPr b="0" lang="en-US" sz="2400" spc="-1" strike="noStrike">
              <a:solidFill>
                <a:srgbClr val="ffffff"/>
              </a:solidFill>
              <a:latin typeface="Arial"/>
            </a:endParaRPr>
          </a:p>
          <a:p>
            <a:pPr lvl="1" marL="628560" indent="-35712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Deficiente proceso de autoevaluación y acreditación de las facult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4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99"/>
                </a:solidFill>
                <a:latin typeface="Arial"/>
              </a:rPr>
              <a:t>Debilidades:</a:t>
            </a:r>
            <a:endParaRPr b="0" lang="en-US" sz="28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Falta modernizar los laboratorios de enseñanza.</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Deficiente integración entre las universidades y las empresas privadas.</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oco dinamismo curricular y falta de profesionales especialistas en currículo que promuevan el cambio.</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Falta de una política de promoción y colocación en empleos a los mejores egresados y seguimiento a los egresados.</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tructura organizacional desactualizada de las facultades.</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Subutilización de recursos e infraestructura.</a:t>
            </a:r>
            <a:endParaRPr b="0" lang="en-US" sz="2400" spc="-1" strike="noStrike">
              <a:solidFill>
                <a:srgbClr val="ffffff"/>
              </a:solidFill>
              <a:latin typeface="Arial"/>
            </a:endParaRPr>
          </a:p>
          <a:p>
            <a:pPr lvl="1" marL="743040" indent="-285840">
              <a:lnSpc>
                <a:spcPct val="80000"/>
              </a:lnSpc>
              <a:spcBef>
                <a:spcPts val="601"/>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Falta de identificación y compromiso de los docentes con su facultad y univers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FODA DE LA EDUCACIÓN SUPERIOR AGROPECUARIA EN EL PERÚ</a:t>
            </a:r>
            <a:endParaRPr b="0" lang="en-US" sz="32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Amenazas:</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Competencia de la educación superior privada.</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Falta de planes estratégicos institucionales.</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Bajo presupuesto y disminución del mismo para las universidades públicas de parte del estado.</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Huelga indefinida de las universidades públicas por la homologación e incremento del presupuesto.</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rofesionales jóvenes del sector que no encuentran oportunidades laborales se van al exteri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EDUCACIÓN SUPERIOR AGROPECUARIA EN EL PERÚ</a:t>
            </a:r>
            <a:endParaRPr b="0" lang="en-US" sz="3200" spc="-1" strike="noStrike">
              <a:solidFill>
                <a:srgbClr val="ccecff"/>
              </a:solidFill>
              <a:latin typeface="Arial"/>
            </a:endParaRPr>
          </a:p>
        </p:txBody>
      </p:sp>
      <p:sp>
        <p:nvSpPr>
          <p:cNvPr id="249"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Conclusiones:</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ESA en el Perú juega un rol protagónico en el desarrollo de la agricultura, ganadería, forestaría, pesquería y agroindustria nacional. Sin embargo, el estado no provee del presupuesto necesario para cumplir eficientemente dicho rol. </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falta de recursos económicos y bajos sueldos de docentes y no docentes ponen en riesgo al sistema universitario peruano.</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os gobernantes de turno no entienden el rol de las universidades en el desarrollo del paí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EDUCACIÓN SUPERIOR AGROPECUARIA EN EL PERÚ</a:t>
            </a:r>
            <a:endParaRPr b="0" lang="en-US" sz="32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Introducción:</a:t>
            </a:r>
            <a:endParaRPr b="0" lang="en-US" sz="2400" spc="-1" strike="noStrike">
              <a:solidFill>
                <a:srgbClr val="ffffff"/>
              </a:solidFill>
              <a:latin typeface="Arial"/>
            </a:endParaRPr>
          </a:p>
          <a:p>
            <a:pPr marL="343080" indent="-343080">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Perú tiene una extensión territorial de 128.5 millones de hectáreas.</a:t>
            </a:r>
            <a:endParaRPr b="0" lang="en-US" sz="2400" spc="-1" strike="noStrike">
              <a:solidFill>
                <a:srgbClr val="ffffff"/>
              </a:solidFill>
              <a:latin typeface="Arial"/>
            </a:endParaRPr>
          </a:p>
          <a:p>
            <a:pPr marL="343080" indent="-343080">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n la Costa 11%, en la Sierra 30% y en la Selva 59%.</a:t>
            </a:r>
            <a:endParaRPr b="0" lang="en-US" sz="2400" spc="-1" strike="noStrike">
              <a:solidFill>
                <a:srgbClr val="ffffff"/>
              </a:solidFill>
              <a:latin typeface="Arial"/>
            </a:endParaRPr>
          </a:p>
          <a:p>
            <a:pPr marL="343080" indent="-343080">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3 regiones producen bienes y servicios para atender la demanda de una población de 28 millones de personas, así como a la agro exportación que se ha incrementado en los últimos años.</a:t>
            </a:r>
            <a:endParaRPr b="0" lang="en-US" sz="2400" spc="-1" strike="noStrike">
              <a:solidFill>
                <a:srgbClr val="ffffff"/>
              </a:solidFill>
              <a:latin typeface="Arial"/>
            </a:endParaRPr>
          </a:p>
          <a:p>
            <a:pPr marL="343080" indent="-343080">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universidad forma profesionales competitivos que requiere el sector exportad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EDUCACIÓN SUPERIOR AGROPECUARIA EN EL PERÚ</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Conclusiones:</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os cambios registrados en el mundo exigen al sistema universitario cambios rápidos para no perder espacio y contribuir eficientemente al desarrollo del país. Para lograrlo se necesita mayor presupuesto, un marco legal adecuado y un cambio de actitudes de todos los miembros que integran el sistema.</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 de vital importancia fortalecer la Asociación Peruana de Facultades Agrarias (APFA) y la Federación Andina de Asociaciones de Educación Superior Agrarias y Ciencia Afines (FAESCA).</a:t>
            </a:r>
            <a:endParaRPr b="0" lang="en-US" sz="2400" spc="-1" strike="noStrike">
              <a:solidFill>
                <a:srgbClr val="ffffff"/>
              </a:solidFill>
              <a:latin typeface="Arial"/>
            </a:endParaRPr>
          </a:p>
          <a:p>
            <a:pPr marL="34308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6360" y="-27000"/>
            <a:ext cx="9180360" cy="6885000"/>
          </a:xfrm>
          <a:prstGeom prst="rect">
            <a:avLst/>
          </a:prstGeom>
          <a:ln w="0">
            <a:noFill/>
          </a:ln>
        </p:spPr>
      </p:pic>
      <p:sp>
        <p:nvSpPr>
          <p:cNvPr id="253" name=""/>
          <p:cNvSpPr txBox="1"/>
          <p:nvPr/>
        </p:nvSpPr>
        <p:spPr>
          <a:xfrm>
            <a:off x="1979640" y="2349360"/>
            <a:ext cx="51512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8e4"/>
                  </a:solidFill>
                  <a:miter/>
                </a:ln>
                <a:solidFill>
                  <a:srgbClr val="ffff00"/>
                </a:solidFill>
                <a:latin typeface="Arial Black"/>
              </a:rPr>
              <a:t>MUCHAS GRACIAS</a:t>
            </a:r>
            <a:endParaRPr b="0" lang="en-US" sz="1800" spc="1" strike="noStrike">
              <a:ln w="9360">
                <a:solidFill>
                  <a:srgbClr val="0088e4"/>
                </a:solidFill>
                <a:miter/>
              </a:ln>
              <a:solidFill>
                <a:srgbClr val="ffff00"/>
              </a:solidFill>
              <a:latin typeface="Arial Black"/>
              <a:ea typeface="Arial Black"/>
            </a:endParaRPr>
          </a:p>
        </p:txBody>
      </p:sp>
      <p:sp>
        <p:nvSpPr>
          <p:cNvPr id="254" name=""/>
          <p:cNvSpPr/>
          <p:nvPr/>
        </p:nvSpPr>
        <p:spPr>
          <a:xfrm>
            <a:off x="4572000" y="5392800"/>
            <a:ext cx="4572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33"/>
                </a:solidFill>
                <a:latin typeface="Arial"/>
              </a:rPr>
              <a:t>Dr. Jorge Luis Aliaga Gutiérrez</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ff33"/>
                </a:solidFill>
                <a:latin typeface="Arial"/>
              </a:rPr>
              <a:t>Decano de la Facultad de Zootecn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ff33"/>
                </a:solidFill>
                <a:latin typeface="Arial"/>
              </a:rPr>
              <a:t>Universidad Nacional Agraria La Moli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99ff33"/>
                </a:solidFill>
                <a:uFillTx/>
                <a:latin typeface="Arial"/>
              </a:rPr>
              <a:t> </a:t>
            </a:r>
            <a:r>
              <a:rPr b="0" lang="es-ES_tradnl" sz="1800" spc="-1" strike="noStrike" u="sng">
                <a:solidFill>
                  <a:srgbClr val="99ff33"/>
                </a:solidFill>
                <a:uFillTx/>
                <a:latin typeface="Arial"/>
              </a:rPr>
              <a:t>jaliaga@lamolina.edu.pe fzootecnia@lamolina.edu.pe</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1000" fill="hold"/>
                                        <p:tgtEl>
                                          <p:spTgt spid="253"/>
                                        </p:tgtEl>
                                        <p:attrNameLst>
                                          <p:attrName>ppt_w</p:attrName>
                                        </p:attrNameLst>
                                      </p:cBhvr>
                                      <p:tavLst>
                                        <p:tav tm="0">
                                          <p:val>
                                            <p:fltVal val="0"/>
                                          </p:val>
                                        </p:tav>
                                        <p:tav tm="100000">
                                          <p:val>
                                            <p:strVal val="#ppt_w"/>
                                          </p:val>
                                        </p:tav>
                                      </p:tavLst>
                                    </p:anim>
                                    <p:anim calcmode="lin" valueType="num">
                                      <p:cBhvr additive="repl">
                                        <p:cTn id="8" dur="10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EDUCACIÓN SUPERIOR AGROPECUARIA EN EL PERÚ</a:t>
            </a:r>
            <a:endParaRPr b="0" lang="en-US" sz="32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99"/>
                </a:solidFill>
                <a:latin typeface="Arial"/>
              </a:rPr>
              <a:t>Introducción:</a:t>
            </a:r>
            <a:endParaRPr b="0" lang="en-US" sz="2400" spc="-1" strike="noStrike">
              <a:solidFill>
                <a:srgbClr val="ffffff"/>
              </a:solidFill>
              <a:latin typeface="Arial"/>
            </a:endParaRPr>
          </a:p>
          <a:p>
            <a:pPr marL="343080" indent="-343080">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minifundio y la mayor tenencia de la tierra cubierta con pastizales naturales en manos de las comunidades campesinas originan baja productividad.</a:t>
            </a:r>
            <a:endParaRPr b="0" lang="en-US" sz="2400" spc="-1" strike="noStrike">
              <a:solidFill>
                <a:srgbClr val="ffffff"/>
              </a:solidFill>
              <a:latin typeface="Arial"/>
            </a:endParaRPr>
          </a:p>
          <a:p>
            <a:pPr marL="343080" indent="-343080">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la necesidad de tecnificar los sistemas de producción para incrementar la productividad y elevar el nivel de vida de miles de familias campesinas. </a:t>
            </a:r>
            <a:endParaRPr b="0" lang="en-US" sz="2400" spc="-1" strike="noStrike">
              <a:solidFill>
                <a:srgbClr val="ffffff"/>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SITUACIÓN NACIONAL DEL</a:t>
            </a:r>
            <a:br>
              <a:rPr sz="3200"/>
            </a:br>
            <a:r>
              <a:rPr b="1" lang="es-PE" sz="3200" spc="-1" strike="noStrike">
                <a:solidFill>
                  <a:srgbClr val="ffff00"/>
                </a:solidFill>
                <a:latin typeface="Arial"/>
              </a:rPr>
              <a:t>SISTEMA UNIVERSITARIO PERUANO</a:t>
            </a:r>
            <a:endParaRPr b="0" lang="en-US" sz="3200" spc="-1" strike="noStrike">
              <a:solidFill>
                <a:srgbClr val="ccecff"/>
              </a:solidFill>
              <a:latin typeface="Arial"/>
            </a:endParaRPr>
          </a:p>
        </p:txBody>
      </p:sp>
      <p:sp>
        <p:nvSpPr>
          <p:cNvPr id="219"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xiste 79 universidades: 33 públicas y 46 privadas.</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oblación estudiantil: mas de 400 mil.</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60% de los estudiantes se educan en las universidades públicas distribuidas en todo el país. </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resión de selección: 6.6 a 1 en las públicas y 1.3 en las privadas (relación de postulantes e ingresantes).</a:t>
            </a:r>
            <a:endParaRPr b="0" lang="en-US" sz="2400" spc="-1" strike="noStrike">
              <a:solidFill>
                <a:srgbClr val="ffffff"/>
              </a:solidFill>
              <a:latin typeface="Arial"/>
            </a:endParaRPr>
          </a:p>
          <a:p>
            <a:pPr marL="343080" indent="-343080">
              <a:lnSpc>
                <a:spcPct val="9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públicas ofrecen 902 carreras de base tecnológica y las privadas 366 carreras profesionales tipo tiza y pizarr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SITUACIÓN NACIONAL DEL</a:t>
            </a:r>
            <a:br>
              <a:rPr sz="3200"/>
            </a:br>
            <a:r>
              <a:rPr b="1" lang="es-PE" sz="3200" spc="-1" strike="noStrike">
                <a:solidFill>
                  <a:srgbClr val="ffff00"/>
                </a:solidFill>
                <a:latin typeface="Arial"/>
              </a:rPr>
              <a:t>SISTEMA UNIVERSITARIO PERUANO</a:t>
            </a:r>
            <a:endParaRPr b="0" lang="en-US" sz="32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sistema universitario peruano cuenta con 28,789 profesores: 65% laboran en U públicas y el 35% en U privadas.</a:t>
            </a:r>
            <a:endParaRPr b="0" lang="en-US" sz="2400" spc="-1" strike="noStrike">
              <a:solidFill>
                <a:srgbClr val="ffffff"/>
              </a:solidFill>
              <a:latin typeface="Arial"/>
            </a:endParaRPr>
          </a:p>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 relación alumnos/profesor promedio es 12.7 con valores extremos de 6.5 en San Marcos y 30.2 en la U de Tumbes.</a:t>
            </a:r>
            <a:endParaRPr b="0" lang="en-US" sz="2400" spc="-1" strike="noStrike">
              <a:solidFill>
                <a:srgbClr val="ffffff"/>
              </a:solidFill>
              <a:latin typeface="Arial"/>
            </a:endParaRPr>
          </a:p>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os docentes universitarios debido a los bajos sueldos, algunas universidades, actualmente, están en huelga.</a:t>
            </a:r>
            <a:endParaRPr b="0" lang="en-US" sz="2400" spc="-1" strike="noStrike">
              <a:solidFill>
                <a:srgbClr val="ffffff"/>
              </a:solidFill>
              <a:latin typeface="Arial"/>
            </a:endParaRPr>
          </a:p>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personal no docente (empleados, secretarias y obreros) es numéricamente superior al número de docentes (2 a 1).</a:t>
            </a:r>
            <a:endParaRPr b="0" lang="en-US" sz="2400" spc="-1" strike="noStrike">
              <a:solidFill>
                <a:srgbClr val="ffffff"/>
              </a:solidFill>
              <a:latin typeface="Arial"/>
            </a:endParaRPr>
          </a:p>
          <a:p>
            <a:pPr marL="343080" indent="0">
              <a:lnSpc>
                <a:spcPct val="8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SITUACIÓN NACIONAL DEL</a:t>
            </a:r>
            <a:br>
              <a:rPr sz="3200"/>
            </a:br>
            <a:r>
              <a:rPr b="1" lang="es-PE" sz="3200" spc="-1" strike="noStrike">
                <a:solidFill>
                  <a:srgbClr val="ffff00"/>
                </a:solidFill>
                <a:latin typeface="Arial"/>
              </a:rPr>
              <a:t>SISTEMA UNIVERSITARIO PERUANO</a:t>
            </a:r>
            <a:endParaRPr b="0" lang="en-US" sz="32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públicas tienen bajos presupuestos desde hace varios años y será inferior en el 2009.</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generan sus propios recursos para atender sus necesidades.</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Universidades de provincias, cuentan con canon minero o petrolero.</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l estado invierte $1,200 dólares americanos por alumno/año, con variaciones que va desde $ 500 dólares por alumno en la Cantuta que se dedica al sector educación y unos $ 2,500 dólares por alumno en universidades técnicas como La Molina y la U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SITUACIÓN DE LAS UNIVERSIDADES PÚBLICAS FRENTE A LAS PRIVADAS</a:t>
            </a:r>
            <a:endParaRPr b="0" lang="en-US" sz="3200" spc="-1" strike="noStrike">
              <a:solidFill>
                <a:srgbClr val="ccecff"/>
              </a:solidFill>
              <a:latin typeface="Arial"/>
            </a:endParaRPr>
          </a:p>
        </p:txBody>
      </p:sp>
      <p:sp>
        <p:nvSpPr>
          <p:cNvPr id="225" name="PlaceHolder 2"/>
          <p:cNvSpPr>
            <a:spLocks noGrp="1"/>
          </p:cNvSpPr>
          <p:nvPr>
            <p:ph/>
          </p:nvPr>
        </p:nvSpPr>
        <p:spPr>
          <a:xfrm>
            <a:off x="468360" y="1927080"/>
            <a:ext cx="8229600" cy="294192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Has más universidades privadas (46) que públicas (33), que genera un sesgo en la toma de decisiones de la Asamblea Nacional de Rectores, debido al mayor número de las universidades privadas y poseer objetivos diferentes. </a:t>
            </a:r>
            <a:endParaRPr b="0" lang="en-US" sz="2400" spc="-1" strike="noStrike">
              <a:solidFill>
                <a:srgbClr val="ffffff"/>
              </a:solidFill>
              <a:latin typeface="Arial"/>
            </a:endParaRPr>
          </a:p>
          <a:p>
            <a:pPr marL="343080" indent="-343080">
              <a:lnSpc>
                <a:spcPct val="80000"/>
              </a:lnSpc>
              <a:spcBef>
                <a:spcPts val="901"/>
              </a:spcBef>
              <a:spcAft>
                <a:spcPts val="9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Hay tendencia al incremento de las universidades privadas por existir proyectos de creación para más universidades priv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SITUACIÓN DE LAS UNIVERSIDADES PÚBLICAS FRENTE A LAS PRIVADAS</a:t>
            </a:r>
            <a:endParaRPr b="0" lang="en-US" sz="3200" spc="-1" strike="noStrike">
              <a:solidFill>
                <a:srgbClr val="ccecff"/>
              </a:solidFill>
              <a:latin typeface="Arial"/>
            </a:endParaRPr>
          </a:p>
        </p:txBody>
      </p:sp>
      <p:sp>
        <p:nvSpPr>
          <p:cNvPr id="227" name="PlaceHolder 2"/>
          <p:cNvSpPr>
            <a:spLocks noGrp="1"/>
          </p:cNvSpPr>
          <p:nvPr>
            <p:ph/>
          </p:nvPr>
        </p:nvSpPr>
        <p:spPr>
          <a:xfrm>
            <a:off x="457200" y="1600200"/>
            <a:ext cx="83628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privadas aprovechan los docentes de las universidades públicas que financian la capacitación y pagan los beneficios sociales de sus docent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privadas privilegian carreras en economía, administración y ciencias sociales pero no incursionan en ciencias naturales. Enfocan la educación superior como un negoci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universidades públicas tienen más prestigio; sin embargo, en el momento actual el gobierno de turno está aplicando una política asfixiante y tendencia a la privatización debido a la baja asignación presupuestal y poca importancia a su desarrol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560" y="414000"/>
            <a:ext cx="8569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Arial"/>
              </a:rPr>
              <a:t>LA EDUCACIÓN SUPERIOR EN CIENCIAS AGROPECUARIAS EN EL PERÚ</a:t>
            </a:r>
            <a:br>
              <a:rPr sz="3200"/>
            </a:br>
            <a:endParaRPr b="0" lang="en-US" sz="3200" spc="-1" strike="noStrike">
              <a:solidFill>
                <a:srgbClr val="ccecff"/>
              </a:solidFill>
              <a:latin typeface="Arial"/>
            </a:endParaRPr>
          </a:p>
        </p:txBody>
      </p:sp>
      <p:sp>
        <p:nvSpPr>
          <p:cNvPr id="229" name="PlaceHolder 2"/>
          <p:cNvSpPr>
            <a:spLocks noGrp="1"/>
          </p:cNvSpPr>
          <p:nvPr>
            <p:ph/>
          </p:nvPr>
        </p:nvSpPr>
        <p:spPr>
          <a:xfrm>
            <a:off x="468360" y="1742760"/>
            <a:ext cx="8229600" cy="4349880"/>
          </a:xfrm>
          <a:prstGeom prst="rect">
            <a:avLst/>
          </a:prstGeom>
          <a:noFill/>
          <a:ln w="0">
            <a:noFill/>
          </a:ln>
        </p:spPr>
        <p:txBody>
          <a:bodyPr lIns="90000" rIns="90000" tIns="46800" bIns="46800" anchor="t">
            <a:normAutofit/>
          </a:bodyPr>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n el Perú existe 25 facultades de agronomía (FA): 23 en públicas y 2 en privadas. </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Las FA tienen entre 200 a 500 alumnos, siendo la más grande la FA de la UNA La Molina (724) considerada como la más antigua y pionera en el desarrollo de la agricultura en el Perú. </a:t>
            </a:r>
            <a:endParaRPr b="0" lang="en-US" sz="2400" spc="-1" strike="noStrike">
              <a:solidFill>
                <a:srgbClr val="ffffff"/>
              </a:solidFill>
              <a:latin typeface="Arial"/>
            </a:endParaRPr>
          </a:p>
          <a:p>
            <a:pPr marL="343080" indent="-343080">
              <a:lnSpc>
                <a:spcPct val="90000"/>
              </a:lnSpc>
              <a:spcBef>
                <a:spcPts val="901"/>
              </a:spcBef>
              <a:spcAft>
                <a:spcPts val="601"/>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n el Perú existe 12 facultades de zootecnia en universidades públicas y 4 facultades de veterinaria y zootecnia en universidades priv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3:11:34Z</dcterms:created>
  <dc:creator>Dr. Jorge Aliaga</dc:creator>
  <dc:description/>
  <dc:language>en-US</dc:language>
  <cp:lastModifiedBy>Dr. Jorge Aliaga</cp:lastModifiedBy>
  <dcterms:modified xsi:type="dcterms:W3CDTF">2008-12-06T11:52:00Z</dcterms:modified>
  <cp:revision>8</cp:revision>
  <dc:subject/>
  <dc:title>EDUCACIÓN SUPERIOR AGROPECUARIA EN EL PERÚ</dc:title>
</cp:coreProperties>
</file>