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F15-0CC5-4885-AC82-D5B30413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9FA-EACF-4FC7-878F-41CB212C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1BE-BBD4-43C5-8624-CCAA6150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180-BD15-492C-8EB0-6242B8AE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9B8-A244-496E-AD27-472CE20C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1C51-C296-4658-8336-2CCCD218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C18-77BC-4929-9AF6-64A2105B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F90B-D689-4AAD-A46B-75DE8440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6EC6-A83E-4F91-AE8E-17F48C8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1E29-FAA3-44A3-BF7B-D7D6A869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FB0E-B916-4964-B5FC-5DD7B3B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A5F-9746-4C32-A9A9-5AD30143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3D37-96F3-4F65-B0B7-19A952C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70C-5630-4BA0-B12E-F0E4763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F5CC-D781-4071-B1C8-CA361F6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1C3E-144D-4F2C-BF50-6C06EB25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02DD-B181-4EEB-B814-B76F5089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A48C3-21AA-4FD5-9CE0-817055B5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1DDB-DCA7-4C30-9590-33C05EF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C4AE-6144-43E0-991B-2923411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DCC2-6E24-4805-A89D-DCED3B6D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A2F8-AF73-4F27-8375-6675877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E6B-4719-4469-8312-011D169F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E2CA-349F-4265-B66C-1071BE9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317D-D9BA-4F86-A33F-1594570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E735-9308-4D4B-A44C-6DCD3E6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7B4F-B298-4450-B00F-CEEB86B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C113-D12B-4627-B31B-03A9C6B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F302-B6AD-434C-8034-A215CF62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805B-234C-40C9-A58B-55B394D1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5CA5-92A5-479D-80A9-E43F968B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3406-536A-4DEC-9498-1F90E4C4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DEEB-2277-43D6-A1FF-5D186373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DE4-CC6D-460C-BCF6-B80734C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A1FD-596A-468E-9785-2AF20D59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CBDF-CD30-4CB0-9C9D-EB2AD2D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45191-C0F2-4EAE-A27D-34683E5B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543D-9E44-4030-87E6-D9B81B7D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177A-D0F5-482E-A513-DF25768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641E-2092-497F-A57D-AD3B4BC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9CBF-2160-4C0F-BAE9-F9E9E11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B07D-BD23-41BA-82BB-1A768A21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E274-D1B2-4DB5-89BB-D3FAA43C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2146-C338-4788-B254-B906063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ED1-B557-4AFA-A095-A8EE5F83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3D02-8B3A-4A9A-B9EC-D4603742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E9F2-0F05-49F4-9481-918D3B23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F6EE8-DB8D-4056-8FEB-F6970A9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0AC5-FCF8-4F90-8E17-548A162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19A1-E79F-479E-9EC3-4FFC4C5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36483-E497-4EA0-8A92-F6A77048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2835-5E49-445D-A476-04054EC6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E09D-6153-4D21-AAB0-BE9C245E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3F30F-9F75-4091-851F-8A0F3FDC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04A7-D636-481C-994D-D13E49EF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A4B-43F7-4995-8A17-7E815E9E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81D6-82B4-46C1-950B-03F6F382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2C09-287C-4CCD-A242-1ADA3254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34D0B-E36C-49A3-9341-94F6531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518F-F149-4DAE-B41B-D045DABC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3B74-D956-4665-A312-E922AC4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D925-7AEB-4A7F-B155-3F3F393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4ED8-6224-4299-B3FA-0F0A1F77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A2E2-E8BA-4F78-8E33-1A2C00D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A3DC6-8483-4304-BA15-9291B33C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B848-5FFD-40EA-BD43-0307561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095-020C-4A3C-91D9-A685F48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AFB7-7274-437A-A3C3-B14FA8B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4858-1496-4C02-AA55-77CAB7DF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BD09-AD31-417F-B3FC-5F279BEB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36B01-538E-4192-A88D-5FA4194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BEE3-1504-408A-8246-67059FF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91234-C751-4E8C-A559-B647118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CD2F-6EDF-44B6-BCC5-8DCB49E0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CD143-38C1-4DA3-B4D0-05839819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9817F-AFD3-47D7-A469-EDF28224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7C079-4914-4407-877C-0208971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23F-55F1-4F61-9EFB-284289C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BDE0-1ABE-4A76-BF51-140D735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6B44-DAF0-4A4D-AF4D-18E4E3E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6F7B-928C-4580-B495-D540E3A0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4E1F-9313-45D4-8CCA-82AD4A04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AE0E-538C-4280-8118-D84610B2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0C7-CD31-44C7-81BF-7B20C64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406-2E93-48ED-80B8-06EFF21E7DB5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CCC7-C704-402A-9EB3-FFFD14B6EADD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80A-7325-451F-BDB9-E2D2F9276842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FEE7-A825-46AB-B220-32853E8CD784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2161-6FFC-4BEA-8287-8EFA39152180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5EE7-B265-4B1D-A034-DC948D4176A0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9CE6-06DF-41E9-9362-4B8657449FFB}" type="slidenum">
              <a:rPr b="0" lang="es-VE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530280" y="328680"/>
            <a:ext cx="8120160" cy="4255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4063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rbel"/>
              </a:rPr>
              <a:t>Dr Franklin Chacín Lug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rbel"/>
              </a:rPr>
              <a:t>Coordinador del Núcleo de Decano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rbel"/>
              </a:rPr>
              <a:t>Del CAMFA, Venezuel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Educación agrícola superior y agricultura en Venezuel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orbel"/>
              </a:rPr>
              <a:t>Introducció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ntorno agrícola internaciona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aracterísticas del mercado mundial de alimen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Necesidades agrícolas a principio del siglo XXI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Cuadro 1</a:t>
            </a:r>
            <a:br>
              <a:rPr sz="4000"/>
            </a:b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Instituciones universitarias en América Latin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2989440"/>
          <a:ext cx="7772400" cy="2225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úmero de institu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12 (319 públicas y 493 privad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ás de 1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71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Cuadro 2</a:t>
            </a:r>
            <a:br>
              <a:rPr sz="4000"/>
            </a:b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Estudios universitarios conducentes a títulos de Ingeniero o Méd Veterinario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14400" y="3105000"/>
          <a:ext cx="7772400" cy="2967120"/>
        </p:xfrm>
        <a:graphic>
          <a:graphicData uri="http://schemas.openxmlformats.org/drawingml/2006/table">
            <a:tbl>
              <a:tblPr/>
              <a:tblGrid>
                <a:gridCol w="3728880"/>
                <a:gridCol w="2786400"/>
                <a:gridCol w="1257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arr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úmero de institu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geniería Agronóm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geniería Agrí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g Agronóm de la Prod Vege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g Agronóm de la Prod An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g Agronóm de la Prod Agropecua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edicina Veterina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Educación agrícola superior y agricultura en Venezuel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roducció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orbel"/>
              </a:rPr>
              <a:t>Entorno agrícola internaciona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aracterísticas del mercado mundial de alimen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Necesidades agrícolas a principio del siglo XXI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Educación agrícola superior y agricultura en Venezuel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roducció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ntorno agrícola internaciona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orbel"/>
              </a:rPr>
              <a:t>Características del mercado mundial de alimen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Necesidades agrícolas a principio del siglo XXI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Educación agrícola superior y agricultura en Venezuel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roducció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ntorno agrícola internaciona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aracterísticas del mercado mundial de alimen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orbel"/>
              </a:rPr>
              <a:t>Necesidades agrícolas a principio del siglo XXI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Cuadro 3</a:t>
            </a:r>
            <a:br>
              <a:rPr sz="4000"/>
            </a:b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Contenidos curriculares básicos para la carrera de Ing Agronómica, según Resolución N° 344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14400" y="3559320"/>
          <a:ext cx="7772400" cy="2941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Área temá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aracter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arga horaria míni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 Ciencias bá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mación general. Objetivos a nivel concep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Básicas agronóm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ásicas para Agronom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Aplicadas agronóm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mación profes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 Complementar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portan la flexibilización de la formación regional y 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857560" y="335772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Gracia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1:57:32Z</dcterms:created>
  <dc:creator>Aouiqw</dc:creator>
  <dc:description/>
  <dc:language>en-US</dc:language>
  <cp:lastModifiedBy>Aouiqw</cp:lastModifiedBy>
  <dcterms:modified xsi:type="dcterms:W3CDTF">2008-12-08T13:10:43Z</dcterms:modified>
  <cp:revision>13</cp:revision>
  <dc:subject/>
  <dc:title>Educación agrícola superior y agricultura en venezuela</dc:title>
</cp:coreProperties>
</file>