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962-E2CF-4F8B-B113-354FF96F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39C-9346-450D-AB29-64150416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FCF-B220-4899-B901-0B378F27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752-FFDF-41FA-B1D8-97E810B8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CC381-2B5A-407A-ABBB-2D30F7D5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D16E3-3238-4B41-BC5B-0400841E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D03F2-606F-464F-B425-1285FE54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4B0FF-6048-4146-9312-562DFFD6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4A7B5-E46B-4B91-893D-B2F2CAD5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21E37-7F02-4EA8-8796-BBF6725A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1CA0C-5B1F-4242-8CE3-8AA00FEC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42D-A612-42A0-9947-3886681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2A268-54E1-4995-9B92-5F4E5A2B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92D3-A5CC-4433-8C95-6AEA6E60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F1A2C-51AA-4166-A01B-3A13B721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C639-098C-4215-9C50-475A7C14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5C6B7-857C-42A3-A2DB-B60F267D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437-B7D8-42DE-9FA9-4BCA5F4E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FC4-2224-40D6-9FB5-51893321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979-65A5-4284-B2D4-20E80432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F48-0E9F-490B-A161-1FB86CE5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67A-A0D8-46D9-A057-01CE6B0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400-9D69-4B3D-BFDD-5278FA8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721-34C7-446C-A458-5942CBC5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78B-8736-44BD-94ED-492D648996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3D59-2EFC-42D5-ADCF-BD503F57A00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El FRADIEAR:  PLANEACION ESTRATEGIC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RAFAEL ISIDRO QUEVEDO 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AREAS ESTRATEGICA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FORTALECIMIENTO DE LA GESTION DE  FAES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PROYECTOS Y BUSQUEDA DE FON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FORTALECIMIENTO RED DE INTERCAMBIO: EL SIH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ASEGURAMIENTO DE LA CALIDA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COMPROMISOS Y CONVENIOS DE INTEGRAC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ASUNTOS CRITICO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ASEGURAR UN NUCLEO GERENC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FINANCIAMIENTO Y PROY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CONVENIOS Y VINCULOS CON LOS O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PROTOCOLOS DE INTEGRAC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LA INTEGRACION GLOBA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11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FORTALEZA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MAS DE CIEN UNIVERS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INTEGRACION  INTERINSTITUCIONA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BANCO DE TALENTOS HUM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GESTION DEL CONOC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TRABAJO EN RE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RECURSOS DE 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AMISTAD Y DIALOGO REGION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BUSQUEDA DE LA CALIDAD Y PERTIN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LIDERES,  ASOCIACIONES  Y LA FAES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OPORTUNIDAD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COOPERACION INTERINSTITU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FORMULACION DE PROYEC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CALIDAD EDUCACION AGROPECUAR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INTERCAMBIO ACADEM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RECTORIA Y ORIENTAC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DEBILIDAD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FALTA DE COMPROMISO DE LAS AUTOR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POCA EXPERIENCIA EN “FUND RISING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CARECE DE UN EQUIPO A DEDICACION EXCLUS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DEBIL CULTURA DE COOPERACION INTER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POCA DEDICACION DE SUS LIDE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PROCESO PUN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AMENAZ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FALTA DE CONTINUIDA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CARENCIA DE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POCA VOLUNTAD DE INTEGRAC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DIFERENCIAS ENTRE GOBIER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VIS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Las instituciones agrupadas en FAESCA, trabajan conjuntamente en el mejoramiento de la calidad de las actividades académicas, cooperando mutuamente para fortalecer sus programas  y desarrollar lazos de integración y acreditación entre ellas, contribuyendo decisivamente al desarrollo de sus respectivos paí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MIS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Las instituciones agrupadas en  la FAESCA contribuyen al servicio público y desarrollo de sus países mediante una educación agrícola superior, investigación, extensión, proyección social,  postgrados, educación  a distancia, capacitación, servicios de informática, documentación  y apoyo  a las comunidades  rurales de sus países, mediante programas de calidad, pertinentes y eficientes,  en el marco de  una estrecha cooperación entre ellas, nexos de integración  nacionales, con los países de la región andina y con los foros y redes hemisféricos y mundiales sobre el 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OBJETIVO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ASESORAR A LOS ESTADOS E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PROMOCION DE LA COOPERACION E INTEG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MOVILIDAD ESTUDIANTES PROFE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MEDIO DE COMUN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HOLOGACION DE ESTUDIOS BAS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FOMENTAR PROGRAMAS INTEGR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ASEGURAMIENTO DE LA CA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GESTION DEL CONOC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COOPERAC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INCLUSION  Y APERT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SOLIDARIDAD Y RECIPROC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CONFIAN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INTEG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COMPROMI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IGUALDAD DE DERECH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ahoma"/>
              </a:rPr>
              <a:t>RESPETO A LA DIVERS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Planeamiento Estratégico del FRADIEAR RIQuevedoC Maracay, diciembre 200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1:05:59Z</dcterms:created>
  <dc:creator>Marianela Quevedo</dc:creator>
  <dc:description/>
  <dc:language>en-US</dc:language>
  <cp:lastModifiedBy>Usuario</cp:lastModifiedBy>
  <dcterms:modified xsi:type="dcterms:W3CDTF">2008-12-07T23:47:32Z</dcterms:modified>
  <cp:revision>8</cp:revision>
  <dc:subject/>
  <dc:title>El FRADIEAR: ANTECEDENTES Y VISION ESTRATEGICA </dc:title>
</cp:coreProperties>
</file>