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wmf" ContentType="image/x-wmf"/>
  <Override PartName="/ppt/media/image20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8B0F-8CAE-4CFF-9F4A-8731E4E3F2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5C2-1236-4049-9A70-31ECA6163C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003-C5B6-4264-A5DA-9E441226DC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textualizado en los diversos procesos de globalizac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51A-4F59-4DA8-9D6B-320234DB23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2DE-D1F0-4984-A83E-CB0CEC9E5A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A8F-9286-4733-A6EC-2E7ACFE9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F57-603C-46FE-9112-07D8CE17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ADF-4C0C-4EA1-9482-FD24EE33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4E0-E446-4BDB-8F60-D46C7C61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F08-52A5-4123-BE88-B2505577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BE86-6B0B-477E-AC68-1BDD18E1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41C8-7DFB-4B99-9986-3891D168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A5AF-D709-4195-B9C3-6AD6A89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7E94-26F4-4346-ACC1-98EBF67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6649-5058-4888-9659-231B8B3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010D-8725-485D-8FA4-4147AE0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CEA-DD08-424D-BF6F-D0BC0A3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939F-9373-4892-AEBB-01F66D2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B880-AF10-4D9A-A535-69556C1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B1C5-23D7-4337-84FE-7135E50C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B9A2-10E4-43DB-A7EF-D4D3DED9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0631-43C5-45A2-B0E9-6C491844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C2CB-14C0-4A6D-8F82-6C0FE178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4429-A287-4E10-B413-819BAB10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EA74-4F3E-469F-A29E-B2E17754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1DF5-4734-4175-A124-ABC2BBC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AA26-1A0A-41F9-9505-9F31A79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D95-8DBE-4465-899B-E6929AAE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0B16-2647-4436-9382-72C6591E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EEA6-0A66-4A25-ADBE-93B28ED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CD65-F1C6-4EB7-83C0-4CF1C31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AEDF-2F6A-47CA-AD4C-73205BC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52AA-5E49-4C62-8EAC-03D9C71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F433-BD21-44EB-A4F3-77F33B5E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209F-9405-44F4-9BB7-8B4D0386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45FD-7827-4C41-A88D-DE5E7BB3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F97D-2C0F-4AEB-B8DE-ABBE7D6C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C57D-E15C-45B4-A6DD-4DF0463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A72-30C4-4937-8A39-BF592F6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56C7-F787-4F1E-814B-D2CCA081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923C-8B23-40A7-BAE2-A595CA6E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834F-061A-44C1-AEA1-9F391EE0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E6AD-A63E-4D7D-93E2-6CD01BC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D789-E8F2-4E9C-B857-32B4BE1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35A8-9C7B-4DA8-8CAF-D385C4E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1C06-1AEE-4A2A-B383-C84D797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626B-3EC7-4E87-94AD-079D5130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6766-22F8-4B8C-A525-5967F044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DC2-9478-4B4B-98D5-C7A53667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36A-F5DE-4D9C-8B87-202F984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066-6F82-4E67-B239-998AA5A1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492-2CB8-4429-9539-7DA69EF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EF1-256B-4C46-9BB0-C7652B5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3E7-26C6-4190-85D7-933E6E6BE6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0D7D-DC3F-4748-8285-624D505CAF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E3D9-5E97-41E0-B3FF-9850D2836C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1CC0-972D-400E-B6BB-60072924AB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psnoticias.net/nota.asp?idnews=88298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1 Título" descr=""/>
          <p:cNvPicPr/>
          <p:nvPr/>
        </p:nvPicPr>
        <p:blipFill>
          <a:blip r:embed="rId2"/>
          <a:stretch/>
        </p:blipFill>
        <p:spPr>
          <a:xfrm>
            <a:off x="781200" y="1060560"/>
            <a:ext cx="7918200" cy="3987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88000" y="537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DDY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gradFill rotWithShape="0">
            <a:gsLst>
              <a:gs pos="0">
                <a:srgbClr val="5ff3ca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La Rura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o rural como tradicion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structurada en torno a actividad primaria, pensada sectorialm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gricultura regida por ciclos naturales, sin mayor intervención del produc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Visión dicotómica, el progreso avanza de lo rural a lo urb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a visión rural y la agricultura como sinónimo de tradicionalidad, rol subsidiario, secundari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2"/>
          <p:cNvGrpSpPr/>
          <p:nvPr/>
        </p:nvGrpSpPr>
        <p:grpSpPr>
          <a:xfrm>
            <a:off x="414360" y="274680"/>
            <a:ext cx="8253360" cy="736560"/>
            <a:chOff x="414360" y="274680"/>
            <a:chExt cx="8253360" cy="736560"/>
          </a:xfrm>
        </p:grpSpPr>
        <p:pic>
          <p:nvPicPr>
            <p:cNvPr id="273" name="Rectangle 2" descr=""/>
            <p:cNvPicPr/>
            <p:nvPr/>
          </p:nvPicPr>
          <p:blipFill>
            <a:blip r:embed="rId2"/>
            <a:stretch/>
          </p:blipFill>
          <p:spPr>
            <a:xfrm>
              <a:off x="414360" y="274680"/>
              <a:ext cx="82533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28760" y="285840"/>
              <a:ext cx="8229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4500" spc="-1" strike="noStrike">
                  <a:solidFill>
                    <a:srgbClr val="000000"/>
                  </a:solidFill>
                  <a:latin typeface="Calibri"/>
                </a:rPr>
                <a:t>América Latina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 txBox="1"/>
          <p:nvPr/>
        </p:nvSpPr>
        <p:spPr>
          <a:xfrm>
            <a:off x="468360" y="16286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xiste una gran diversidad, fecundidad, riqueza y contrastes en ALC; donde se produce lo suficiente para alimentar a sus 522 millones de habitantes. No obstante, cerca de 53 millones de personas no tienen alimentos suficientes para llevar una vida activa y sana (PMA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ás del 80% de los agricultores en América Latina y el Caribe practican la agricultura familiar y tienen una participación relevante en el Producto Interno Bruto (PIB) agrícola, en el empleo y en la producción de alimento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ás de un tercio del total de exportaciones proviene de la agricultura y el sector forest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nstantia"/>
              </a:rPr>
              <a:t>Aproximadamente, 40% de la población vive con menos de dos dólares al día, y 110 millones con menos de un dólar por dí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7" descr="agro-canete.jpg"/>
          <p:cNvPicPr/>
          <p:nvPr/>
        </p:nvPicPr>
        <p:blipFill>
          <a:blip r:embed="rId3"/>
          <a:stretch/>
        </p:blipFill>
        <p:spPr>
          <a:xfrm>
            <a:off x="6443640" y="0"/>
            <a:ext cx="22860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28760" y="500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3 Elipse"/>
          <p:cNvSpPr/>
          <p:nvPr/>
        </p:nvSpPr>
        <p:spPr>
          <a:xfrm>
            <a:off x="285840" y="2857680"/>
            <a:ext cx="2928960" cy="1214280"/>
          </a:xfrm>
          <a:prstGeom prst="ellipse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nstantia"/>
              </a:rPr>
              <a:t>AGRICULTURA Y LA VIDA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4 Elipse"/>
          <p:cNvSpPr/>
          <p:nvPr/>
        </p:nvSpPr>
        <p:spPr>
          <a:xfrm>
            <a:off x="4429080" y="4500720"/>
            <a:ext cx="2571840" cy="1000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Constantia"/>
              </a:rPr>
              <a:t>Sostenibilidad</a:t>
            </a:r>
            <a:r>
              <a:rPr b="0" lang="es-PE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Constantia"/>
              </a:rPr>
              <a:t>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 Elipse"/>
          <p:cNvSpPr/>
          <p:nvPr/>
        </p:nvSpPr>
        <p:spPr>
          <a:xfrm>
            <a:off x="1857240" y="785880"/>
            <a:ext cx="2133720" cy="1062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Constantia"/>
              </a:rPr>
              <a:t>Seguridad Ali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6 Elipse"/>
          <p:cNvSpPr/>
          <p:nvPr/>
        </p:nvSpPr>
        <p:spPr>
          <a:xfrm>
            <a:off x="5786280" y="3000240"/>
            <a:ext cx="2571840" cy="1123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ffffff"/>
                </a:solidFill>
                <a:latin typeface="Constantia"/>
              </a:rPr>
              <a:t>Competitiv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Elipse"/>
          <p:cNvSpPr/>
          <p:nvPr/>
        </p:nvSpPr>
        <p:spPr>
          <a:xfrm>
            <a:off x="4357800" y="1785960"/>
            <a:ext cx="2071440" cy="9288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Constantia"/>
              </a:rPr>
              <a:t>Desarroll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Flecha arriba"/>
          <p:cNvSpPr/>
          <p:nvPr/>
        </p:nvSpPr>
        <p:spPr>
          <a:xfrm rot="3528600">
            <a:off x="3554280" y="2312640"/>
            <a:ext cx="355680" cy="117792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0 Flecha arriba"/>
          <p:cNvSpPr/>
          <p:nvPr/>
        </p:nvSpPr>
        <p:spPr>
          <a:xfrm rot="1831800">
            <a:off x="2487240" y="1892160"/>
            <a:ext cx="384120" cy="900360"/>
          </a:xfrm>
          <a:prstGeom prst="up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1 Flecha arriba"/>
          <p:cNvSpPr/>
          <p:nvPr/>
        </p:nvSpPr>
        <p:spPr>
          <a:xfrm rot="9205800">
            <a:off x="2636280" y="4274640"/>
            <a:ext cx="314280" cy="8971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2 Flecha arriba"/>
          <p:cNvSpPr/>
          <p:nvPr/>
        </p:nvSpPr>
        <p:spPr>
          <a:xfrm rot="7204200">
            <a:off x="3438360" y="3774960"/>
            <a:ext cx="339480" cy="1209600"/>
          </a:xfrm>
          <a:prstGeom prst="up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3 Elipse"/>
          <p:cNvSpPr/>
          <p:nvPr/>
        </p:nvSpPr>
        <p:spPr>
          <a:xfrm>
            <a:off x="1143000" y="5286240"/>
            <a:ext cx="2838600" cy="9813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Constantia"/>
              </a:rPr>
              <a:t>Biocombus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4 Flecha arriba"/>
          <p:cNvSpPr/>
          <p:nvPr/>
        </p:nvSpPr>
        <p:spPr>
          <a:xfrm rot="5400000">
            <a:off x="4203000" y="2583720"/>
            <a:ext cx="380880" cy="207144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gradFill rotWithShape="0">
            <a:gsLst>
              <a:gs pos="0">
                <a:srgbClr val="10cf9b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Desafíos de la Agricultu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760" y="1714320"/>
            <a:ext cx="82296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Equilibrar los objetivos de un modelo orientado a garantizar la seguridad alimentaria, la competitividad con inclusión, y el desarrollo sostenible para la búsqueda de la prosperidad rural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Contribuir en la construcción de una institucionalidad favorable al desarrollo de la agricultura y el mejoramiento de la vida rural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Mejorar la gestión pública y privada de la agricultura y del desarrollo rural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Desarrollar las capacidades necesarias para afrontar exitosa y oportunamente los desafíos anteriore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1 Título" descr=""/>
          <p:cNvPicPr/>
          <p:nvPr/>
        </p:nvPicPr>
        <p:blipFill>
          <a:blip r:embed="rId2"/>
          <a:stretch/>
        </p:blipFill>
        <p:spPr>
          <a:xfrm>
            <a:off x="237960" y="1255680"/>
            <a:ext cx="8571240" cy="2011320"/>
          </a:xfrm>
          <a:prstGeom prst="rect">
            <a:avLst/>
          </a:prstGeom>
          <a:ln w="0">
            <a:noFill/>
          </a:ln>
        </p:spPr>
      </p:pic>
      <p:sp>
        <p:nvSpPr>
          <p:cNvPr id="292" name="2 CuadroTexto"/>
          <p:cNvSpPr/>
          <p:nvPr/>
        </p:nvSpPr>
        <p:spPr>
          <a:xfrm>
            <a:off x="1690920" y="528624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Prospectiva: actitud de espíritu que mueve a aventurarse a ver le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Gaston B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5240" cy="1357200"/>
          </a:xfrm>
          <a:prstGeom prst="rect">
            <a:avLst/>
          </a:prstGeom>
          <a:gradFill rotWithShape="0">
            <a:gsLst>
              <a:gs pos="0">
                <a:srgbClr val="10cf9b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Porcentaje del PBI destinado a la Investigación y el Desarrol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1 Gráfico" descr=""/>
          <p:cNvPicPr/>
          <p:nvPr/>
        </p:nvPicPr>
        <p:blipFill>
          <a:blip r:embed="rId2"/>
          <a:stretch/>
        </p:blipFill>
        <p:spPr>
          <a:xfrm>
            <a:off x="195120" y="1554120"/>
            <a:ext cx="8504280" cy="4456080"/>
          </a:xfrm>
          <a:prstGeom prst="rect">
            <a:avLst/>
          </a:prstGeom>
          <a:ln w="0">
            <a:noFill/>
          </a:ln>
        </p:spPr>
      </p:pic>
      <p:sp>
        <p:nvSpPr>
          <p:cNvPr id="295" name="5 CuadroTexto"/>
          <p:cNvSpPr/>
          <p:nvPr/>
        </p:nvSpPr>
        <p:spPr>
          <a:xfrm>
            <a:off x="331560" y="6072120"/>
            <a:ext cx="81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JAPÓN         COREA     FINLANDIA    SUECIA       EEUU          BRASIL       CHILE   VENEZUELA     PER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CuadroTexto"/>
          <p:cNvSpPr/>
          <p:nvPr/>
        </p:nvSpPr>
        <p:spPr>
          <a:xfrm>
            <a:off x="418680" y="6286680"/>
            <a:ext cx="80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3,3%          3,0%          3,5%         3,9%        2,7%          0,9%        0,7%        0,3%          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419120"/>
          </a:xfrm>
          <a:prstGeom prst="rect">
            <a:avLst/>
          </a:prstGeom>
          <a:gradFill rotWithShape="0">
            <a:gsLst>
              <a:gs pos="0">
                <a:srgbClr val="10cf9b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Cambiando Paradigmas:</a:t>
            </a:r>
            <a:br>
              <a:rPr sz="5000"/>
            </a:b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Economía del Conocimien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3 Marcador de contenido" descr=""/>
          <p:cNvPicPr/>
          <p:nvPr/>
        </p:nvPicPr>
        <p:blipFill>
          <a:blip r:embed="rId2"/>
          <a:stretch/>
        </p:blipFill>
        <p:spPr>
          <a:xfrm>
            <a:off x="469800" y="1779480"/>
            <a:ext cx="8313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57120" y="185724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Responsabilidad social y ambi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ficiencia, transparencia y prudencia financi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Respeto a la divers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nfoques interdisciplin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lianzas para lograr mayor impoa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Trabajo en equi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iderazgo mediante la excel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xcelencia en el desempeñ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Observancia de las normas y regul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1924200" cy="1533600"/>
          </a:xfrm>
          <a:prstGeom prst="rect">
            <a:avLst/>
          </a:prstGeom>
          <a:ln w="0">
            <a:noFill/>
          </a:ln>
        </p:spPr>
      </p:pic>
      <p:sp>
        <p:nvSpPr>
          <p:cNvPr id="301" name="3 CuadroTexto"/>
          <p:cNvSpPr/>
          <p:nvPr/>
        </p:nvSpPr>
        <p:spPr>
          <a:xfrm>
            <a:off x="357120" y="71424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La Educación Agrícola Superior  d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estar basada en los siguientes val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gradFill rotWithShape="0">
            <a:gsLst>
              <a:gs pos="0">
                <a:srgbClr val="10cf9b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AgroMatriz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2876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La AgroMatriz, es el marco conceptual que permite un entendimiento claro del tipo y alcance de las </a:t>
            </a:r>
            <a:r>
              <a:rPr b="0" lang="es-EC" sz="2800" spc="-1" strike="noStrike">
                <a:solidFill>
                  <a:srgbClr val="ff21b0"/>
                </a:solidFill>
                <a:latin typeface="Constantia"/>
              </a:rPr>
              <a:t>interacciones</a:t>
            </a: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 entre los enfoques sistémico y sostenible de la agricultura y la vida rur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Mejoramiento del </a:t>
            </a:r>
            <a:r>
              <a:rPr b="0" lang="es-EC" sz="2800" spc="-1" strike="noStrike">
                <a:solidFill>
                  <a:srgbClr val="ff21b0"/>
                </a:solidFill>
                <a:latin typeface="Constantia"/>
              </a:rPr>
              <a:t>planeamiento de las políticas </a:t>
            </a: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nacionales, regionales o de integra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0" lang="es-EC" sz="2800" spc="-1" strike="noStrike">
                <a:solidFill>
                  <a:srgbClr val="ff21b0"/>
                </a:solidFill>
                <a:latin typeface="Constantia"/>
              </a:rPr>
              <a:t>herramienta de liderazgo </a:t>
            </a: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que nos permite pensar en forma sistémic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a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5"/>
          <p:cNvSpPr/>
          <p:nvPr/>
        </p:nvSpPr>
        <p:spPr>
          <a:xfrm>
            <a:off x="1332000" y="700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10"/>
          <p:cNvGrpSpPr/>
          <p:nvPr/>
        </p:nvGrpSpPr>
        <p:grpSpPr>
          <a:xfrm>
            <a:off x="6117840" y="5157720"/>
            <a:ext cx="2640240" cy="971280"/>
            <a:chOff x="6117840" y="5157720"/>
            <a:chExt cx="2640240" cy="971280"/>
          </a:xfrm>
        </p:grpSpPr>
        <p:sp>
          <p:nvSpPr>
            <p:cNvPr id="306" name="AutoShape 12"/>
            <p:cNvSpPr/>
            <p:nvPr/>
          </p:nvSpPr>
          <p:spPr>
            <a:xfrm rot="16200000">
              <a:off x="7562520" y="5119560"/>
              <a:ext cx="184320" cy="260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47bd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3"/>
            <p:cNvSpPr/>
            <p:nvPr/>
          </p:nvSpPr>
          <p:spPr>
            <a:xfrm rot="10800000">
              <a:off x="6117840" y="5691240"/>
              <a:ext cx="392040" cy="209520"/>
            </a:xfrm>
            <a:prstGeom prst="rightArrow">
              <a:avLst>
                <a:gd name="adj1" fmla="val 50000"/>
                <a:gd name="adj2" fmla="val 46778"/>
              </a:avLst>
            </a:prstGeom>
            <a:solidFill>
              <a:srgbClr val="47bd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67"/>
            <p:cNvGrpSpPr/>
            <p:nvPr/>
          </p:nvGrpSpPr>
          <p:grpSpPr>
            <a:xfrm>
              <a:off x="6588000" y="5445000"/>
              <a:ext cx="2170080" cy="684000"/>
              <a:chOff x="6588000" y="5445000"/>
              <a:chExt cx="2170080" cy="684000"/>
            </a:xfrm>
          </p:grpSpPr>
          <p:sp>
            <p:nvSpPr>
              <p:cNvPr id="309" name="Oval 11"/>
              <p:cNvSpPr/>
              <p:nvPr/>
            </p:nvSpPr>
            <p:spPr>
              <a:xfrm>
                <a:off x="6588000" y="5445000"/>
                <a:ext cx="2151000" cy="6840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4"/>
              <p:cNvSpPr/>
              <p:nvPr/>
            </p:nvSpPr>
            <p:spPr>
              <a:xfrm>
                <a:off x="6608880" y="5532120"/>
                <a:ext cx="2149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DESARROLLO SOSTENIB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99"/>
          <p:cNvGrpSpPr/>
          <p:nvPr/>
        </p:nvGrpSpPr>
        <p:grpSpPr>
          <a:xfrm>
            <a:off x="2124000" y="2565360"/>
            <a:ext cx="6518520" cy="503280"/>
            <a:chOff x="2124000" y="2565360"/>
            <a:chExt cx="6518520" cy="503280"/>
          </a:xfrm>
        </p:grpSpPr>
        <p:grpSp>
          <p:nvGrpSpPr>
            <p:cNvPr id="312" name="Group 77"/>
            <p:cNvGrpSpPr/>
            <p:nvPr/>
          </p:nvGrpSpPr>
          <p:grpSpPr>
            <a:xfrm>
              <a:off x="2124000" y="2565360"/>
              <a:ext cx="4424400" cy="503280"/>
              <a:chOff x="2124000" y="2565360"/>
              <a:chExt cx="4424400" cy="503280"/>
            </a:xfrm>
          </p:grpSpPr>
          <p:sp>
            <p:nvSpPr>
              <p:cNvPr id="313" name="Rectangle 33"/>
              <p:cNvSpPr/>
              <p:nvPr/>
            </p:nvSpPr>
            <p:spPr>
              <a:xfrm>
                <a:off x="5073480" y="256536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ENTOR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NAC./ INT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34"/>
              <p:cNvSpPr/>
              <p:nvPr/>
            </p:nvSpPr>
            <p:spPr>
              <a:xfrm>
                <a:off x="3598920" y="2565360"/>
                <a:ext cx="147456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CADENAS AGROPROD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35"/>
              <p:cNvSpPr/>
              <p:nvPr/>
            </p:nvSpPr>
            <p:spPr>
              <a:xfrm>
                <a:off x="2124000" y="256536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TERRITORIOS RURA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Rectangle 65"/>
            <p:cNvSpPr/>
            <p:nvPr/>
          </p:nvSpPr>
          <p:spPr>
            <a:xfrm>
              <a:off x="6699240" y="2565360"/>
              <a:ext cx="19432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RATÉG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66"/>
          <p:cNvSpPr/>
          <p:nvPr/>
        </p:nvSpPr>
        <p:spPr>
          <a:xfrm>
            <a:off x="0" y="71424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00"/>
                </a:solidFill>
                <a:latin typeface="Tahoma"/>
              </a:rPr>
              <a:t>Instrumento de análisis para la toma de decisiones públicas y priva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00"/>
          <p:cNvGrpSpPr/>
          <p:nvPr/>
        </p:nvGrpSpPr>
        <p:grpSpPr>
          <a:xfrm>
            <a:off x="250920" y="3068640"/>
            <a:ext cx="6297480" cy="503280"/>
            <a:chOff x="250920" y="3068640"/>
            <a:chExt cx="6297480" cy="503280"/>
          </a:xfrm>
        </p:grpSpPr>
        <p:sp>
          <p:nvSpPr>
            <p:cNvPr id="319" name="Rectangle 32"/>
            <p:cNvSpPr/>
            <p:nvPr/>
          </p:nvSpPr>
          <p:spPr>
            <a:xfrm>
              <a:off x="250920" y="3068640"/>
              <a:ext cx="18748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RODUCTIVO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78"/>
            <p:cNvGrpSpPr/>
            <p:nvPr/>
          </p:nvGrpSpPr>
          <p:grpSpPr>
            <a:xfrm>
              <a:off x="2124000" y="3068640"/>
              <a:ext cx="4424400" cy="503280"/>
              <a:chOff x="2124000" y="3068640"/>
              <a:chExt cx="4424400" cy="503280"/>
            </a:xfrm>
          </p:grpSpPr>
          <p:sp>
            <p:nvSpPr>
              <p:cNvPr id="321" name="Rectangle 79"/>
              <p:cNvSpPr/>
              <p:nvPr/>
            </p:nvSpPr>
            <p:spPr>
              <a:xfrm>
                <a:off x="5073480" y="306864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80"/>
              <p:cNvSpPr/>
              <p:nvPr/>
            </p:nvSpPr>
            <p:spPr>
              <a:xfrm>
                <a:off x="3598920" y="3068640"/>
                <a:ext cx="147456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81"/>
              <p:cNvSpPr/>
              <p:nvPr/>
            </p:nvSpPr>
            <p:spPr>
              <a:xfrm>
                <a:off x="2124000" y="306864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101"/>
          <p:cNvGrpSpPr/>
          <p:nvPr/>
        </p:nvGrpSpPr>
        <p:grpSpPr>
          <a:xfrm>
            <a:off x="249120" y="3573360"/>
            <a:ext cx="6299280" cy="503280"/>
            <a:chOff x="249120" y="3573360"/>
            <a:chExt cx="6299280" cy="503280"/>
          </a:xfrm>
        </p:grpSpPr>
        <p:sp>
          <p:nvSpPr>
            <p:cNvPr id="325" name="Rectangle 28"/>
            <p:cNvSpPr/>
            <p:nvPr/>
          </p:nvSpPr>
          <p:spPr>
            <a:xfrm>
              <a:off x="249120" y="3573360"/>
              <a:ext cx="18748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OLÓGICO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MBI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82"/>
            <p:cNvGrpSpPr/>
            <p:nvPr/>
          </p:nvGrpSpPr>
          <p:grpSpPr>
            <a:xfrm>
              <a:off x="2124000" y="3573360"/>
              <a:ext cx="4424400" cy="503280"/>
              <a:chOff x="2124000" y="3573360"/>
              <a:chExt cx="4424400" cy="503280"/>
            </a:xfrm>
          </p:grpSpPr>
          <p:sp>
            <p:nvSpPr>
              <p:cNvPr id="327" name="Rectangle 83"/>
              <p:cNvSpPr/>
              <p:nvPr/>
            </p:nvSpPr>
            <p:spPr>
              <a:xfrm>
                <a:off x="5073480" y="357336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84"/>
              <p:cNvSpPr/>
              <p:nvPr/>
            </p:nvSpPr>
            <p:spPr>
              <a:xfrm>
                <a:off x="3598920" y="3573360"/>
                <a:ext cx="147456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85"/>
              <p:cNvSpPr/>
              <p:nvPr/>
            </p:nvSpPr>
            <p:spPr>
              <a:xfrm>
                <a:off x="2124000" y="357336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02"/>
          <p:cNvGrpSpPr/>
          <p:nvPr/>
        </p:nvGrpSpPr>
        <p:grpSpPr>
          <a:xfrm>
            <a:off x="250920" y="4076640"/>
            <a:ext cx="6297480" cy="504720"/>
            <a:chOff x="250920" y="4076640"/>
            <a:chExt cx="6297480" cy="504720"/>
          </a:xfrm>
        </p:grpSpPr>
        <p:sp>
          <p:nvSpPr>
            <p:cNvPr id="331" name="Rectangle 25"/>
            <p:cNvSpPr/>
            <p:nvPr/>
          </p:nvSpPr>
          <p:spPr>
            <a:xfrm>
              <a:off x="250920" y="4076640"/>
              <a:ext cx="187308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OCIO - CULT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86"/>
            <p:cNvGrpSpPr/>
            <p:nvPr/>
          </p:nvGrpSpPr>
          <p:grpSpPr>
            <a:xfrm>
              <a:off x="2124000" y="4078440"/>
              <a:ext cx="4424400" cy="502920"/>
              <a:chOff x="2124000" y="4078440"/>
              <a:chExt cx="4424400" cy="502920"/>
            </a:xfrm>
          </p:grpSpPr>
          <p:sp>
            <p:nvSpPr>
              <p:cNvPr id="333" name="Rectangle 87"/>
              <p:cNvSpPr/>
              <p:nvPr/>
            </p:nvSpPr>
            <p:spPr>
              <a:xfrm>
                <a:off x="5073480" y="4078440"/>
                <a:ext cx="147492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8"/>
              <p:cNvSpPr/>
              <p:nvPr/>
            </p:nvSpPr>
            <p:spPr>
              <a:xfrm>
                <a:off x="3598920" y="4078440"/>
                <a:ext cx="147456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9"/>
              <p:cNvSpPr/>
              <p:nvPr/>
            </p:nvSpPr>
            <p:spPr>
              <a:xfrm>
                <a:off x="2124000" y="4078440"/>
                <a:ext cx="147492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Group 103"/>
          <p:cNvGrpSpPr/>
          <p:nvPr/>
        </p:nvGrpSpPr>
        <p:grpSpPr>
          <a:xfrm>
            <a:off x="250920" y="4581360"/>
            <a:ext cx="6297480" cy="503280"/>
            <a:chOff x="250920" y="4581360"/>
            <a:chExt cx="6297480" cy="503280"/>
          </a:xfrm>
        </p:grpSpPr>
        <p:sp>
          <p:nvSpPr>
            <p:cNvPr id="337" name="Rectangle 21"/>
            <p:cNvSpPr/>
            <p:nvPr/>
          </p:nvSpPr>
          <p:spPr>
            <a:xfrm>
              <a:off x="250920" y="4581360"/>
              <a:ext cx="18730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LÍTICO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STITU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90"/>
            <p:cNvGrpSpPr/>
            <p:nvPr/>
          </p:nvGrpSpPr>
          <p:grpSpPr>
            <a:xfrm>
              <a:off x="2124000" y="4581360"/>
              <a:ext cx="4424400" cy="503280"/>
              <a:chOff x="2124000" y="4581360"/>
              <a:chExt cx="4424400" cy="503280"/>
            </a:xfrm>
          </p:grpSpPr>
          <p:sp>
            <p:nvSpPr>
              <p:cNvPr id="339" name="Rectangle 91"/>
              <p:cNvSpPr/>
              <p:nvPr/>
            </p:nvSpPr>
            <p:spPr>
              <a:xfrm>
                <a:off x="5073480" y="458136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2"/>
              <p:cNvSpPr/>
              <p:nvPr/>
            </p:nvSpPr>
            <p:spPr>
              <a:xfrm>
                <a:off x="3598920" y="4581360"/>
                <a:ext cx="147456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3"/>
              <p:cNvSpPr/>
              <p:nvPr/>
            </p:nvSpPr>
            <p:spPr>
              <a:xfrm>
                <a:off x="2124000" y="4581360"/>
                <a:ext cx="147492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Group 106"/>
          <p:cNvGrpSpPr/>
          <p:nvPr/>
        </p:nvGrpSpPr>
        <p:grpSpPr>
          <a:xfrm>
            <a:off x="2166840" y="3697200"/>
            <a:ext cx="6415200" cy="276480"/>
            <a:chOff x="2166840" y="3697200"/>
            <a:chExt cx="6415200" cy="276480"/>
          </a:xfrm>
        </p:grpSpPr>
        <p:sp>
          <p:nvSpPr>
            <p:cNvPr id="343" name="Text Box 8"/>
            <p:cNvSpPr/>
            <p:nvPr/>
          </p:nvSpPr>
          <p:spPr>
            <a:xfrm>
              <a:off x="6781680" y="3697200"/>
              <a:ext cx="180036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SOSTENI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94"/>
            <p:cNvSpPr/>
            <p:nvPr/>
          </p:nvSpPr>
          <p:spPr>
            <a:xfrm>
              <a:off x="2166840" y="3860640"/>
              <a:ext cx="4675320" cy="0"/>
            </a:xfrm>
            <a:prstGeom prst="line">
              <a:avLst/>
            </a:prstGeom>
            <a:ln w="5076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05"/>
          <p:cNvGrpSpPr/>
          <p:nvPr/>
        </p:nvGrpSpPr>
        <p:grpSpPr>
          <a:xfrm>
            <a:off x="2171880" y="4187880"/>
            <a:ext cx="6410160" cy="276480"/>
            <a:chOff x="2171880" y="4187880"/>
            <a:chExt cx="6410160" cy="276480"/>
          </a:xfrm>
        </p:grpSpPr>
        <p:sp>
          <p:nvSpPr>
            <p:cNvPr id="346" name="Text Box 9"/>
            <p:cNvSpPr/>
            <p:nvPr/>
          </p:nvSpPr>
          <p:spPr>
            <a:xfrm>
              <a:off x="6770520" y="4187880"/>
              <a:ext cx="181152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EQU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2171880" y="4336920"/>
              <a:ext cx="4674960" cy="0"/>
            </a:xfrm>
            <a:prstGeom prst="line">
              <a:avLst/>
            </a:prstGeom>
            <a:ln w="5076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04"/>
          <p:cNvGrpSpPr/>
          <p:nvPr/>
        </p:nvGrpSpPr>
        <p:grpSpPr>
          <a:xfrm>
            <a:off x="2171880" y="4702320"/>
            <a:ext cx="6397560" cy="276480"/>
            <a:chOff x="2171880" y="4702320"/>
            <a:chExt cx="6397560" cy="276480"/>
          </a:xfrm>
        </p:grpSpPr>
        <p:sp>
          <p:nvSpPr>
            <p:cNvPr id="349" name="Text Box 10"/>
            <p:cNvSpPr/>
            <p:nvPr/>
          </p:nvSpPr>
          <p:spPr>
            <a:xfrm>
              <a:off x="6759720" y="4702320"/>
              <a:ext cx="180972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GOBERNA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96"/>
            <p:cNvSpPr/>
            <p:nvPr/>
          </p:nvSpPr>
          <p:spPr>
            <a:xfrm>
              <a:off x="2171880" y="4840200"/>
              <a:ext cx="4674960" cy="0"/>
            </a:xfrm>
            <a:prstGeom prst="line">
              <a:avLst/>
            </a:prstGeom>
            <a:ln w="5076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7"/>
          <p:cNvGrpSpPr/>
          <p:nvPr/>
        </p:nvGrpSpPr>
        <p:grpSpPr>
          <a:xfrm>
            <a:off x="2173320" y="3173400"/>
            <a:ext cx="6408720" cy="276480"/>
            <a:chOff x="2173320" y="3173400"/>
            <a:chExt cx="6408720" cy="276480"/>
          </a:xfrm>
        </p:grpSpPr>
        <p:sp>
          <p:nvSpPr>
            <p:cNvPr id="352" name="Text Box 7"/>
            <p:cNvSpPr/>
            <p:nvPr/>
          </p:nvSpPr>
          <p:spPr>
            <a:xfrm>
              <a:off x="6770520" y="3173400"/>
              <a:ext cx="181152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COMPETITIV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>
              <a:off x="2173320" y="3324240"/>
              <a:ext cx="4675320" cy="0"/>
            </a:xfrm>
            <a:prstGeom prst="line">
              <a:avLst/>
            </a:prstGeom>
            <a:ln w="5076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09"/>
          <p:cNvGrpSpPr/>
          <p:nvPr/>
        </p:nvGrpSpPr>
        <p:grpSpPr>
          <a:xfrm>
            <a:off x="569880" y="3092400"/>
            <a:ext cx="5514840" cy="3205440"/>
            <a:chOff x="569880" y="3092400"/>
            <a:chExt cx="5514840" cy="3205440"/>
          </a:xfrm>
        </p:grpSpPr>
        <p:sp>
          <p:nvSpPr>
            <p:cNvPr id="355" name="Text Box 15"/>
            <p:cNvSpPr/>
            <p:nvPr/>
          </p:nvSpPr>
          <p:spPr>
            <a:xfrm>
              <a:off x="2754360" y="5300640"/>
              <a:ext cx="333036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BIENESTAR 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2754360" y="5661000"/>
              <a:ext cx="333036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SEGURIDAD ALIMENT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7"/>
            <p:cNvSpPr/>
            <p:nvPr/>
          </p:nvSpPr>
          <p:spPr>
            <a:xfrm>
              <a:off x="2754360" y="6021360"/>
              <a:ext cx="3330360" cy="276480"/>
            </a:xfrm>
            <a:prstGeom prst="rect">
              <a:avLst/>
            </a:prstGeom>
            <a:noFill/>
            <a:ln w="1260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e2d700"/>
                  </a:solidFill>
                  <a:latin typeface="Arial"/>
                </a:rPr>
                <a:t>POSICIONAMIENTO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3"/>
            <p:cNvSpPr/>
            <p:nvPr/>
          </p:nvSpPr>
          <p:spPr>
            <a:xfrm>
              <a:off x="569880" y="5589720"/>
              <a:ext cx="1770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RATÉG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9"/>
            <p:cNvSpPr/>
            <p:nvPr/>
          </p:nvSpPr>
          <p:spPr>
            <a:xfrm flipH="1">
              <a:off x="2917800" y="3092400"/>
              <a:ext cx="6480" cy="2232000"/>
            </a:xfrm>
            <a:prstGeom prst="line">
              <a:avLst/>
            </a:prstGeom>
            <a:ln w="50760">
              <a:solidFill>
                <a:srgbClr val="009dd9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97"/>
            <p:cNvSpPr/>
            <p:nvPr/>
          </p:nvSpPr>
          <p:spPr>
            <a:xfrm flipH="1">
              <a:off x="4349520" y="3092400"/>
              <a:ext cx="6120" cy="2232000"/>
            </a:xfrm>
            <a:prstGeom prst="line">
              <a:avLst/>
            </a:prstGeom>
            <a:ln w="50760">
              <a:solidFill>
                <a:srgbClr val="009dd9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98"/>
            <p:cNvSpPr/>
            <p:nvPr/>
          </p:nvSpPr>
          <p:spPr>
            <a:xfrm flipH="1">
              <a:off x="5832360" y="3092400"/>
              <a:ext cx="6480" cy="2232000"/>
            </a:xfrm>
            <a:prstGeom prst="line">
              <a:avLst/>
            </a:prstGeom>
            <a:ln w="50760">
              <a:solidFill>
                <a:srgbClr val="009dd9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2"/>
          <a:stretch/>
        </p:blipFill>
        <p:spPr>
          <a:xfrm>
            <a:off x="225360" y="1365120"/>
            <a:ext cx="8442360" cy="1895760"/>
          </a:xfrm>
          <a:prstGeom prst="rect">
            <a:avLst/>
          </a:prstGeom>
          <a:ln w="0">
            <a:noFill/>
          </a:ln>
        </p:spPr>
      </p:pic>
      <p:sp>
        <p:nvSpPr>
          <p:cNvPr id="214" name="2 CuadroTexto"/>
          <p:cNvSpPr/>
          <p:nvPr/>
        </p:nvSpPr>
        <p:spPr>
          <a:xfrm>
            <a:off x="4951080" y="5357880"/>
            <a:ext cx="37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El progreso consiste en el camb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Miguel de Unam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795240"/>
          </a:xfrm>
          <a:prstGeom prst="rect">
            <a:avLst/>
          </a:prstGeom>
          <a:gradFill rotWithShape="0">
            <a:gsLst>
              <a:gs pos="0">
                <a:srgbClr val="10cf9b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85091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Reflexiones Final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5 Rectángulo"/>
          <p:cNvSpPr/>
          <p:nvPr/>
        </p:nvSpPr>
        <p:spPr>
          <a:xfrm>
            <a:off x="714240" y="1714680"/>
            <a:ext cx="8072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l desarrollo curricular debe definir las tareas típicas del profesional, para después identificar cuáles son las informaciones (sobre productos, materiales o insumos, maquinaria, formas organizativas, procesos, normas, etc.) que intervienen en la realización de dichas t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rtir en capital humano es uno de los medios más efectivos para reducir la pobreza y fomentar el desarrollo sosten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La acción universitaria debe estar centrada en la participación, la descentralización y el desarrollo de valores human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de educación, extensión y capacitación agrícolas deben estar orientados a garantizan que la información sobre nuevas tecnologías, variedades de plantas y prácticas culturales lleguen tanto a los agricultores como a los hacedores de polít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diálogo de la ciencia formal con los saberes loc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a inclusión de los actores sociales como parte de la dinámica universitar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a ética y el compromiso social con el desarrollo sosten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rmonía entre la acción universitaria y las políticas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a innovación como eje trasversal de la reforma curricular para facilitar la participación de los estudiantes en este proceso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4"/>
          <p:cNvSpPr/>
          <p:nvPr/>
        </p:nvSpPr>
        <p:spPr>
          <a:xfrm>
            <a:off x="3071880" y="2000160"/>
            <a:ext cx="3143160" cy="2659320"/>
          </a:xfrm>
          <a:prstGeom prst="ellipse">
            <a:avLst/>
          </a:prstGeom>
          <a:solidFill>
            <a:srgbClr val="5ef0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evo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3429000" y="0"/>
            <a:ext cx="2509920" cy="961920"/>
          </a:xfrm>
          <a:prstGeom prst="ellipse">
            <a:avLst/>
          </a:prstGeom>
          <a:solidFill>
            <a:srgbClr val="009dd9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6286680" y="928800"/>
            <a:ext cx="2558880" cy="1110960"/>
          </a:xfrm>
          <a:prstGeom prst="ellipse">
            <a:avLst/>
          </a:prstGeom>
          <a:solidFill>
            <a:srgbClr val="d64ab1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858000" y="2643120"/>
            <a:ext cx="2286000" cy="1000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Alimen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357120" y="1071720"/>
            <a:ext cx="2457360" cy="1008000"/>
          </a:xfrm>
          <a:prstGeom prst="ellipse">
            <a:avLst/>
          </a:prstGeom>
          <a:solidFill>
            <a:srgbClr val="7cca62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357120" y="3000240"/>
            <a:ext cx="2027160" cy="857520"/>
          </a:xfrm>
          <a:prstGeom prst="ellipse">
            <a:avLst/>
          </a:prstGeom>
          <a:solidFill>
            <a:srgbClr val="4fceff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6643800" y="4500720"/>
            <a:ext cx="2500200" cy="1000080"/>
          </a:xfrm>
          <a:prstGeom prst="ellipse">
            <a:avLst/>
          </a:prstGeom>
          <a:solidFill>
            <a:srgbClr val="03495c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Cli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4000680" y="5429160"/>
            <a:ext cx="2212920" cy="1130400"/>
          </a:xfrm>
          <a:prstGeom prst="ellipse">
            <a:avLst/>
          </a:prstGeom>
          <a:solidFill>
            <a:srgbClr val="dbe7b6"/>
          </a:solidFill>
          <a:ln w="93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714240" y="4786200"/>
            <a:ext cx="2214720" cy="928800"/>
          </a:xfrm>
          <a:prstGeom prst="ellipse">
            <a:avLst/>
          </a:prstGeom>
          <a:solidFill>
            <a:srgbClr val="08684e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Co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1 Flecha arriba"/>
          <p:cNvSpPr/>
          <p:nvPr/>
        </p:nvSpPr>
        <p:spPr>
          <a:xfrm>
            <a:off x="4500720" y="1143000"/>
            <a:ext cx="214200" cy="6429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3 Flecha derecha"/>
          <p:cNvSpPr/>
          <p:nvPr/>
        </p:nvSpPr>
        <p:spPr>
          <a:xfrm rot="10800000">
            <a:off x="2499840" y="3286080"/>
            <a:ext cx="500040" cy="225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5 Flecha derecha"/>
          <p:cNvSpPr/>
          <p:nvPr/>
        </p:nvSpPr>
        <p:spPr>
          <a:xfrm rot="13306800">
            <a:off x="2658600" y="2028600"/>
            <a:ext cx="623880" cy="28404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6 Flecha derecha"/>
          <p:cNvSpPr/>
          <p:nvPr/>
        </p:nvSpPr>
        <p:spPr>
          <a:xfrm rot="19601400">
            <a:off x="5951520" y="2018880"/>
            <a:ext cx="673200" cy="2793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7 Flecha derecha"/>
          <p:cNvSpPr/>
          <p:nvPr/>
        </p:nvSpPr>
        <p:spPr>
          <a:xfrm rot="2085600">
            <a:off x="6160680" y="4249800"/>
            <a:ext cx="71460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8 Flecha derecha"/>
          <p:cNvSpPr/>
          <p:nvPr/>
        </p:nvSpPr>
        <p:spPr>
          <a:xfrm>
            <a:off x="6378480" y="3214800"/>
            <a:ext cx="479520" cy="25704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1 Flecha derecha"/>
          <p:cNvSpPr/>
          <p:nvPr/>
        </p:nvSpPr>
        <p:spPr>
          <a:xfrm rot="5137200">
            <a:off x="4619880" y="4910760"/>
            <a:ext cx="527040" cy="299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32 Flecha derecha"/>
          <p:cNvSpPr/>
          <p:nvPr/>
        </p:nvSpPr>
        <p:spPr>
          <a:xfrm rot="7397400">
            <a:off x="2868120" y="4549680"/>
            <a:ext cx="779400" cy="2743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1 Rectángulo"/>
          <p:cNvSpPr/>
          <p:nvPr/>
        </p:nvSpPr>
        <p:spPr>
          <a:xfrm>
            <a:off x="214200" y="2286000"/>
            <a:ext cx="2714760" cy="1914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Constantia"/>
              </a:rPr>
              <a:t>MEGATENDENCIAS DE ORDEN EXPLÍ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 CuadroTexto"/>
          <p:cNvSpPr/>
          <p:nvPr/>
        </p:nvSpPr>
        <p:spPr>
          <a:xfrm>
            <a:off x="3010680" y="785880"/>
            <a:ext cx="1445760" cy="368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es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5 CuadroTexto"/>
          <p:cNvSpPr/>
          <p:nvPr/>
        </p:nvSpPr>
        <p:spPr>
          <a:xfrm>
            <a:off x="3000240" y="1357200"/>
            <a:ext cx="6032520" cy="398880"/>
          </a:xfrm>
          <a:prstGeom prst="rect">
            <a:avLst/>
          </a:prstGeom>
          <a:solidFill>
            <a:srgbClr val="b5ed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Inseguridad Alimentaria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6 CuadroTexto"/>
          <p:cNvSpPr/>
          <p:nvPr/>
        </p:nvSpPr>
        <p:spPr>
          <a:xfrm>
            <a:off x="3029040" y="1928880"/>
            <a:ext cx="5974920" cy="368280"/>
          </a:xfrm>
          <a:prstGeom prst="rect">
            <a:avLst/>
          </a:prstGeom>
          <a:solidFill>
            <a:srgbClr val="c8e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umento de la disparidad urbano-rurales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7 CuadroTexto"/>
          <p:cNvSpPr/>
          <p:nvPr/>
        </p:nvSpPr>
        <p:spPr>
          <a:xfrm>
            <a:off x="3037680" y="2500200"/>
            <a:ext cx="5970240" cy="642600"/>
          </a:xfrm>
          <a:prstGeom prst="rect">
            <a:avLst/>
          </a:prstGeom>
          <a:solidFill>
            <a:srgbClr val="c4e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érdida de la diversidad biológica y debilitamiento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cosist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8 CuadroTexto"/>
          <p:cNvSpPr/>
          <p:nvPr/>
        </p:nvSpPr>
        <p:spPr>
          <a:xfrm>
            <a:off x="3016800" y="3357720"/>
            <a:ext cx="5999400" cy="36828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ambio Climático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9 CuadroTexto"/>
          <p:cNvSpPr/>
          <p:nvPr/>
        </p:nvSpPr>
        <p:spPr>
          <a:xfrm>
            <a:off x="3015000" y="3929040"/>
            <a:ext cx="5990040" cy="642600"/>
          </a:xfrm>
          <a:prstGeom prst="rect">
            <a:avLst/>
          </a:prstGeom>
          <a:solidFill>
            <a:srgbClr val="8a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gotamiento de matriz energética afirmada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hidrocarburos.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0 CuadroTexto"/>
          <p:cNvSpPr/>
          <p:nvPr/>
        </p:nvSpPr>
        <p:spPr>
          <a:xfrm>
            <a:off x="3000240" y="4714920"/>
            <a:ext cx="5929560" cy="642600"/>
          </a:xfrm>
          <a:prstGeom prst="rect">
            <a:avLst/>
          </a:prstGeom>
          <a:solidFill>
            <a:srgbClr val="91c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1 CuadroTexto"/>
          <p:cNvSpPr/>
          <p:nvPr/>
        </p:nvSpPr>
        <p:spPr>
          <a:xfrm>
            <a:off x="3000240" y="5500800"/>
            <a:ext cx="5929560" cy="642600"/>
          </a:xfrm>
          <a:prstGeom prst="rect">
            <a:avLst/>
          </a:prstGeom>
          <a:solidFill>
            <a:srgbClr val="6bd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xclu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ectangle 1026"/>
          <p:cNvGrpSpPr/>
          <p:nvPr/>
        </p:nvGrpSpPr>
        <p:grpSpPr>
          <a:xfrm>
            <a:off x="444600" y="262080"/>
            <a:ext cx="8254800" cy="804600"/>
            <a:chOff x="444600" y="262080"/>
            <a:chExt cx="8254800" cy="804600"/>
          </a:xfrm>
        </p:grpSpPr>
        <p:pic>
          <p:nvPicPr>
            <p:cNvPr id="242" name="Rectangle 1026" descr=""/>
            <p:cNvPicPr/>
            <p:nvPr/>
          </p:nvPicPr>
          <p:blipFill>
            <a:blip r:embed="rId2"/>
            <a:stretch/>
          </p:blipFill>
          <p:spPr>
            <a:xfrm>
              <a:off x="444600" y="262080"/>
              <a:ext cx="82548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7200" y="274680"/>
              <a:ext cx="82296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4000" spc="-1" strike="noStrike">
                  <a:solidFill>
                    <a:srgbClr val="000000"/>
                  </a:solidFill>
                  <a:latin typeface="Calibri"/>
                </a:rPr>
                <a:t>Derechos Fundamenta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Declaración Universal de Derechos Humano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 través del reconocimiento a la dignidad e igualdad de derechos inalienables de todas las perso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4 Rectángulo redondeado"/>
          <p:cNvSpPr/>
          <p:nvPr/>
        </p:nvSpPr>
        <p:spPr>
          <a:xfrm>
            <a:off x="1071720" y="2786040"/>
            <a:ext cx="1857240" cy="1214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Constantia"/>
              </a:rPr>
              <a:t>LIBER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8 Rectángulo redondeado"/>
          <p:cNvSpPr/>
          <p:nvPr/>
        </p:nvSpPr>
        <p:spPr>
          <a:xfrm>
            <a:off x="3643200" y="2857680"/>
            <a:ext cx="1785960" cy="1214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Constantia"/>
              </a:rPr>
              <a:t>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9 Rectángulo redondeado"/>
          <p:cNvSpPr/>
          <p:nvPr/>
        </p:nvSpPr>
        <p:spPr>
          <a:xfrm>
            <a:off x="6072120" y="2786040"/>
            <a:ext cx="1785960" cy="1214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Constantia"/>
              </a:rPr>
              <a:t>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3 Imagen" descr="ladesertificacion-29-jun-07.jpg"/>
          <p:cNvPicPr/>
          <p:nvPr/>
        </p:nvPicPr>
        <p:blipFill>
          <a:blip r:embed="rId2"/>
          <a:stretch/>
        </p:blipFill>
        <p:spPr>
          <a:xfrm>
            <a:off x="3643200" y="4286160"/>
            <a:ext cx="2571840" cy="1643040"/>
          </a:xfrm>
          <a:prstGeom prst="rect">
            <a:avLst/>
          </a:prstGeom>
          <a:ln w="0">
            <a:noFill/>
          </a:ln>
        </p:spPr>
      </p:pic>
      <p:pic>
        <p:nvPicPr>
          <p:cNvPr id="249" name="4 Imagen" descr="pobreza"/>
          <p:cNvPicPr/>
          <p:nvPr/>
        </p:nvPicPr>
        <p:blipFill>
          <a:blip r:embed="rId3"/>
          <a:stretch/>
        </p:blipFill>
        <p:spPr>
          <a:xfrm>
            <a:off x="4572000" y="1285920"/>
            <a:ext cx="1857240" cy="2357280"/>
          </a:xfrm>
          <a:prstGeom prst="rect">
            <a:avLst/>
          </a:prstGeom>
          <a:ln w="0">
            <a:noFill/>
          </a:ln>
        </p:spPr>
      </p:pic>
      <p:pic>
        <p:nvPicPr>
          <p:cNvPr id="250" name="5 Imagen" descr="http://www.nodo50.org/esperanto/fotoj/CambioClimatico01.jpg"/>
          <p:cNvPicPr/>
          <p:nvPr/>
        </p:nvPicPr>
        <p:blipFill>
          <a:blip r:embed="rId4"/>
          <a:stretch/>
        </p:blipFill>
        <p:spPr>
          <a:xfrm>
            <a:off x="2571840" y="1357200"/>
            <a:ext cx="1857240" cy="2214720"/>
          </a:xfrm>
          <a:prstGeom prst="rect">
            <a:avLst/>
          </a:prstGeom>
          <a:ln w="0">
            <a:noFill/>
          </a:ln>
        </p:spPr>
      </p:pic>
      <p:pic>
        <p:nvPicPr>
          <p:cNvPr id="251" name="6 Imagen" descr="http://trabajofilos.blogia.com/upload/20070522192423-pateras.jpg"/>
          <p:cNvPicPr/>
          <p:nvPr/>
        </p:nvPicPr>
        <p:blipFill>
          <a:blip r:embed="rId5"/>
          <a:stretch/>
        </p:blipFill>
        <p:spPr>
          <a:xfrm>
            <a:off x="214200" y="128592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252" name="7 Imagen" descr="http://www.nodo50.org/mlrs/weblog/images/20070317180729-hambre.jpg"/>
          <p:cNvPicPr/>
          <p:nvPr/>
        </p:nvPicPr>
        <p:blipFill>
          <a:blip r:embed="rId6"/>
          <a:stretch/>
        </p:blipFill>
        <p:spPr>
          <a:xfrm>
            <a:off x="6429240" y="4000680"/>
            <a:ext cx="2384640" cy="1714320"/>
          </a:xfrm>
          <a:prstGeom prst="rect">
            <a:avLst/>
          </a:prstGeom>
          <a:ln w="0">
            <a:noFill/>
          </a:ln>
        </p:spPr>
      </p:pic>
      <p:sp>
        <p:nvSpPr>
          <p:cNvPr id="253" name="11 CuadroTexto"/>
          <p:cNvSpPr/>
          <p:nvPr/>
        </p:nvSpPr>
        <p:spPr>
          <a:xfrm>
            <a:off x="3868560" y="60008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esert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2 CuadroTexto"/>
          <p:cNvSpPr/>
          <p:nvPr/>
        </p:nvSpPr>
        <p:spPr>
          <a:xfrm>
            <a:off x="4936680" y="37148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3 CuadroTexto"/>
          <p:cNvSpPr/>
          <p:nvPr/>
        </p:nvSpPr>
        <p:spPr>
          <a:xfrm>
            <a:off x="7082640" y="5857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esnutr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uadroTexto"/>
          <p:cNvSpPr/>
          <p:nvPr/>
        </p:nvSpPr>
        <p:spPr>
          <a:xfrm>
            <a:off x="2655000" y="35719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ntamin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5 CuadroTexto"/>
          <p:cNvSpPr/>
          <p:nvPr/>
        </p:nvSpPr>
        <p:spPr>
          <a:xfrm>
            <a:off x="581400" y="3571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Mig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6 CuadroTexto"/>
          <p:cNvSpPr/>
          <p:nvPr/>
        </p:nvSpPr>
        <p:spPr>
          <a:xfrm>
            <a:off x="870120" y="50004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"/>
              </a:rPr>
              <a:t>Y sin embarg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www1.fao.org/media_thumbs/Photos/1995/May1995/Thumbs_384/18120.jpg"/>
          <p:cNvPicPr/>
          <p:nvPr/>
        </p:nvPicPr>
        <p:blipFill>
          <a:blip r:embed="rId7"/>
          <a:stretch/>
        </p:blipFill>
        <p:spPr>
          <a:xfrm>
            <a:off x="785880" y="4214880"/>
            <a:ext cx="2643120" cy="1741320"/>
          </a:xfrm>
          <a:prstGeom prst="rect">
            <a:avLst/>
          </a:prstGeom>
          <a:ln w="0">
            <a:noFill/>
          </a:ln>
        </p:spPr>
      </p:pic>
      <p:sp>
        <p:nvSpPr>
          <p:cNvPr id="260" name="19 CuadroTexto"/>
          <p:cNvSpPr/>
          <p:nvPr/>
        </p:nvSpPr>
        <p:spPr>
          <a:xfrm>
            <a:off x="946080" y="600084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esigual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http://www.publimatic.com/elmercurio/AFRICADARF.jpg"/>
          <p:cNvPicPr/>
          <p:nvPr/>
        </p:nvPicPr>
        <p:blipFill>
          <a:blip r:embed="rId8"/>
          <a:stretch/>
        </p:blipFill>
        <p:spPr>
          <a:xfrm>
            <a:off x="6572160" y="185724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262" name="21 CuadroTexto"/>
          <p:cNvSpPr/>
          <p:nvPr/>
        </p:nvSpPr>
        <p:spPr>
          <a:xfrm>
            <a:off x="7080480" y="3429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23600"/>
          </a:xfrm>
          <a:prstGeom prst="rect">
            <a:avLst/>
          </a:prstGeom>
          <a:gradFill rotWithShape="0">
            <a:gsLst>
              <a:gs pos="0">
                <a:srgbClr val="10cf9b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00000"/>
                </a:solidFill>
                <a:latin typeface="Calibri"/>
              </a:rPr>
              <a:t>Rol de la Agricultu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76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agricultura es un instrumento de desarrollo fundamental para reducir la proporción de personas que padecen hambre y viven en la extrema pobrez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4" descr="papa1_chica_campesinos_Huama_Peru_Milagros_Salaz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4221000"/>
            <a:ext cx="25542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5" descr=""/>
          <p:cNvPicPr/>
          <p:nvPr/>
        </p:nvPicPr>
        <p:blipFill>
          <a:blip r:embed="rId2"/>
          <a:stretch/>
        </p:blipFill>
        <p:spPr>
          <a:xfrm>
            <a:off x="353880" y="701640"/>
            <a:ext cx="8339400" cy="2559240"/>
          </a:xfrm>
          <a:prstGeom prst="rect">
            <a:avLst/>
          </a:prstGeom>
          <a:ln w="0">
            <a:noFill/>
          </a:ln>
        </p:spPr>
      </p:pic>
      <p:sp>
        <p:nvSpPr>
          <p:cNvPr id="267" name="2 CuadroTexto"/>
          <p:cNvSpPr/>
          <p:nvPr/>
        </p:nvSpPr>
        <p:spPr>
          <a:xfrm>
            <a:off x="2938320" y="4786200"/>
            <a:ext cx="56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Lo menos que podemos hacer, en servicio de algo,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comprende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José Ortega y G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324000" y="1052640"/>
          <a:ext cx="8424720" cy="53686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is necesidades y derechos humanos básic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stemas de la Sociedad e infraestructura respons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Derechos humanos + seguridad 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ribunales, poder judicial, policía, abogados, pris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. Educa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Universidades y escuelas, educadores, centros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. Sal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ospitales, clínicas, médicos, recolección de bas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. Energ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d de producción de energía, infraestructura de exploración, 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. Vivie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inisterio de vivienda, desarrollo de bienes raices priv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. Aliment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?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269" name="Text Box 48"/>
          <p:cNvSpPr/>
          <p:nvPr/>
        </p:nvSpPr>
        <p:spPr>
          <a:xfrm>
            <a:off x="285840" y="285840"/>
            <a:ext cx="8286840" cy="4597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ORGANIZACIÓN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7:07:04Z</dcterms:created>
  <dc:creator>Usuario de RED</dc:creator>
  <dc:description/>
  <dc:language>en-US</dc:language>
  <cp:lastModifiedBy>MICROSOFT</cp:lastModifiedBy>
  <dcterms:modified xsi:type="dcterms:W3CDTF">2008-12-08T16:00:05Z</dcterms:modified>
  <cp:revision>239</cp:revision>
  <dc:subject/>
  <dc:title>Diapositiva 1</dc:title>
</cp:coreProperties>
</file>