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F85-DF66-4263-86A5-69E767AA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A36-9C2C-495E-91F4-8B434A4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9C3-3930-4B9D-8DA0-BF801CB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EF3-BCEB-4740-8EE7-5BCA1819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DF8-9DF1-4E40-B8E0-6996F137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935-67CC-4429-AAF2-9E5F0CA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9FA-B647-4684-AD6B-3BEBAE7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385-AD8F-413C-A478-FA8C658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7DE-19FA-4A8A-94F5-810B990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667-2245-4E24-B18D-E5EF90A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905-42BF-4E92-84C1-E13B2D2D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D09-658D-4BE2-A514-8EFBFE4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5675-6FF4-432C-A683-6E955C92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A Nº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promover la capacitación como fuente de autogestión y financiamiento en beneficio del incremento tecnológico y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desarrollar y actualizar competencias pedagógicas y de abordaje comunitario en forma permanente en sus docente y estud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incrementar el intercambio del recurso humano con otras instituciones y países, y validar la sistematización y socialización de las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versidad debe integrarse a las políticas de estado sobre desarrollo rural y agrícola. PROPU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rio Naranjo (moderador) UCLA Venez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tonio Alcivar (secretario)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x Valverde.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rnesto Erazo. UC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ardo Urrutia IASA-ESP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vid Campi UTEQ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e Robles UL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o educativo no formal dirigido a desarrollar competencias en el individuo partiendo de las cuatro dimensiones del ser humano: bien ser, bien hacer, bien estar y bien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pacitación constituye un componente básico de la extensión como función académ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a acumulada del recurso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dad de compe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humano calificado (docentes, estudiantes y colaborador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o con la excelencia académica y la equidad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jo apoyo 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irismo en el desarrollo de los progra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istencia la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educación tradicional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 organización para la 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ranía alimentaría con énfasis en la producción orgá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miento y apoyo de organismos internacionales al desarrollo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 favorable de la sociedad hacia la universidad como factor de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s negativas y falta de apoy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ición de modelos tecnológicos y de desarrollo externos con mucho poder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l modelo pedagógico por competencias aprop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un enfoque participativo, horizontal, contextualizado y ético en la capac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tecnologías de punta en capacitación (TIC’s) y SIG, y educación a di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ción de la capacitación hacia el emprendimiento lo que refleja una visión productiva del proceso y de las prioridades so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vinculación con las organizaciones, los programas y tendencia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2:52Z</dcterms:created>
  <dc:creator>Facultad Tecnica</dc:creator>
  <dc:description/>
  <dc:language>en-US</dc:language>
  <cp:lastModifiedBy>Facultad Tecnica</cp:lastModifiedBy>
  <dcterms:modified xsi:type="dcterms:W3CDTF">2009-09-29T18:49:13Z</dcterms:modified>
  <cp:revision>3</cp:revision>
  <dc:subject/>
  <dc:title>MESA Nº 8</dc:title>
</cp:coreProperties>
</file>