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7849-F299-4DA5-B130-3555AAC11C0C}" type="slidenum">
              <a:rPr b="0" lang="es-B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Esta es una dimensión difícil de evaluar, requiere identificar cuál ha sido la contribución de las acciones del proyecto a los resultados encontrados, separándolas de otras acciones o factores que pudieron haber influido, por lo tanto requiere de un mayor esfuerz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922A-8387-40E4-9C8D-E6AA0C7604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ED8-6BA0-4F52-B63E-6E3B4FDF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9873-CCB6-4223-AA98-0D90DA86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CAC8-5D2F-4266-A0B4-AAEB189C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33A-CA35-494A-AEDF-10E96190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0E8-9025-4AE1-B139-6B17B0EB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29AC-5C16-40DC-A417-0EE7B750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F29-3AA4-44F2-92AA-9129716E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687-C80B-4F71-AE48-F21EBAFE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012-F8F8-42F9-B3EC-F21111C2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8D46-2FFD-4CAB-A4FF-437CDAE1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1CB-CE2D-4469-84DC-37E02107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6AC-3CC6-44E5-96D0-C8067A24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F8E9-2005-47C9-B212-6759864D228F}" type="slidenum">
              <a:rPr b="0" lang="es-B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857480"/>
            <a:ext cx="8215200" cy="14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UADOR SEPTIEMBRE DE 2009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560" y="0"/>
            <a:ext cx="8715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SARROLLO DE CAPACIDA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STITUCIONALES Y LOCALES EN GESTION Y NEGOCIACION DE RECUR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5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1285920" y="3071880"/>
            <a:ext cx="700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UNDAMENTOS DE LA ESTRATEGIA DE COOPERACIÓN TÉCNICA EN TERRI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785880" y="142920"/>
          <a:ext cx="7643880" cy="67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42920"/>
                    <a:ext cx="7643880" cy="67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70c0"/>
                </a:solidFill>
                <a:latin typeface="Calibri"/>
              </a:rPr>
              <a:t>PROGRAMA DE INVERSIONES LOS RÍOS. </a:t>
            </a:r>
            <a:br>
              <a:rPr sz="2400"/>
            </a:br>
            <a:r>
              <a:rPr b="1" lang="es-BO" sz="2400" spc="-1" strike="noStrike">
                <a:solidFill>
                  <a:srgbClr val="0070c0"/>
                </a:solidFill>
                <a:latin typeface="Calibri"/>
              </a:rPr>
              <a:t>ESTRUCTURA DEL DOCU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755640" y="836280"/>
            <a:ext cx="7920000" cy="2808720"/>
            <a:chOff x="755640" y="836280"/>
            <a:chExt cx="7920000" cy="2808720"/>
          </a:xfrm>
        </p:grpSpPr>
        <p:sp>
          <p:nvSpPr>
            <p:cNvPr id="70" name="Rectangle 4"/>
            <p:cNvSpPr/>
            <p:nvPr/>
          </p:nvSpPr>
          <p:spPr>
            <a:xfrm>
              <a:off x="1692360" y="836640"/>
              <a:ext cx="6983280" cy="2808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5040" indent="-90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200" spc="-1" strike="noStrike">
                  <a:solidFill>
                    <a:srgbClr val="0070c0"/>
                  </a:solidFill>
                  <a:latin typeface="Arial"/>
                </a:rPr>
                <a:t>- </a:t>
              </a: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RESUMEN EJECUTIV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90360"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ANTECEDENT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90360"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MARCO CONCEPTUAL DE LA PROPUEST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90360"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PROGRAMA DE INVERSION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2800" indent="-8748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ORIGEN Y JUSTIFICACIÓN DEL PROGRAM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2800" indent="-8748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OBJETIVOS DEL PROGRA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2800" indent="-8748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BENEFICIARIOS Y COBERTURA GEOGRÁF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2800" indent="-8748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ESTRATEGIA DE INTERVENCIÓN Y ORGANIZACIÓN PARA </a:t>
              </a:r>
              <a:br>
                <a:rPr sz="1400"/>
              </a:b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LA EJECU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2800" indent="-8748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PLAN DE EJECUCIÓ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90360"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CARTERA DE PROYECTOS Y PROGRAMA DE INVERSIONES, </a:t>
              </a:r>
              <a:br>
                <a:rPr sz="1400"/>
              </a:b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ESTIMACIÓN DE COSTOS DE PREINVERSIÓN E INVER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 rot="10800000">
              <a:off x="755640" y="836280"/>
              <a:ext cx="720720" cy="2808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400" spc="-1" strike="noStrike">
                  <a:solidFill>
                    <a:srgbClr val="0070c0"/>
                  </a:solidFill>
                  <a:latin typeface="Arial"/>
                </a:rPr>
                <a:t>DOCUMENTO </a:t>
              </a:r>
              <a:br>
                <a:rPr sz="1400"/>
              </a:br>
              <a:r>
                <a:rPr b="1" lang="es-BO" sz="1400" spc="-1" strike="noStrike">
                  <a:solidFill>
                    <a:srgbClr val="0070c0"/>
                  </a:solidFill>
                  <a:latin typeface="Arial"/>
                </a:rPr>
                <a:t>EJECU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6"/>
          <p:cNvGrpSpPr/>
          <p:nvPr/>
        </p:nvGrpSpPr>
        <p:grpSpPr>
          <a:xfrm>
            <a:off x="755640" y="3789360"/>
            <a:ext cx="7920000" cy="2735280"/>
            <a:chOff x="755640" y="3789360"/>
            <a:chExt cx="7920000" cy="2735280"/>
          </a:xfrm>
        </p:grpSpPr>
        <p:sp>
          <p:nvSpPr>
            <p:cNvPr id="73" name="Rectangle 7"/>
            <p:cNvSpPr/>
            <p:nvPr/>
          </p:nvSpPr>
          <p:spPr>
            <a:xfrm>
              <a:off x="1692360" y="3789360"/>
              <a:ext cx="6983280" cy="2735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533520" indent="-76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CARTERA DE PROYEC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3520" indent="-76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- PROYECTO 1 (Ficha 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ubproyecto 1.1(Ficha 1.1); subproyecto 1.2 (Ficha 1.2); </a:t>
              </a:r>
              <a:br>
                <a:rPr sz="1400"/>
              </a:b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ubproyecto 1.n (Ficha 1.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3520" indent="-7632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PROYECTO 2 (Ficha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ubproyecto 2.1(Ficha 2.1); subproyecto 2.2 (Ficha 2.2); </a:t>
              </a:r>
              <a:br>
                <a:rPr sz="1400"/>
              </a:b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ubproyecto 2.n (Ficha 2.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3520" indent="-7632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PROYECTO N (Ficha 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70c0"/>
                </a:buClr>
                <a:buFont typeface="Arial"/>
                <a:buChar char="-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ubproyecto N.1(Ficha N.1); subproyecto N.2 (Ficha N.2); </a:t>
              </a:r>
              <a:br>
                <a:rPr sz="1400"/>
              </a:br>
              <a:r>
                <a:rPr b="1" lang="es-BO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ubproyecto N.n (Ficha N.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 rot="10800000">
              <a:off x="755640" y="3789360"/>
              <a:ext cx="720720" cy="273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400" spc="-1" strike="noStrike">
                  <a:solidFill>
                    <a:srgbClr val="0070c0"/>
                  </a:solidFill>
                  <a:latin typeface="Arial"/>
                </a:rPr>
                <a:t>ANEXO: CARTERA DE </a:t>
              </a:r>
              <a:br>
                <a:rPr sz="1400"/>
              </a:br>
              <a:r>
                <a:rPr b="0" lang="es-BO" sz="1400" spc="-1" strike="noStrike">
                  <a:solidFill>
                    <a:srgbClr val="0070c0"/>
                  </a:solidFill>
                  <a:latin typeface="Arial"/>
                </a:rPr>
                <a:t>PROYECTOS </a:t>
              </a:r>
              <a:br>
                <a:rPr sz="1400"/>
              </a:br>
              <a:r>
                <a:rPr b="0" lang="es-BO" sz="1400" spc="-1" strike="noStrike">
                  <a:solidFill>
                    <a:srgbClr val="0070c0"/>
                  </a:solidFill>
                  <a:latin typeface="Arial"/>
                </a:rPr>
                <a:t>(FICH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0" y="2060640"/>
            <a:ext cx="9036000" cy="1511280"/>
            <a:chOff x="0" y="2060640"/>
            <a:chExt cx="9036000" cy="1511280"/>
          </a:xfrm>
        </p:grpSpPr>
        <p:sp>
          <p:nvSpPr>
            <p:cNvPr id="76" name="AutoShape 3"/>
            <p:cNvSpPr/>
            <p:nvPr/>
          </p:nvSpPr>
          <p:spPr>
            <a:xfrm>
              <a:off x="0" y="2421000"/>
              <a:ext cx="971640" cy="1150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000" spc="-1" strike="noStrike">
                  <a:solidFill>
                    <a:srgbClr val="000000"/>
                  </a:solidFill>
                  <a:latin typeface="Arial"/>
                </a:rPr>
                <a:t>PROYE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"/>
            <p:cNvSpPr/>
            <p:nvPr/>
          </p:nvSpPr>
          <p:spPr>
            <a:xfrm>
              <a:off x="1332000" y="2637000"/>
              <a:ext cx="1152360" cy="64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Sistema de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Cambio Rura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5"/>
            <p:cNvSpPr/>
            <p:nvPr/>
          </p:nvSpPr>
          <p:spPr>
            <a:xfrm>
              <a:off x="2627280" y="2637000"/>
              <a:ext cx="1150920" cy="64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Gestión de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ecursos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Natural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3925800" y="2637000"/>
              <a:ext cx="1150920" cy="64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iego y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Dren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5292720" y="2637000"/>
              <a:ext cx="1150920" cy="64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Turismo Ru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6661080" y="2637000"/>
              <a:ext cx="1150920" cy="64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Cadenas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Agroproductiv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9"/>
            <p:cNvSpPr/>
            <p:nvPr/>
          </p:nvSpPr>
          <p:spPr>
            <a:xfrm>
              <a:off x="7885080" y="2637000"/>
              <a:ext cx="1150920" cy="64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Servicios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Financieros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ural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0"/>
            <p:cNvSpPr/>
            <p:nvPr/>
          </p:nvSpPr>
          <p:spPr>
            <a:xfrm>
              <a:off x="1835280" y="2060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5867280" y="2060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>
              <a:off x="3780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>
              <a:off x="3132000" y="23493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>
              <a:off x="3132000" y="234936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>
              <a:off x="4427640" y="234936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6"/>
            <p:cNvSpPr/>
            <p:nvPr/>
          </p:nvSpPr>
          <p:spPr>
            <a:xfrm>
              <a:off x="7812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7"/>
            <p:cNvSpPr/>
            <p:nvPr/>
          </p:nvSpPr>
          <p:spPr>
            <a:xfrm>
              <a:off x="7164360" y="2349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8"/>
            <p:cNvSpPr/>
            <p:nvPr/>
          </p:nvSpPr>
          <p:spPr>
            <a:xfrm>
              <a:off x="7164360" y="234936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9"/>
            <p:cNvSpPr/>
            <p:nvPr/>
          </p:nvSpPr>
          <p:spPr>
            <a:xfrm>
              <a:off x="8459640" y="234936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0"/>
          <p:cNvGrpSpPr/>
          <p:nvPr/>
        </p:nvGrpSpPr>
        <p:grpSpPr>
          <a:xfrm>
            <a:off x="0" y="3284640"/>
            <a:ext cx="9036000" cy="3573360"/>
            <a:chOff x="0" y="3284640"/>
            <a:chExt cx="9036000" cy="3573360"/>
          </a:xfrm>
        </p:grpSpPr>
        <p:sp>
          <p:nvSpPr>
            <p:cNvPr id="94" name="AutoShape 21"/>
            <p:cNvSpPr/>
            <p:nvPr/>
          </p:nvSpPr>
          <p:spPr>
            <a:xfrm>
              <a:off x="0" y="3573360"/>
              <a:ext cx="971640" cy="3284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000" spc="-1" strike="noStrike">
                  <a:solidFill>
                    <a:srgbClr val="000000"/>
                  </a:solidFill>
                  <a:latin typeface="Arial"/>
                </a:rPr>
                <a:t>SUB-</a:t>
              </a:r>
              <a:br>
                <a:rPr sz="1000"/>
              </a:br>
              <a:r>
                <a:rPr b="1" lang="es-BO" sz="1000" spc="-1" strike="noStrike">
                  <a:solidFill>
                    <a:srgbClr val="000000"/>
                  </a:solidFill>
                  <a:latin typeface="Arial"/>
                </a:rPr>
                <a:t>PROYECTOS</a:t>
              </a:r>
              <a:r>
                <a:rPr b="0" lang="es-BO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2"/>
            <p:cNvSpPr/>
            <p:nvPr/>
          </p:nvSpPr>
          <p:spPr>
            <a:xfrm>
              <a:off x="1332000" y="3573360"/>
              <a:ext cx="1150920" cy="1008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UCR´s para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la gestión y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desarrollo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territorial</a:t>
              </a:r>
              <a:r>
                <a:rPr b="0" lang="es-BO" sz="1200" spc="-1" strike="noStrike">
                  <a:solidFill>
                    <a:srgbClr val="eeece1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3"/>
            <p:cNvSpPr/>
            <p:nvPr/>
          </p:nvSpPr>
          <p:spPr>
            <a:xfrm>
              <a:off x="1332000" y="4724280"/>
              <a:ext cx="1150920" cy="935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Desarrollo de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Capacidades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 institucionales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 para el cambio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u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4"/>
            <p:cNvSpPr/>
            <p:nvPr/>
          </p:nvSpPr>
          <p:spPr>
            <a:xfrm>
              <a:off x="2629080" y="3573360"/>
              <a:ext cx="1150920" cy="1150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Inventario,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análisis de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situación y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propuesta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de recursos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 natural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5"/>
            <p:cNvSpPr/>
            <p:nvPr/>
          </p:nvSpPr>
          <p:spPr>
            <a:xfrm>
              <a:off x="3924360" y="4724280"/>
              <a:ext cx="1150920" cy="863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Explotación de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eservorios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 natural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6"/>
            <p:cNvSpPr/>
            <p:nvPr/>
          </p:nvSpPr>
          <p:spPr>
            <a:xfrm>
              <a:off x="3924360" y="3573360"/>
              <a:ext cx="1150920" cy="1008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Aprovecha-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miento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aguas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subterráne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7"/>
            <p:cNvSpPr/>
            <p:nvPr/>
          </p:nvSpPr>
          <p:spPr>
            <a:xfrm>
              <a:off x="5286240" y="3571920"/>
              <a:ext cx="1150920" cy="1008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utas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Agroturísticas</a:t>
              </a:r>
              <a:r>
                <a:rPr b="0" lang="es-BO" sz="1200" spc="-1" strike="noStrike">
                  <a:solidFill>
                    <a:srgbClr val="eeece1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8"/>
            <p:cNvSpPr/>
            <p:nvPr/>
          </p:nvSpPr>
          <p:spPr>
            <a:xfrm>
              <a:off x="6659640" y="4292640"/>
              <a:ext cx="1150920" cy="287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Maíz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9"/>
            <p:cNvSpPr/>
            <p:nvPr/>
          </p:nvSpPr>
          <p:spPr>
            <a:xfrm>
              <a:off x="6715080" y="3929040"/>
              <a:ext cx="1150920" cy="287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Arroz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0"/>
            <p:cNvSpPr/>
            <p:nvPr/>
          </p:nvSpPr>
          <p:spPr>
            <a:xfrm>
              <a:off x="6643800" y="3571920"/>
              <a:ext cx="1150920" cy="287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Caca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1"/>
            <p:cNvSpPr/>
            <p:nvPr/>
          </p:nvSpPr>
          <p:spPr>
            <a:xfrm>
              <a:off x="6659640" y="4653000"/>
              <a:ext cx="1150920" cy="936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Buenas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 Prácticas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Ganaderas y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mejoramiento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genétic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2"/>
            <p:cNvSpPr/>
            <p:nvPr/>
          </p:nvSpPr>
          <p:spPr>
            <a:xfrm>
              <a:off x="6661080" y="5661000"/>
              <a:ext cx="1150920" cy="863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Estudio 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biocombustibles</a:t>
              </a:r>
              <a:r>
                <a:rPr b="0" lang="es-BO" sz="1200" spc="-1" strike="noStrike">
                  <a:solidFill>
                    <a:srgbClr val="eeece1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3"/>
            <p:cNvSpPr/>
            <p:nvPr/>
          </p:nvSpPr>
          <p:spPr>
            <a:xfrm>
              <a:off x="7885080" y="4653000"/>
              <a:ext cx="1150920" cy="1008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Fondo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competitivo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para la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innovación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ura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4"/>
            <p:cNvSpPr/>
            <p:nvPr/>
          </p:nvSpPr>
          <p:spPr>
            <a:xfrm>
              <a:off x="7885080" y="3573360"/>
              <a:ext cx="1150920" cy="1008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Cooperativa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de desarrollo</a:t>
              </a:r>
              <a:br>
                <a:rPr sz="1200"/>
              </a:br>
              <a:r>
                <a:rPr b="1" lang="es-BO" sz="1200" spc="-1" strike="noStrike">
                  <a:solidFill>
                    <a:srgbClr val="000000"/>
                  </a:solidFill>
                  <a:latin typeface="Arial"/>
                </a:rPr>
                <a:t>rura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35"/>
            <p:cNvSpPr/>
            <p:nvPr/>
          </p:nvSpPr>
          <p:spPr>
            <a:xfrm>
              <a:off x="183528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6"/>
            <p:cNvSpPr/>
            <p:nvPr/>
          </p:nvSpPr>
          <p:spPr>
            <a:xfrm>
              <a:off x="313200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7"/>
            <p:cNvSpPr/>
            <p:nvPr/>
          </p:nvSpPr>
          <p:spPr>
            <a:xfrm>
              <a:off x="845964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8"/>
            <p:cNvSpPr/>
            <p:nvPr/>
          </p:nvSpPr>
          <p:spPr>
            <a:xfrm>
              <a:off x="716436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9"/>
            <p:cNvSpPr/>
            <p:nvPr/>
          </p:nvSpPr>
          <p:spPr>
            <a:xfrm>
              <a:off x="586728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0"/>
            <p:cNvSpPr/>
            <p:nvPr/>
          </p:nvSpPr>
          <p:spPr>
            <a:xfrm>
              <a:off x="450072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41"/>
          <p:cNvSpPr/>
          <p:nvPr/>
        </p:nvSpPr>
        <p:spPr>
          <a:xfrm>
            <a:off x="1835280" y="2060640"/>
            <a:ext cx="59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2"/>
          <p:cNvGrpSpPr/>
          <p:nvPr/>
        </p:nvGrpSpPr>
        <p:grpSpPr>
          <a:xfrm>
            <a:off x="0" y="549360"/>
            <a:ext cx="7380360" cy="1511280"/>
            <a:chOff x="0" y="549360"/>
            <a:chExt cx="7380360" cy="1511280"/>
          </a:xfrm>
        </p:grpSpPr>
        <p:sp>
          <p:nvSpPr>
            <p:cNvPr id="116" name="AutoShape 43"/>
            <p:cNvSpPr/>
            <p:nvPr/>
          </p:nvSpPr>
          <p:spPr>
            <a:xfrm>
              <a:off x="0" y="549360"/>
              <a:ext cx="1042920" cy="1150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000" spc="-1" strike="noStrike">
                  <a:solidFill>
                    <a:srgbClr val="000000"/>
                  </a:solidFill>
                  <a:latin typeface="Arial"/>
                </a:rPr>
                <a:t>PLANES/</a:t>
              </a:r>
              <a:br>
                <a:rPr sz="1000"/>
              </a:br>
              <a:r>
                <a:rPr b="1" lang="es-BO" sz="1000" spc="-1" strike="noStrike">
                  <a:solidFill>
                    <a:srgbClr val="000000"/>
                  </a:solidFill>
                  <a:latin typeface="Arial"/>
                </a:rPr>
                <a:t>ESTRATEG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4"/>
            <p:cNvSpPr/>
            <p:nvPr/>
          </p:nvSpPr>
          <p:spPr>
            <a:xfrm>
              <a:off x="2411280" y="549360"/>
              <a:ext cx="4969080" cy="1081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0000"/>
                  </a:solidFill>
                  <a:latin typeface="Arial"/>
                </a:rPr>
                <a:t>PLAN DE DESARROLLO PROVINCIAL</a:t>
              </a:r>
              <a:br>
                <a:rPr sz="1400"/>
              </a:br>
              <a:br>
                <a:rPr sz="1400"/>
              </a:br>
              <a:r>
                <a:rPr b="1" lang="es-BO" sz="1400" spc="-1" strike="noStrike">
                  <a:solidFill>
                    <a:srgbClr val="000000"/>
                  </a:solidFill>
                  <a:latin typeface="Arial"/>
                </a:rPr>
                <a:t>PLAN ESTRATÉGICO AGROPECU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000000"/>
                  </a:solidFill>
                  <a:latin typeface="Arial"/>
                </a:rPr>
                <a:t>OBJETIVOS DE DESARROLLO DEL MILEN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5"/>
            <p:cNvSpPr/>
            <p:nvPr/>
          </p:nvSpPr>
          <p:spPr>
            <a:xfrm>
              <a:off x="5003640" y="1628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6"/>
            <p:cNvSpPr/>
            <p:nvPr/>
          </p:nvSpPr>
          <p:spPr>
            <a:xfrm>
              <a:off x="3059280" y="1052640"/>
              <a:ext cx="36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82560" y="135000"/>
            <a:ext cx="597888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A - CONCEPTO DE LOS PROYECTOS IDENTIFICAD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REGUNTAS BASICAS PARA RESPONDER EN GRUPO DE TRABAJO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96000" y="1527840"/>
            <a:ext cx="4862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OYETO IDENTIFCADO:  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2049480"/>
          <a:ext cx="8183520" cy="4619520"/>
        </p:xfrm>
        <a:graphic>
          <a:graphicData uri="http://schemas.openxmlformats.org/drawingml/2006/table">
            <a:tbl>
              <a:tblPr/>
              <a:tblGrid>
                <a:gridCol w="2468520"/>
                <a:gridCol w="571500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EGU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ESCRIPC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  POR QUE?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stificación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PARA QUE Y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CUANTO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tivos y meta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  PARA QUIEN?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eficiario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   DONDE?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ció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   COMO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rategia-intervenció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   CON CUANTO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11 Rectángulo"/>
          <p:cNvGrpSpPr/>
          <p:nvPr/>
        </p:nvGrpSpPr>
        <p:grpSpPr>
          <a:xfrm>
            <a:off x="341280" y="1627200"/>
            <a:ext cx="1474920" cy="1176480"/>
            <a:chOff x="341280" y="1627200"/>
            <a:chExt cx="1474920" cy="1176480"/>
          </a:xfrm>
        </p:grpSpPr>
        <p:pic>
          <p:nvPicPr>
            <p:cNvPr id="125" name="11 Rectángulo" descr=""/>
            <p:cNvPicPr/>
            <p:nvPr/>
          </p:nvPicPr>
          <p:blipFill>
            <a:blip r:embed="rId1"/>
            <a:stretch/>
          </p:blipFill>
          <p:spPr>
            <a:xfrm>
              <a:off x="341280" y="1627200"/>
              <a:ext cx="147492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57120" y="1643040"/>
              <a:ext cx="1440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12 Rectángulo"/>
          <p:cNvGrpSpPr/>
          <p:nvPr/>
        </p:nvGrpSpPr>
        <p:grpSpPr>
          <a:xfrm>
            <a:off x="341280" y="2840040"/>
            <a:ext cx="2193840" cy="1177920"/>
            <a:chOff x="341280" y="2840040"/>
            <a:chExt cx="2193840" cy="1177920"/>
          </a:xfrm>
        </p:grpSpPr>
        <p:pic>
          <p:nvPicPr>
            <p:cNvPr id="128" name="12 Rectángulo" descr=""/>
            <p:cNvPicPr/>
            <p:nvPr/>
          </p:nvPicPr>
          <p:blipFill>
            <a:blip r:embed="rId2"/>
            <a:stretch/>
          </p:blipFill>
          <p:spPr>
            <a:xfrm>
              <a:off x="341280" y="2840040"/>
              <a:ext cx="219384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57120" y="2857680"/>
              <a:ext cx="2160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13 Rectángulo"/>
          <p:cNvGrpSpPr/>
          <p:nvPr/>
        </p:nvGrpSpPr>
        <p:grpSpPr>
          <a:xfrm>
            <a:off x="341280" y="4054320"/>
            <a:ext cx="2914560" cy="1176480"/>
            <a:chOff x="341280" y="4054320"/>
            <a:chExt cx="2914560" cy="1176480"/>
          </a:xfrm>
        </p:grpSpPr>
        <p:pic>
          <p:nvPicPr>
            <p:cNvPr id="131" name="13 Rectángulo" descr=""/>
            <p:cNvPicPr/>
            <p:nvPr/>
          </p:nvPicPr>
          <p:blipFill>
            <a:blip r:embed="rId3"/>
            <a:stretch/>
          </p:blipFill>
          <p:spPr>
            <a:xfrm>
              <a:off x="341280" y="4054320"/>
              <a:ext cx="29145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57120" y="4071960"/>
              <a:ext cx="2879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14 Rectángulo"/>
          <p:cNvGrpSpPr/>
          <p:nvPr/>
        </p:nvGrpSpPr>
        <p:grpSpPr>
          <a:xfrm>
            <a:off x="341280" y="5267160"/>
            <a:ext cx="3633840" cy="1182960"/>
            <a:chOff x="341280" y="5267160"/>
            <a:chExt cx="3633840" cy="1182960"/>
          </a:xfrm>
        </p:grpSpPr>
        <p:pic>
          <p:nvPicPr>
            <p:cNvPr id="134" name="14 Rectángulo" descr=""/>
            <p:cNvPicPr/>
            <p:nvPr/>
          </p:nvPicPr>
          <p:blipFill>
            <a:blip r:embed="rId4"/>
            <a:stretch/>
          </p:blipFill>
          <p:spPr>
            <a:xfrm>
              <a:off x="341280" y="5267160"/>
              <a:ext cx="363384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357120" y="5286240"/>
              <a:ext cx="3600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44ac"/>
                </a:solidFill>
                <a:latin typeface="Calibri"/>
              </a:rPr>
              <a:t>Criterios para considerar “bancable” un proyect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CuadroTexto"/>
          <p:cNvSpPr/>
          <p:nvPr/>
        </p:nvSpPr>
        <p:spPr>
          <a:xfrm>
            <a:off x="1785960" y="200016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Pertin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7 CuadroTexto"/>
          <p:cNvSpPr/>
          <p:nvPr/>
        </p:nvSpPr>
        <p:spPr>
          <a:xfrm>
            <a:off x="2500200" y="321480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Efici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8 CuadroTexto"/>
          <p:cNvSpPr/>
          <p:nvPr/>
        </p:nvSpPr>
        <p:spPr>
          <a:xfrm>
            <a:off x="3214800" y="44290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Efic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9 CuadroTexto"/>
          <p:cNvSpPr/>
          <p:nvPr/>
        </p:nvSpPr>
        <p:spPr>
          <a:xfrm>
            <a:off x="4000680" y="564372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Sosteni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1"/>
          <p:cNvGraphicFramePr/>
          <p:nvPr/>
        </p:nvGraphicFramePr>
        <p:xfrm>
          <a:off x="2000160" y="785880"/>
          <a:ext cx="6400800" cy="58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785880"/>
                    <a:ext cx="6400800" cy="58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3 Rectángulo"/>
          <p:cNvSpPr/>
          <p:nvPr/>
        </p:nvSpPr>
        <p:spPr>
          <a:xfrm>
            <a:off x="357120" y="1643040"/>
            <a:ext cx="1440000" cy="114300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8 CuadroTexto" descr=""/>
          <p:cNvPicPr/>
          <p:nvPr/>
        </p:nvPicPr>
        <p:blipFill>
          <a:blip r:embed="rId1"/>
          <a:stretch/>
        </p:blipFill>
        <p:spPr>
          <a:xfrm>
            <a:off x="1616040" y="1749600"/>
            <a:ext cx="2535120" cy="682560"/>
          </a:xfrm>
          <a:prstGeom prst="rect">
            <a:avLst/>
          </a:prstGeom>
          <a:ln w="0">
            <a:noFill/>
          </a:ln>
        </p:spPr>
      </p:pic>
      <p:sp>
        <p:nvSpPr>
          <p:cNvPr id="146" name="12 CuadroTexto"/>
          <p:cNvSpPr/>
          <p:nvPr/>
        </p:nvSpPr>
        <p:spPr>
          <a:xfrm>
            <a:off x="928800" y="3143160"/>
            <a:ext cx="321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Examina si los OBJETIVOS y RESULTADOS ESPERADOS son adecuados, pertinentes y congruentes c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3 CuadroTexto"/>
          <p:cNvSpPr/>
          <p:nvPr/>
        </p:nvSpPr>
        <p:spPr>
          <a:xfrm>
            <a:off x="5357880" y="2714760"/>
            <a:ext cx="32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orbel"/>
              </a:rPr>
              <a:t>a.</a:t>
            </a:r>
            <a:r>
              <a:rPr b="0" lang="es-CO" sz="1800" spc="-1" strike="noStrike">
                <a:solidFill>
                  <a:srgbClr val="000000"/>
                </a:solidFill>
                <a:latin typeface="Corbel"/>
              </a:rPr>
              <a:t> Las prioridades definidas por las instituciones so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4 CuadroTexto"/>
          <p:cNvSpPr/>
          <p:nvPr/>
        </p:nvSpPr>
        <p:spPr>
          <a:xfrm>
            <a:off x="5429160" y="3571920"/>
            <a:ext cx="32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orbel"/>
              </a:rPr>
              <a:t>b.</a:t>
            </a:r>
            <a:r>
              <a:rPr b="0" lang="es-CO" sz="1800" spc="-1" strike="noStrike">
                <a:solidFill>
                  <a:srgbClr val="000000"/>
                </a:solidFill>
                <a:latin typeface="Corbel"/>
              </a:rPr>
              <a:t> Con las necesidades de los potenciales 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5 CuadroTexto"/>
          <p:cNvSpPr/>
          <p:nvPr/>
        </p:nvSpPr>
        <p:spPr>
          <a:xfrm>
            <a:off x="1357200" y="5643720"/>
            <a:ext cx="7000920" cy="916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naliza la congruencia del proyecto con los objetivos generales de las instituciones participantes, no tanto la coherencia interna del proyecto (Marco Lóg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17 Conector angular"/>
          <p:cNvCxnSpPr/>
          <p:nvPr/>
        </p:nvCxnSpPr>
        <p:spPr>
          <a:xfrm flipV="1">
            <a:off x="4143240" y="3084120"/>
            <a:ext cx="1215360" cy="721440"/>
          </a:xfrm>
          <a:prstGeom prst="bentConnector3">
            <a:avLst>
              <a:gd name="adj1" fmla="val 49985"/>
            </a:avLst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51" name="18 Conector angular"/>
          <p:cNvCxnSpPr/>
          <p:nvPr/>
        </p:nvCxnSpPr>
        <p:spPr>
          <a:xfrm>
            <a:off x="4143240" y="3804840"/>
            <a:ext cx="1286640" cy="137160"/>
          </a:xfrm>
          <a:prstGeom prst="bentConnector3">
            <a:avLst>
              <a:gd name="adj1" fmla="val 49986"/>
            </a:avLst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4 Rectángulo"/>
          <p:cNvSpPr/>
          <p:nvPr/>
        </p:nvSpPr>
        <p:spPr>
          <a:xfrm>
            <a:off x="357120" y="2857680"/>
            <a:ext cx="2160720" cy="114300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9 CuadroTexto" descr=""/>
          <p:cNvPicPr/>
          <p:nvPr/>
        </p:nvPicPr>
        <p:blipFill>
          <a:blip r:embed="rId1"/>
          <a:stretch/>
        </p:blipFill>
        <p:spPr>
          <a:xfrm>
            <a:off x="2328840" y="3121200"/>
            <a:ext cx="2182680" cy="682560"/>
          </a:xfrm>
          <a:prstGeom prst="rect">
            <a:avLst/>
          </a:prstGeom>
          <a:ln w="0">
            <a:noFill/>
          </a:ln>
        </p:spPr>
      </p:pic>
      <p:sp>
        <p:nvSpPr>
          <p:cNvPr id="154" name="12 CuadroTexto"/>
          <p:cNvSpPr/>
          <p:nvPr/>
        </p:nvSpPr>
        <p:spPr>
          <a:xfrm>
            <a:off x="285840" y="4286160"/>
            <a:ext cx="3429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Se debe delimitar los campos de acción y las responsabilidades entre e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Financi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Formul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Ejecu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3 CuadroTexto"/>
          <p:cNvSpPr/>
          <p:nvPr/>
        </p:nvSpPr>
        <p:spPr>
          <a:xfrm>
            <a:off x="5500800" y="1643040"/>
            <a:ext cx="32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1. La relación insumo/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4 CuadroTexto"/>
          <p:cNvSpPr/>
          <p:nvPr/>
        </p:nvSpPr>
        <p:spPr>
          <a:xfrm>
            <a:off x="5500800" y="2363760"/>
            <a:ext cx="321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2. Resultados: financieros, humanos o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5 CuadroTexto"/>
          <p:cNvSpPr/>
          <p:nvPr/>
        </p:nvSpPr>
        <p:spPr>
          <a:xfrm>
            <a:off x="5500800" y="3214800"/>
            <a:ext cx="321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3. Costos: relación costos vs resultados  obtenidos, ¿son razonab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Resultados de </a:t>
            </a: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Primer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7 CuadroTexto"/>
          <p:cNvSpPr/>
          <p:nvPr/>
        </p:nvSpPr>
        <p:spPr>
          <a:xfrm>
            <a:off x="2428920" y="5572080"/>
            <a:ext cx="664380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¿No habrá duplicación de esfuerzos o superposición entre las actividades y otras intervenciones semejan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¿No habrá alternativas más eficientes para obtener más y mejores productos con los recursos disponib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6 Rectángulo"/>
          <p:cNvSpPr/>
          <p:nvPr/>
        </p:nvSpPr>
        <p:spPr>
          <a:xfrm>
            <a:off x="357120" y="4071960"/>
            <a:ext cx="2879640" cy="114300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11 CuadroTexto" descr=""/>
          <p:cNvPicPr/>
          <p:nvPr/>
        </p:nvPicPr>
        <p:blipFill>
          <a:blip r:embed="rId1"/>
          <a:stretch/>
        </p:blipFill>
        <p:spPr>
          <a:xfrm>
            <a:off x="3041640" y="4334040"/>
            <a:ext cx="3749760" cy="682560"/>
          </a:xfrm>
          <a:prstGeom prst="rect">
            <a:avLst/>
          </a:prstGeom>
          <a:ln w="0">
            <a:noFill/>
          </a:ln>
        </p:spPr>
      </p:pic>
      <p:sp>
        <p:nvSpPr>
          <p:cNvPr id="161" name="13 CuadroTexto"/>
          <p:cNvSpPr/>
          <p:nvPr/>
        </p:nvSpPr>
        <p:spPr>
          <a:xfrm>
            <a:off x="4786200" y="3143160"/>
            <a:ext cx="385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Son resultados de </a:t>
            </a: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Segundo Nivel</a:t>
            </a: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  cualitativo, responden a preguntas del tipo ¿cómo?, ¿por qué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4 CuadroTexto"/>
          <p:cNvSpPr/>
          <p:nvPr/>
        </p:nvSpPr>
        <p:spPr>
          <a:xfrm>
            <a:off x="4857840" y="4572000"/>
            <a:ext cx="342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Al evaluar los resultados, se debe determinar si se los pueden atribuir al proyecto en cuestión, ¿se puede descartar factores extern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5 Rectángulo"/>
          <p:cNvSpPr/>
          <p:nvPr/>
        </p:nvSpPr>
        <p:spPr>
          <a:xfrm>
            <a:off x="1000080" y="15001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orbel"/>
              </a:rPr>
              <a:t>Se toma como base los objetivos del proyecto, se identifican los resultados y se evalúa la magnitud o el alcance del proyecto y la calidad de los impactos sobre el medio que se pretendía intervenir. Se vincula los objetivos a ind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2 Subtítulo"/>
          <p:cNvSpPr/>
          <p:nvPr/>
        </p:nvSpPr>
        <p:spPr>
          <a:xfrm>
            <a:off x="785880" y="1857240"/>
            <a:ext cx="77724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OGRAMAS DE INVERS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STRUMENTO CLAVE PARA LA MOVILIZACION DE RECURSO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4 Rectángulo"/>
          <p:cNvSpPr/>
          <p:nvPr/>
        </p:nvSpPr>
        <p:spPr>
          <a:xfrm>
            <a:off x="357120" y="5286240"/>
            <a:ext cx="3600360" cy="114300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9 CuadroTexto" descr=""/>
          <p:cNvPicPr/>
          <p:nvPr/>
        </p:nvPicPr>
        <p:blipFill>
          <a:blip r:embed="rId1"/>
          <a:stretch/>
        </p:blipFill>
        <p:spPr>
          <a:xfrm>
            <a:off x="3828960" y="5546880"/>
            <a:ext cx="3748320" cy="688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"/>
          <p:cNvSpPr/>
          <p:nvPr/>
        </p:nvSpPr>
        <p:spPr>
          <a:xfrm>
            <a:off x="285840" y="1221120"/>
            <a:ext cx="5072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n qué medida los resultados del programa se sostienen luego de que este finalice o se hayan retirado los recursos exter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1 CuadroTexto"/>
          <p:cNvSpPr/>
          <p:nvPr/>
        </p:nvSpPr>
        <p:spPr>
          <a:xfrm>
            <a:off x="3786120" y="2571840"/>
            <a:ext cx="4357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2. </a:t>
            </a: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Se refiere al aprendizaje instituciones, es decir, en qué medida los socios internalizaron la experiencia y se capacitaron para seguir adelante sin el apoyo de la cooperación internacional. Depende de la naturaleza y de los objetivos del programa. Resultados de </a:t>
            </a: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Tercer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7120" y="2571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EJEMPLO DEL PROGRAMA DE INVERSION DE LOS RIOS</a:t>
            </a:r>
            <a:br>
              <a:rPr sz="4000"/>
            </a:br>
            <a:r>
              <a:rPr b="1" lang="es-AR" sz="4000" spc="-1" strike="noStrike">
                <a:solidFill>
                  <a:srgbClr val="00b050"/>
                </a:solidFill>
                <a:latin typeface="Calibri"/>
              </a:rPr>
              <a:t>(VER ARCHIVO PDF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METODOLOGÍA ADOPTADA EN LA PLANIFICACIÓN DEL DESARROLLO SOSTENIBL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formas y caminos operacionales para a elaboración de estrategias territoriales, fueron definidas como un proceso de trabajo que contempla  procedimientos y actividades secuenciadas, y las  técnicas de producción y deliberació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 un modo general, ese enfoque de trabajo se estructura en </a:t>
            </a: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cuatro postulados centrale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b050"/>
                </a:solidFill>
                <a:latin typeface="Calibri"/>
              </a:rPr>
              <a:t>a)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iculación del proceso técnico y político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b050"/>
                </a:solidFill>
                <a:latin typeface="Calibri"/>
              </a:rPr>
              <a:t>b)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combinación de proceso y producto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b050"/>
                </a:solidFill>
                <a:latin typeface="Calibri"/>
              </a:rPr>
              <a:t>c)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enfoque sistemático; 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b050"/>
                </a:solidFill>
                <a:latin typeface="Calibri"/>
              </a:rPr>
              <a:t>d)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visión estratégica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8001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s-CR" sz="3200" spc="-1" strike="noStrike">
                <a:solidFill>
                  <a:srgbClr val="ffff00"/>
                </a:solidFill>
                <a:latin typeface="Calibri"/>
              </a:rPr>
              <a:t>Superar la visión sectorial del medio rural,</a:t>
            </a:r>
            <a:br>
              <a:rPr sz="28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3 Rectángulo"/>
          <p:cNvSpPr/>
          <p:nvPr/>
        </p:nvSpPr>
        <p:spPr>
          <a:xfrm>
            <a:off x="1214280" y="0"/>
            <a:ext cx="700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ROPUESTA DESTACA LA NECESIDAD DE ENFRENTAR UNA SERIE DE RET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4 Rectángulo"/>
          <p:cNvSpPr/>
          <p:nvPr/>
        </p:nvSpPr>
        <p:spPr>
          <a:xfrm>
            <a:off x="1143000" y="521496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00"/>
                </a:solidFill>
                <a:latin typeface="Arial"/>
              </a:rPr>
              <a:t>Complementar los enfoques de participación y compensació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5 Rectángulo"/>
          <p:cNvSpPr/>
          <p:nvPr/>
        </p:nvSpPr>
        <p:spPr>
          <a:xfrm>
            <a:off x="1000080" y="2571840"/>
            <a:ext cx="75009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00"/>
                </a:solidFill>
                <a:latin typeface="Arial"/>
              </a:rPr>
              <a:t>Articular las dimensiones urbana y rural de manera orgánic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PLANES Y PROGRAMAS DT :</a:t>
            </a:r>
            <a:br>
              <a:rPr sz="2400"/>
            </a:b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EAMIENTOS Y VISIÓN SOBRE LOS CRITERIOS PARA LA ASIGNACIÓN DE LOS RECURSOS DE INVERS</a:t>
            </a:r>
            <a:r>
              <a:rPr b="1" lang="es-ES" sz="24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4 Rectángulo"/>
          <p:cNvSpPr/>
          <p:nvPr/>
        </p:nvSpPr>
        <p:spPr>
          <a:xfrm>
            <a:off x="142920" y="1428840"/>
            <a:ext cx="878688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ben impulsar proyectos qu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menten las sinergias entre las caden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gro-productivo-comerciales y los territorios; </a:t>
            </a:r>
            <a:br>
              <a:rPr sz="1800"/>
            </a:b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omuevan encadenamientos de la agricultura con otros sectore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que contribuyan a crear y estimular economías de escala y de aglomeració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encien el desarrollo de nuevas actividades productiv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mpulsen la asociació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concurran 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otenciar y movilizar el ahorr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se genera al interior de los territorios; y </a:t>
            </a:r>
            <a:br>
              <a:rPr sz="1800"/>
            </a:b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e coadyuven 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rtalecer el capital humano y social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os territorios rurales. </a:t>
            </a:r>
            <a:br>
              <a:rPr sz="18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00"/>
                </a:solidFill>
                <a:latin typeface="Calibri"/>
              </a:rPr>
              <a:t>Potenciar la visión convencional de manejo de recursos naturales desde una perspectiva de protección ambiental y de producción limpi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00"/>
                </a:solidFill>
                <a:latin typeface="Calibri"/>
              </a:rPr>
              <a:t>Superar la visión de transferencia tecnológica como herramienta para incrementar la productividad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00"/>
                </a:solidFill>
                <a:latin typeface="Calibri"/>
              </a:rPr>
              <a:t>Trascender la visión convencional del capital, la cual se restringe al capital económico</a:t>
            </a:r>
            <a:r>
              <a:rPr b="1" lang="es-CR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13840" y="213840"/>
            <a:ext cx="8472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Promover esquemas de cooperación que resulten en iniciativas de desarrollo rural orientadas por las demandas de los pobladores y agentes de los territorio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Promover la gestión del conocimient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Desarrollar nuevos mecanismos de gestión, que promuevan la articulación entre lo público y lo privado y entre lo nacional, lo regional y lo loc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00"/>
                </a:solidFill>
                <a:latin typeface="Calibri"/>
              </a:rPr>
              <a:t>Potenciar las sinergias intersectoriales y multisectorial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5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s-CR" sz="15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1928880" y="1928880"/>
          <a:ext cx="647676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1928880"/>
                    <a:ext cx="647676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76"/>
          <p:cNvGraphicFramePr/>
          <p:nvPr/>
        </p:nvGraphicFramePr>
        <p:xfrm>
          <a:off x="114480" y="252360"/>
          <a:ext cx="891540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52360"/>
                    <a:ext cx="891540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4:39:03Z</dcterms:created>
  <dc:creator>HP</dc:creator>
  <dc:description/>
  <dc:language>en-US</dc:language>
  <cp:lastModifiedBy>HP</cp:lastModifiedBy>
  <dcterms:modified xsi:type="dcterms:W3CDTF">2009-10-01T05:50:44Z</dcterms:modified>
  <cp:revision>43</cp:revision>
  <dc:subject/>
  <dc:title>Los planes y programas de desarrollo territorial, establecen lineamientos que hacen necesaria una visión diferente sobre los criterios para la asignación de los recursos de inversión. Se deben impulsar proyectos que:   Fomenten las sinergias entre las cadenas agro-productivo-comerciales y los territorios;  promuevan encadenamientos de la agricultura con otros sectores, que contribuyan a crear y estimular economías de escala y de aglomeración; potencien el desarrollo de nuevas actividades productivas,  impulsen la asociación y concurran a potenciar y movilizar el ahorro que se genera al interior de los territorios; y  que coadyuven a fortalecer el capital humano y social de los territorios rurales.</dc:title>
</cp:coreProperties>
</file>