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C8B-0E7E-44F4-B434-E1E22302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588-22E6-49FF-8043-6341C26F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5E6-AD45-4132-8D29-20188079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5AF-3971-41F9-B8A7-E8CB0AB2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080-E599-4AB0-B4B7-0EC86D01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89A-59D4-4296-9FAC-4516859C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185-28AC-4021-B9C3-499660DC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00B-69A3-455D-8D65-94D579F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D9D-3471-42D8-A06D-D96F2602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44D-CB59-4760-9B90-824CDF4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700-1E77-42BB-96E5-BD84233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FA0-764B-4986-A9CA-E39FAAD0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F0DC-5851-4C3F-A392-FF18CBD9B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A Nº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promover la capacitación como fuente de autogestión y financiamiento en beneficio del incremento tecnológico y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desarrollar y actualizar competencias pedagógicas y de abordaje comunitario en forma permanente en sus docente y estudi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debe incrementar el intercambio del recurso humano con otras instituciones y países, y validar la sistematización y socialización de las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versidad debe integrarse a las políticas de estado sobre desarrollo rural y agrícola. PROPU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rio Naranjo (moderador) UCLA Venez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tonio Alcivar (secretario) UTB Ecu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x Valverde. UTB Ecu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rnesto Erazo. UCE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ardo Urrutia IASA-ESPE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vid Campi UTEQ Ecu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e Robles UL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o educativo no formal dirigido a desarrollar competencias en el individuo partiendo de las cuatro dimensiones del ser humano: bien ser, bien hacer, bien estar y bien 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apacitación constituye un componente básico de la extensión como función académ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ALEZ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a acumulada del recurso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dad de compe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humano calificado (docentes, estudiantes y colaborador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omiso con la excelencia académica y la equidad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jo apoyo 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irismo en el desarrollo de los progra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istencia la cam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educación tradicional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il organización para la 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eranía alimentaría con énfasis en la producción orgá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miento y apoyo de organismos internacionales al desarrollo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 favorable de la sociedad hacia la universidad como factor de cam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S E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ticas negativas y falta de apoyo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ición de modelos tecnológicos y de desarrollo externos con mucho poder econó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CES E INNO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l modelo pedagógico por competencias apropi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 un enfoque participativo, horizontal, contextualizado y ético en la capaci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ón de tecnologías de punta en capacitación (TIC’s) y SIG, y educación a di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CES E INNO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ción de la capacitación hacia el emprendimiento lo que refleja una visión productiva del proceso y de las prioridades so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vinculación con las organizaciones, los programas y tendencias intern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42:52Z</dcterms:created>
  <dc:creator>Facultad Tecnica</dc:creator>
  <dc:description/>
  <dc:language>en-US</dc:language>
  <cp:lastModifiedBy>Facultad Tecnica</cp:lastModifiedBy>
  <dcterms:modified xsi:type="dcterms:W3CDTF">2009-09-29T18:49:13Z</dcterms:modified>
  <cp:revision>3</cp:revision>
  <dc:subject/>
  <dc:title>MESA Nº 8</dc:title>
</cp:coreProperties>
</file>