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CAE-1A19-42E8-9EE0-0531DA7D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079-ED3C-4884-8D07-A1CC04D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4FC-545F-44DC-9A24-6317C506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B0D-3534-40EB-9B10-04A4C5E2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36D-01D0-46C4-96DC-8AA18AD8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BA8-F628-48AB-967F-15820FD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EA4F-E4A6-47AC-9439-F4A94A04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F0AB-87AD-45B6-B026-90BD8EB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A974-A938-4DDD-B325-933FAEB6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44AF-4EEB-4BF4-9BB6-218BB2CE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8A46-6FF5-46A1-BD34-2330944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439-67FB-4E13-9BAD-0A35D4C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828A-D12E-447C-A485-EB4F4C8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F90-704E-4F40-AA8D-E6AA1C66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CEB-4E36-4BA7-B600-1E021900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D7F-9125-4E09-92AF-51578CEC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ECA-8064-4BD6-8647-20F2B58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8D2-3E5C-4334-B6A1-AB82418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C5C-CE1E-484E-9FED-3AF7F4A0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5D2-2D2D-4C91-A71D-9F4DA9A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D91-086C-46BA-A1FC-4048729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C31-11C4-4ACB-9183-E7000CA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84B-E8F3-4054-B3AB-FDDEEDF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755-AB3C-4901-977C-BE1A733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996-095F-4E18-AF40-3C91A6B5C6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EC45-F2E5-40F2-BD05-3DC423038C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DESARROLLO DE POSTG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b7"/>
                </a:solidFill>
                <a:latin typeface="Arial Black"/>
              </a:rPr>
              <a:t>DESARROLLO DE POSTGRADO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ESA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COORDINAD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DR. REGULO CARTAGENA-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SUB- COORDINADOR: RAFAEL OLI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SECRETARIA: MIRELLA DESIGNORI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b7"/>
                </a:solidFill>
                <a:latin typeface="Arial Black"/>
              </a:rPr>
              <a:t>PONENTE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ARCELO CALVACHE- 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MARIO GARCIA -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JUAN MELENDEZ-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b7"/>
                </a:solidFill>
                <a:latin typeface="Arial Black"/>
              </a:rPr>
              <a:t>ACUERDOS Y RECOMENDACIONE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CREAR PROGRAMAS DE CALIDAD AJUSTADOS A LOS NUEVOS REQUERIMIENTOS DE LA COMUNIDAD ANDI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ESARROLLAR  PROGRAMAS CON PERTINENCIA Y COHERENCIA CON LA COMUNIDAD INTERNACIONAL, ADAPTADOS A LOS ENFÓQUES DE GLOBALIZACIÓN Y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ROMOVER LÍNEAS DE INVESTIGACIÓN RELACIONADAS A LA BUSQUEDA DE SOLUCIONES CONCRETAS A LOS DIVERSOS PROBLEMAS QUE AFECTAN AL SECTOR SOCIAL, EMPRESARIAL Y ACADÉMICA EN EL ÁREA AGROECOLÓGICA PARA EL SECTOR R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ROMOVER ESTUDIOS DE POSTGRADOS CON ENFÓQUES INTEGRADOS Y DIRECCIONARLOS HACIA TODOS LOS SECTORES DE LA SOCIEDAD A FIN DE SOLUCIONAR PROBLEMAS EMERGENTES Y VULNER4ABLES EN ELL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5280" y="1484280"/>
            <a:ext cx="80074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ROPONER REVISIÓN Y EVALUACIÓN DE LAS ESTRUCTURAS  CURRICULARES DE LOS PROGRAMAS DE POSTGRADO,  PARA AJUSTAR CAMBIOS PERMANENTES, CONSIDERANDO LOS AVANCES CIENTÍFICOS Y TECNOLÓGICOS DEL MO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REPERAR Y ELABORAR CONJUNTAMENTE CON LOS PAISES DEL ÁREA ANDINA: UNIDADES DE PLANIFICACIÓN Y DESARROLLO DE PROGRAMAS Y LÍNEAS DE INVESTIGACIÓN QUE  CONTRIBUYAN A LAS NECESIDADES DEL SECTOR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ONTRIBUIR AL DESARROLLO AGROPECUARIO MEDIANTE  LA FORMACIÓN  DE INVESTIGADORES CAPACES DE IDENTIFICAR, PRIORIZAR Y SOLUCIONAR LOS PROBLEMAS LIMITANTES DE LA PRODUCCIÓN AGR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47592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REAR VIAS ABIERTAS DE COMUNICACIÓN CON LOS GOBIERNOS E INSTITUCIONES PARA LOS PROCESOS DE HOMOLOGACIÓN Y ACREDITACIÓN DE LOS TITULOS DOCTORALES Y  DE MAESTRI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REVISAR LOS DISEÑOS DE ESTRUCTURAS CURRICULARES DE LOS ESTUDIOS DE POSTGRADOS, CUYAS UNIDADES DE CREDITOS SON ELEVADAS Y NO ASOCIADAS AL COMPROMISO Y BUSQUEDA HACIA A LA EXCELENCIA ACADÉMICA Y A LA INVESTIG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LABORAR PROGRAMAS ESPECIALIZADOS EN CENTROS DE RED DE COMUNICACIONES PARA EL DESARROLLO DE LA INVESTIGACIÓN, EXTENSIÓN Y CONTEXTUALIZACIÓN SOCIAL, A DISTANCIA, GARANTIZANDO SUS OBJETIV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REAR PROGRAMAS PARA EL FINANCIAMIENTO Y MOBILIDAD DE DOCENTES E INVESTIGADORES DE LOS PAISES DE LA COMUNIDAD ANDINA PARA CONTRIBUIR A FORTALECER  UN LENGUAJE COMÚN EN LA DIVERSIDAD PEDAGÓGICA, INVESTIGACIÓN Y EXTENSIÓN EN EL ÁREA AGRICOLA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REALIZAR PROGRAMAS  DE POSTGRADO DIRIGIDOS A ELEVAR LA CALIDAD Y PERTINENCIA DE LOS TRABAJOS DE GRADO Y SU ORIENTACIÓN PERMANENTE A SATISFACER NECESIDADES REALES DE LA COMUNIDAD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STABLECER ALIANZAS ESTRATEGICAS QUE PERMITAN EL DESARROLLO DE LA INVESTIGACIÓN A TRAVÉS DE LINEAS DESTINADAS A PROMOVER NUEVOS CONOCIMIENTOS COMO LAS DIVERSAS ALTERNATIVAS PARA DAR SOLUCIÓN A  PROBLEMAS ASOCIADOS A LOS FLAGELOS DE LA HUMA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40:11Z</dcterms:created>
  <dc:creator>ludzmila</dc:creator>
  <dc:description/>
  <dc:language>en-US</dc:language>
  <cp:lastModifiedBy>dolores</cp:lastModifiedBy>
  <dcterms:modified xsi:type="dcterms:W3CDTF">2009-07-14T06:32:05Z</dcterms:modified>
  <cp:revision>3</cp:revision>
  <dc:subject/>
  <dc:title>Diapositiva 1</dc:title>
</cp:coreProperties>
</file>