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26B-E85E-45BF-A377-50628066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1F2-E2D4-4873-AF96-1D9E84ED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B66-2789-49E9-8A2D-ED9F650D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13D-079E-4851-B2A9-782427B5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910-50DB-46E5-BE68-6B597B40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3CC-A370-4258-BDA1-BF8C1303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AB9-012A-4CE9-A854-2313758C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AD7-B48F-432E-B238-1463FA7C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73B-E9AA-423B-BF47-C5F1B4A0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A99-6DB1-40F1-A072-1BDF419D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6BD-F73B-4D36-BB48-973B48EB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12A-A051-449B-B534-C0A9C391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4776-9364-40C8-924E-9984565B4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A Nº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universidad debe promover la capacitación como fuente de autogestión y financiamiento en beneficio del incremento tecnológico y cient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universidad debe desarrollar y actualizar competencias pedagógicas y de abordaje comunitario en forma permanente en sus docente y estudi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universidad debe incrementar el intercambio del recurso humano con otras instituciones y países, y validar la sistematización y socialización de las experie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niversidad debe integrarse a las políticas de estado sobre desarrollo rural y agrícola. PROPUE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erio Naranjo (moderador) UCLA Venezu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tonio Alcivar (secretario) UTB Ecu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lix Valverde. UTB Ecu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rnesto Erazo. UCE Ecu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duardo Urrutia IASA-ESPE Ecu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vid Campi UTEQ Ecu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ose Robles UL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o educativo no formal dirigido a desarrollar competencias en el individuo partiendo de las cuatro dimensiones del ser humano: bien ser, bien hacer, bien estar y bien t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apacitación constituye un componente básico de la extensión como función académ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S E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ALEZ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a acumulada del recurso hum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dad de compet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estru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humano calificado (docentes, estudiantes y colaborador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omiso con la excelencia académica y la equidad so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S E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jo apoyo a la exten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pirismo en el desarrollo de los progra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istencia la camb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de educación tradicional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il organización para la ex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S E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eranía alimentaría con énfasis en la producción orgán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miento y apoyo de organismos internacionales al desarrollo lo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itud favorable de la sociedad hacia la universidad como factor de camb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S E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íticas negativas y falta de apoyo del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ición de modelos tecnológicos y de desarrollo externos con mucho poder económ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NCES E INNO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ón del modelo pedagógico por competencias apropi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ón de un enfoque participativo, horizontal, contextualizado y ético en la capaci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ón de tecnologías de punta en capacitación (TIC’s) y SIG, y educación a dista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NCES E INNO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ción de la capacitación hacia el emprendimiento lo que refleja una visión productiva del proceso y de las prioridades so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vinculación con las organizaciones, los programas y tendencias interna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7:42:52Z</dcterms:created>
  <dc:creator>Facultad Tecnica</dc:creator>
  <dc:description/>
  <dc:language>en-US</dc:language>
  <cp:lastModifiedBy>Facultad Tecnica</cp:lastModifiedBy>
  <dcterms:modified xsi:type="dcterms:W3CDTF">2009-09-29T18:49:13Z</dcterms:modified>
  <cp:revision>3</cp:revision>
  <dc:subject/>
  <dc:title>MESA Nº 8</dc:title>
</cp:coreProperties>
</file>