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EA5-0E20-4484-AEAE-7C0DEED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4E9-6456-4764-ADDD-1788CCC3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E15-3AF1-47EE-9C07-C70AE28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DCD-4582-4890-9001-E9755984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DE51-4B1C-43ED-8264-866C9DDF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F41-68A6-4D96-8FF5-51291A1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179C-0976-4A4E-A67D-B32A6377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190-3A4C-4D1C-81C8-EB12C71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3261-4339-450B-9D51-2B1BAD6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09F-3F20-4216-9072-8B688EE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FEE1-479E-4EAD-A980-E1CEE87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F44-93F5-4E01-90E5-12E0953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60FD-172A-44DD-84D5-FCC510D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537-821F-4EB0-BDDF-1A406A8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3D6A-9D63-4C28-9CC4-CB38F569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95FC-B11C-453A-AA41-1485C17B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2EDF-779C-4D36-ABED-8E3FBD21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9B0-B655-4E5C-9971-EA81ED7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E81-8E85-4A8F-96C4-613CEDD3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3D4-62CC-41E1-8B14-48C3623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0CE-4115-4BAD-93DC-61A0B0F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F12-B2D0-40C4-8F41-D160A48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1D3-0F00-4EDD-A62D-A87E479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336-90B1-4FFA-A4D2-8101594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EAC-0C5B-4965-A566-494C322C4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16C-027C-48B1-94EF-55EEDF269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14200" y="142848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INSTITUCIONALES Y LOCALES EN GESTION Y NEGOCIACION DE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(FUNDRAI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569080" cy="143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428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7. DESARROLLO DE CAPACIDADES INSTITUCIONALES Y LOCALES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1" lang="es-CO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Propuesta Regional Andina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El curso Movilización de Recursos para el Desarrollo-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 Ejemplo de una propuesta Territori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142920"/>
            <a:ext cx="8429400" cy="65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ffff"/>
                </a:solidFill>
                <a:latin typeface="Arial"/>
              </a:rPr>
              <a:t>CAPACITACIÓN PARA EL 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1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grama de Inver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2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yectos Terri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3.- 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Formulación y evaluación de proyectos de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4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delo de gest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5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vilizacion de Recursos para el desarro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6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Sistemas de Información (Banco de Proyectos-SIC-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2 Rectángulo"/>
          <p:cNvSpPr/>
          <p:nvPr/>
        </p:nvSpPr>
        <p:spPr>
          <a:xfrm>
            <a:off x="1428840" y="142920"/>
            <a:ext cx="685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Rectángulo"/>
          <p:cNvSpPr/>
          <p:nvPr/>
        </p:nvSpPr>
        <p:spPr>
          <a:xfrm>
            <a:off x="785880" y="285840"/>
            <a:ext cx="77151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AVANCES DE LA 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3 Rectángulo"/>
          <p:cNvSpPr/>
          <p:nvPr/>
        </p:nvSpPr>
        <p:spPr>
          <a:xfrm>
            <a:off x="0" y="1071720"/>
            <a:ext cx="89298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yecto  Andino de Universidades y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nario –Taller Territorios And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 Huila “Fundamentos en Gestión y Acceso a Recursos  de Cooperación Internac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Cooperación Hemisférica : Intercambio y apoyo a la  ECADE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571680" y="252000"/>
            <a:ext cx="8215200" cy="6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EL CURSO DE MOVILIZACION DE RECURSOS PARA EL DESARROLLO ( M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POSI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veer al personal del IICA y a sus socios la capacidad para forjar una idea para un proyecto, formular una propuesta coherente y asegurar que se familiaricen con las agencias donantes, pertinentes, sus pol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icas, procedimientos operativos y c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 contactarlas y negociar con las mis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Preparar proyectos e instrumentos legales para su implement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Identificar fuentes de fon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ontribuir a desarrollar destrezas en el IICA y en las Instituciones socias para organizar y manejar proyectos de cooper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t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Mejorar la particip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y el acceso a los proyectos incluidos en las agendas nacionales, regionales y hemisf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4"/>
          <p:cNvGraphicFramePr/>
          <p:nvPr/>
        </p:nvGraphicFramePr>
        <p:xfrm>
          <a:off x="500040" y="1500120"/>
          <a:ext cx="80726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0120"/>
                    <a:ext cx="80726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2 Rectángulo"/>
          <p:cNvSpPr/>
          <p:nvPr/>
        </p:nvSpPr>
        <p:spPr>
          <a:xfrm>
            <a:off x="428760" y="642960"/>
            <a:ext cx="850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DE UNA PROPUESTA TERRI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284040" y="644400"/>
          <a:ext cx="83502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644400"/>
                    <a:ext cx="83502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428760" y="928800"/>
          <a:ext cx="835812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28800"/>
                    <a:ext cx="83581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404280"/>
            <a:ext cx="807264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  </a:t>
            </a:r>
            <a:r>
              <a:rPr b="1" lang="es-ES" sz="4000" spc="-1" strike="noStrike">
                <a:solidFill>
                  <a:srgbClr val="ffff00"/>
                </a:solidFill>
                <a:latin typeface="Arial Unicode MS"/>
              </a:rPr>
              <a:t>1</a:t>
            </a: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. </a:t>
            </a:r>
            <a:r>
              <a:rPr b="1" lang="es-ES" sz="4000" spc="-1" strike="noStrike">
                <a:solidFill>
                  <a:srgbClr val="ffcc00"/>
                </a:solidFill>
                <a:latin typeface="Arial Unicode MS"/>
              </a:rPr>
              <a:t>Problemática en los Proyectos de Inversion  Agropecuaria y DR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estrategias con visión de mediano y largo plazo, planes o agendas sectoriales o subsec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dentifican y conceptualizan proyectos en procesos de visión de corto plazo dirigidos a resolver problemas urge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arrollan iniciativas originadas en los bancos internacionales multilaterales. Por lo tanto, no han sido propiamente “proyectos paí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carteras de programas y proyectos de inversión coherente a estrategias de mediano o largo plazo agendas sectoriales o subsec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e formulan y ejecutan proyectos desarticulados territorialmente y desvinculadas de la institucionalidad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lica y local. Generando poco o ningun enpoderamiento capaz de construir una nueva institucionalidad en torno a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285560"/>
            <a:ext cx="8569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A- Países Beneficiarios.</a:t>
            </a: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Liderar el desarrollo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y la implementación de sus estrategias nacionales de desarrollo en forma ampliamente 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participativa y mediante la priorización de resultad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000000"/>
                </a:solidFill>
                <a:uFillTx/>
                <a:latin typeface="Arial"/>
              </a:rPr>
              <a:t>B. Países y organismos cooperación/donantes.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Respetar y apoyar las estrategias nacionales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Los diálogos sobre políticas y los programas de cooperación para el desarrollo 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(Cumplimiento de compromisos y resultados logrados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Aumentar el apoyo financiero a países con estrategias de desarrollo detalladas y sólida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br>
              <a:rPr sz="3200"/>
            </a:b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Declaración de París, 2002, Directrices UE, AECID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42920" y="149976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1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El IICA debe </a:t>
            </a: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articularse y alinearse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a los procesos de apoyo a las estrategias nacionales y a las nuevas modalidades de financiamiento y cooperación para apoyar dichas estrategi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De lo contrario, su acción podría se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aislada, de poco impacto y con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menores posibilidades de capta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recursos extern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Las actividades de 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einversión e inversión</a:t>
            </a: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600" spc="-1" strike="noStrike">
                <a:solidFill>
                  <a:srgbClr val="ffffff"/>
                </a:solidFill>
                <a:latin typeface="Arial"/>
              </a:rPr>
              <a:t>deben verse como una </a:t>
            </a:r>
            <a:r>
              <a:rPr b="0" lang="es-CR" sz="2600" spc="-1" strike="noStrike">
                <a:solidFill>
                  <a:srgbClr val="ffff00"/>
                </a:solidFill>
                <a:latin typeface="Arial"/>
              </a:rPr>
              <a:t>cadena cuyos eslabones deben estar articulados adecuadamen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3. 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Acción del IICA en el área de Preinversión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0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4  Alianzas con socios estratégicos</a:t>
            </a: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e puedan aportar recursos y complementar capacidades técn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esarrollar una estrategia de relacionamiento institucionalizada, sistemática y articu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6 </a:t>
            </a:r>
            <a:r>
              <a:rPr b="1" lang="es-CR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Es necesario darle un </a:t>
            </a:r>
            <a:r>
              <a:rPr b="0" lang="es-CR" sz="2400" spc="-1" strike="noStrike">
                <a:solidFill>
                  <a:srgbClr val="ffff00"/>
                </a:solidFill>
                <a:latin typeface="Arial"/>
              </a:rPr>
              <a:t>carácter más estratégico a la gestión de los acuerdos y convenios generales de cooperació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7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Buscar y aliarse con socios estratégicos qu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omplementen la visión y misión del I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icando 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viendo Proyectos Estratég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……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. ACCIÓN DEL IICA EN EL ÁREA DE PREINVERSIÓN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PARADIGMAS DE SOSTENIBILIDAD DE LOS PROYECTOS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 La  experiencia muestra que, lo que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ntiende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rticipació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stringe a una estrategia tradicional del poder público para dividir responsabilidades, homologar actos y legitimar  accio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participa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u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ceso mediante el cual los diversos actores forman parte en la planificación y gestión de las intervenc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nuevo paradigma de formulación de Proyectos, es distinto al enfoque 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lanes, Programas y Proyectos, como propuesta de cambio territorial, están concebidos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imular estas energías, partiendo de la capacitació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de una nueva institucionalida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. Paradigmas de Sostenibilidad de los proyecto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0000"/>
                </a:solidFill>
                <a:latin typeface="Arial"/>
              </a:rPr>
              <a:t>5. MODELO DE GEST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7136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 Gestión es el sistema institucional y la arquitectura organizacional adecuados y necesarios para implementar el Pla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BO" sz="1900" spc="-1" strike="noStrike">
                <a:solidFill>
                  <a:srgbClr val="d3e305"/>
                </a:solidFill>
                <a:latin typeface="Arial"/>
              </a:rPr>
              <a:t> </a:t>
            </a:r>
            <a:r>
              <a:rPr b="1" lang="es-BO" sz="1900" spc="-1" strike="noStrike">
                <a:solidFill>
                  <a:srgbClr val="d3e305"/>
                </a:solidFill>
                <a:latin typeface="Arial"/>
              </a:rPr>
              <a:t>a)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movilizando y articulando a los actores (organizaciones de la sociedad) y    los  agentes (instancias públicas) con sus diversos instrumentos,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b) asegurando la participación de la sociedad en el proceso, para la ejecución y acompañamiento de las ac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be </a:t>
            </a:r>
            <a:r>
              <a:rPr b="1" lang="es-BO" sz="2400" spc="-1" strike="noStrike">
                <a:solidFill>
                  <a:srgbClr val="ffff00"/>
                </a:solidFill>
                <a:latin typeface="Arial"/>
              </a:rPr>
              <a:t>comprometer a la sociedad en una situación de cor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Estructura ins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Plan de ejec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Monitoreamiento y evalu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6. ESTRATEGIA COOPERACION TÉCNICA</a:t>
            </a:r>
            <a:br>
              <a:rPr sz="2800"/>
            </a:b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PREINVERSION EN EL IIC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929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2:44:08Z</dcterms:created>
  <dc:creator>Mau</dc:creator>
  <dc:description/>
  <dc:language>en-US</dc:language>
  <cp:lastModifiedBy>HP</cp:lastModifiedBy>
  <dcterms:modified xsi:type="dcterms:W3CDTF">2009-10-01T05:46:13Z</dcterms:modified>
  <cp:revision>74</cp:revision>
  <dc:subject/>
  <dc:title>PROBLEMAS COMPLEJOS. Tipos de Complejidad.</dc:title>
</cp:coreProperties>
</file>