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3AC30-41C9-4F43-9500-3B8B411F9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5D6C3-DB17-4947-883F-75A909535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A9A1E-0CFB-4CE9-A4DB-33234E341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91416-0B06-43B1-B82C-BEAACF281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B38D3-2C11-4404-BA5F-76CB189FA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D7B88-1133-4390-B03C-15DA479A5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F56D2-39E8-4EF4-8512-A69D55275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459D7-1108-4EAC-9A49-606E9DA55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547EE-F973-4541-84D2-B9EBC91CA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9AC16-A5D4-4E7A-84D7-7FB42CDAF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B5A0C-AA04-4934-A9F6-29CD5B7DC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B384B-0A65-4622-B556-9E7A1C8AF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E28B-83BD-4648-8DA5-E75462F01C4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1187280" y="2852640"/>
            <a:ext cx="734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ff"/>
                </a:solidFill>
                <a:latin typeface="Arial"/>
              </a:rPr>
              <a:t>MESA 3: INVESTIGACIÓN</a:t>
            </a:r>
            <a:endParaRPr b="0" lang="en-US" sz="3600" spc="-1" strike="noStrike">
              <a:solidFill>
                <a:srgbClr val="000000"/>
              </a:solidFill>
              <a:latin typeface="Arial"/>
            </a:endParaRPr>
          </a:p>
        </p:txBody>
      </p:sp>
      <p:sp>
        <p:nvSpPr>
          <p:cNvPr id="42" name="Text Box 6"/>
          <p:cNvSpPr/>
          <p:nvPr/>
        </p:nvSpPr>
        <p:spPr>
          <a:xfrm>
            <a:off x="5254560" y="5589720"/>
            <a:ext cx="38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FRADIEAR- FAESCA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DESARROLLAR  AMPLIAMENTE METODOLOGIAS DE FORTALECIMIENTO EMPRESARIAL QUE HAGAN ENFÁSIS EN INNOVACIONES INSTITUCIONALES Y ORGANIZACIONAL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APLICAR COMPLETAMENTE ENFOQUES SISTEMICOS EN LOS ESTUDIOS CON COMUNIDADES, EN LOS CUALES SE ANALICEN METODOLOGIAS DE EVALUACIÓN DE FACTORES EXTERNOS PARA PUNTUALIZAR LAS CRÍTICAS QUE SURGAN A LOS ALCANCES DE LOS PROGRAMAS IMPLEMENTADOS POR EL ESTAD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UTILIZAR LA METODOLOGIA DEL MARCO LÓGICO PARA CONFRONTAR LOS AVANCES LOGRADOS EN LAS EJECUCIONES DE LAS RESOLUCIONES  QUE HAN SURGIDO EN LOS DIFERENTES FRADIEA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Rectangle 4"/>
          <p:cNvSpPr/>
          <p:nvPr/>
        </p:nvSpPr>
        <p:spPr>
          <a:xfrm>
            <a:off x="2268360" y="692280"/>
            <a:ext cx="5399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ACUERDOS Y RECOMENDA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5"/>
          <p:cNvSpPr/>
          <p:nvPr/>
        </p:nvSpPr>
        <p:spPr>
          <a:xfrm>
            <a:off x="1187280" y="476280"/>
            <a:ext cx="7129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6"/>
          <p:cNvSpPr/>
          <p:nvPr/>
        </p:nvSpPr>
        <p:spPr>
          <a:xfrm>
            <a:off x="684360" y="1628640"/>
            <a:ext cx="7920000" cy="501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REALIZAR ESTUDIOS PROSPECTIVOS PARA IDENTIFICAR LIMITACIONES Y PODER HACER ENFASIS EN  LAS NECESIDADES DE LOS DIFERENTES ACTORES DE LA CADENA AGROALIMENTAR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INCORPORAR ENFOQUES DE SOSTENIBILIDAD EN TODOS LOS PROYECTOS DE INVESTIGACIÓN</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DAR PRIORIDAD A LA INVESTIGACIÓN EN LAS UNIVERSIDADES Y NO SÓLO A LA DOCENC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INCREMENTAR POLÍTICAS DE INVESTIGACIÓN CLARAS A NIVEL LOCAL Y NA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333000"/>
            <a:ext cx="8445240" cy="58323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PLANIFICAR PROGRAMAS Y LÍNEAS DE INVESTIGACIÓN QUE RESPONDAN A LAS DEMANDAS DEL SECTOR AGROPECUARI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CONSIDERAR LA INVESTIGACIÓN PARTE DEL COMPONENTE TRANSVERSAL EN EL  CURRICULO FACULTATIVO DE TODAS  LAS UNIVERSIDADES DE LAS NACIONES ANDINA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ACREDITAR A NIVEL INTERNACIONAL UNA REVISTA CIENTÍFICA DE FRADIEAR- FAESCA PARA DAR A CONOCER LOS AVANCES EN EL AGRO DE LOS PAISES ANDINO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FORTALECER EL ENLACE INTERDISCIPLINARIO EN LA INVESTIGACIÓN PARA PROPORCIONAR MAYOR EFICIENCIA EN LA PRODUCTIVIDAD.</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68360" y="692280"/>
            <a:ext cx="8229600" cy="45259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CREAR MECANISMOS PARA QUE LOS EMPRESARIOS Y PRODUCTORES PARTICIPEN EN LOS PROGRAMAS DE INVESTIGACIÓ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PROPONER QUE LAS INVESTIGACIONES EN CIENCIAS AGRARIAS Y AFINES SEAN POLÍTICAS DE ESTAD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PROPONER QUE TODOS LOS MIEMBROS GUBERNAMENTALES OBTENGAN CONOCIMIENTOS  EN MATERIA AGRARIA PARA QUE LE PUEDAN DAR LA DEBIDA RELEVANCIA QUE TIENE LA INVERSIÓN EN EL SECTOR AGRARIO PARA EL DESARROLLO DE UN PAI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23640" y="333360"/>
            <a:ext cx="8445240" cy="50292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Text Box 3"/>
          <p:cNvSpPr/>
          <p:nvPr/>
        </p:nvSpPr>
        <p:spPr>
          <a:xfrm>
            <a:off x="250920" y="692280"/>
            <a:ext cx="74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
          <p:cNvSpPr/>
          <p:nvPr/>
        </p:nvSpPr>
        <p:spPr>
          <a:xfrm>
            <a:off x="900000" y="836640"/>
            <a:ext cx="7201080" cy="4997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DESARROLLAR PROGRAMAS DE FORMACIÓN Y  CAPACITACIÓN  EN EL MANEJO DE ESTRUCTURAS COOPERATIVAS Y DE INVESTIGACIÓN PARA MEJORAR LAS UNIDADES DE PRODUCCIÓN.</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INCORPORAR POLÍTICAS EXTENSIONISTAS Y DE SEGUROS AGRARIOS A LAS UNIVERSIDADES, QUE PROMUEVAN LA FORMACIÓN DE EXPERTOS EXTENSIONISTAS QUE FORMULEN PROYECTOS DE INVESTIGACIÓN-EXTENSIÓN Y DOCENC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REORGANIZAR Y HACERLE SEGUIMIENTO A LAS MACROPOLÍTICAS DE INVESTIGACIÓN UNIVERSITARIAS Y AGRICO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4360" y="692280"/>
            <a:ext cx="8229600" cy="45259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Arial"/>
              </a:rPr>
              <a:t>   </a:t>
            </a:r>
            <a:r>
              <a:rPr b="1" lang="es-VE" sz="2000" spc="-1" strike="noStrike">
                <a:solidFill>
                  <a:srgbClr val="000000"/>
                </a:solidFill>
                <a:latin typeface="Arial"/>
              </a:rPr>
              <a:t>CREAR FONDOS CONCURSABLES PARA LA INVESTIGA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CREAR UN TRONCO COMÚN DE INVESTIGACIÓN PARA QUE LOS PAISES DE LA REGION ANDINA SE PUEDAN ARTICULAR Y CONOCER LOS AVANCES QUE HAN TENIDO CADA UNO Y PODER GENERAR PROGRAMAS DEMANDANTES DE INTERÉS EN PRODUCCIÓN.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IMPLEMENTAR LINEAS DE INVESTIGACIÓN QUE UTILICEN NUEVOS CRÍTERIOS DE VALORIZACIÓN: BIOLÓGICOS, NANOTECNOLÓGICOS Y BIOTÉCNOLÓGIC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DESARROLLAR  AMPLIAMENTE METODOLOGIAS DE FORTALECIMIENTO EMPRESARIAL QUE HAGAN ENFÁSIS EN INNOVACIONES INSTITUCIONALES Y ORGANIZACIONAL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APLICAR COMPLETAMENTE ENFOQUES SISTEMICOS EN LOS ESTUDIOS CON COMUNIDADES, EN LOS CUALES SE ANALICEN METODOLOGIAS DE EVALUACIÓN DE FACTORES EXTERNOS PARA PUNTUALIZAR LAS CRÍTICAS QUE SURGAN A LOS ALCANCES DE LOS PROGRAMAS IMPLEMENTADOS POR EL ESTAD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UTILIZAR LA METODOLOGIA DEL MARCO LÓGICO PARA CONFRONTAR LOS AVANCES LOGRADOS EN LAS EJECUCIONES DE LAS RESOLUCIONES  QUE HAN SURGIDO EN LOS DIFERENTES FRADIEA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2T11:26:40Z</dcterms:created>
  <dc:creator>ludzmila</dc:creator>
  <dc:description/>
  <dc:language>en-US</dc:language>
  <cp:lastModifiedBy>dolores</cp:lastModifiedBy>
  <dcterms:modified xsi:type="dcterms:W3CDTF">2009-06-22T23:38:05Z</dcterms:modified>
  <cp:revision>7</cp:revision>
  <dc:subject/>
  <dc:title>Diapositiva 1</dc:title>
</cp:coreProperties>
</file>