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236-935F-461F-8437-C2273B14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749-A049-4013-93FD-913FA693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988-BEAA-4D12-916F-2AD18C1F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85D-BE80-4EDF-8655-E495F9E5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8DBA-F92C-4A2E-B80D-8058C0AE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3259-A9ED-4CA1-BFBD-BA5A106B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78DA-7839-4C92-A544-945F7231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3FF5-1BEA-4012-A726-D657DFAB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EBFB-43BB-4F4C-BA30-811F3E7D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F793-041F-4CD2-B62A-9DA65421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9FD6-9326-4D12-9A04-C27B818A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ABC-C11C-4CB0-9C6F-4F10D2E9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FA52-4D38-4C00-A800-111BA162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4C64-F9BF-41EA-88DE-BF0AE3D9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8C94-2B01-41ED-B113-0599F6A4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D7FA-12C6-4E4D-860E-1FD0DEF0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EC2A-427F-458B-8A48-FA6A1C16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390-9776-4F3D-AA3D-F79DA05E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202-B607-4FE4-ABB7-B08B9A4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662-6FB2-405F-9B54-0D7CE8F9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67B-43E3-4A1A-9242-FF559349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85F-75DC-413C-82A6-F61917F5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ECB-98C4-44A7-BD7A-1206DD5A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BEC-F14B-4403-BEE7-972694DC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8A12-4B31-44C8-8B11-8345F46BC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C542-2DCC-4597-BD41-F540F7BAA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14200" y="1428480"/>
            <a:ext cx="8715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b050"/>
                </a:solidFill>
                <a:latin typeface="Arial"/>
              </a:rPr>
              <a:t>DESARROLLO DE CAPACI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b050"/>
                </a:solidFill>
                <a:latin typeface="Arial"/>
              </a:rPr>
              <a:t>INSTITUCIONALES Y LOCALES EN GESTION Y NEGOCIACION DE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b050"/>
                </a:solidFill>
                <a:latin typeface="Arial"/>
              </a:rPr>
              <a:t>(FUNDRAIS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8569080" cy="143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86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480" y="1000080"/>
            <a:ext cx="8643960" cy="428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7. DESARROLLO DE CAPACIDADES INSTITUCIONALES Y LOCALES</a:t>
            </a:r>
            <a:br>
              <a:rPr sz="2800"/>
            </a:br>
            <a:br>
              <a:rPr sz="2800"/>
            </a:br>
            <a:r>
              <a:rPr b="1" lang="es-CO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s-CO" sz="28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1" lang="es-CO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CO" sz="2800" spc="-1" strike="noStrike">
                <a:solidFill>
                  <a:srgbClr val="ccecff"/>
                </a:solidFill>
                <a:latin typeface="Arial"/>
              </a:rPr>
              <a:t>Propuesta Regional Andina</a:t>
            </a:r>
            <a:br>
              <a:rPr sz="2800"/>
            </a:br>
            <a:br>
              <a:rPr sz="2800"/>
            </a:br>
            <a:r>
              <a:rPr b="1" lang="es-CO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es-CO" sz="2800" spc="-1" strike="noStrike">
                <a:solidFill>
                  <a:srgbClr val="ccecff"/>
                </a:solidFill>
                <a:latin typeface="Arial"/>
              </a:rPr>
              <a:t>El curso Movilización de Recursos para el Desarrollo-</a:t>
            </a:r>
            <a:br>
              <a:rPr sz="2800"/>
            </a:br>
            <a:br>
              <a:rPr sz="2800"/>
            </a:br>
            <a:r>
              <a:rPr b="1" lang="es-CO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es-CO" sz="2800" spc="-1" strike="noStrike">
                <a:solidFill>
                  <a:srgbClr val="ccecff"/>
                </a:solidFill>
                <a:latin typeface="Arial"/>
              </a:rPr>
              <a:t> Ejemplo de una propuesta Territoria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428760" y="142920"/>
            <a:ext cx="8429400" cy="65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ffff"/>
                </a:solidFill>
                <a:latin typeface="Arial"/>
              </a:rPr>
              <a:t>CAPACITACIÓN PARA EL DESARROLLO DE CAPACI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1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Programa de Inver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2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Proyectos Territor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3.- 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Formulación y evaluación de proyectos de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4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Modelo de gest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5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Movilizacion de Recursos para el desarroll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0000"/>
                </a:solidFill>
                <a:latin typeface="Arial"/>
              </a:rPr>
              <a:t>M6.- 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Sistemas de Información (Banco de Proyectos-SIC-R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2 Rectángulo"/>
          <p:cNvSpPr/>
          <p:nvPr/>
        </p:nvSpPr>
        <p:spPr>
          <a:xfrm>
            <a:off x="1428840" y="142920"/>
            <a:ext cx="6858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Arial"/>
              </a:rPr>
              <a:t>PROPUESTA REGIONAL ANDI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 Rectángulo"/>
          <p:cNvSpPr/>
          <p:nvPr/>
        </p:nvSpPr>
        <p:spPr>
          <a:xfrm>
            <a:off x="785880" y="285840"/>
            <a:ext cx="77151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Arial"/>
              </a:rPr>
              <a:t>AVANCES DE LA PROPUESTA REGIONAL ANDI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3 Rectángulo"/>
          <p:cNvSpPr/>
          <p:nvPr/>
        </p:nvSpPr>
        <p:spPr>
          <a:xfrm>
            <a:off x="0" y="1071720"/>
            <a:ext cx="892980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yecto  Andino de Universidades y Terri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nario –Taller Territorios Andi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ller  Huila “Fundamentos en Gestión y Acceso a Recursos  de Cooperación Internacion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 Cooperación Hemisférica : Intercambio y apoyo a la  ECADER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571680" y="252000"/>
            <a:ext cx="8215200" cy="64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EL CURSO DE MOVILIZACION DE RECURSOS PARA EL DESARROLLO ( M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ROPOSI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veer al personal del IICA y a sus socios la capacidad para forjar una idea para un proyecto, formular una propuesta coherente y asegurar que se familiaricen con las agencias donantes, pertinentes, sus pol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í</a:t>
            </a:r>
            <a:r>
              <a:rPr b="1" lang="es-BO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icas, procedimientos operativos y c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ó</a:t>
            </a:r>
            <a:r>
              <a:rPr b="1" lang="es-BO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o contactarlas y negociar con las mis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Preparar proyectos e instrumentos legales para su implementaci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ó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Identificar fuentes de fon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Contribuir a desarrollar destrezas en el IICA y en las Instituciones socias para organizar y manejar proyectos de cooperaci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ó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n t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é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c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Mejorar la participaci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ó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n y el acceso a los proyectos incluidos en las agendas nacionales, regionales y hemisf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é</a:t>
            </a:r>
            <a:r>
              <a:rPr b="1" lang="es-BO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4"/>
          <p:cNvGraphicFramePr/>
          <p:nvPr/>
        </p:nvGraphicFramePr>
        <p:xfrm>
          <a:off x="500040" y="1500120"/>
          <a:ext cx="807264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500120"/>
                    <a:ext cx="807264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2 Rectángulo"/>
          <p:cNvSpPr/>
          <p:nvPr/>
        </p:nvSpPr>
        <p:spPr>
          <a:xfrm>
            <a:off x="428760" y="642960"/>
            <a:ext cx="8501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DE UNA PROPUESTA TERRI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284040" y="644400"/>
          <a:ext cx="835020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644400"/>
                    <a:ext cx="835020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428760" y="928800"/>
          <a:ext cx="835812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928800"/>
                    <a:ext cx="835812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404280"/>
            <a:ext cx="8072640" cy="3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ecff"/>
                </a:solidFill>
                <a:latin typeface="Arial Unicode MS"/>
              </a:rPr>
              <a:t>  </a:t>
            </a:r>
            <a:r>
              <a:rPr b="1" lang="es-ES" sz="4000" spc="-1" strike="noStrike">
                <a:solidFill>
                  <a:srgbClr val="ffff00"/>
                </a:solidFill>
                <a:latin typeface="Arial Unicode MS"/>
              </a:rPr>
              <a:t>1</a:t>
            </a:r>
            <a:r>
              <a:rPr b="1" lang="es-ES" sz="4000" spc="-1" strike="noStrike">
                <a:solidFill>
                  <a:srgbClr val="ccecff"/>
                </a:solidFill>
                <a:latin typeface="Arial Unicode MS"/>
              </a:rPr>
              <a:t>. </a:t>
            </a:r>
            <a:r>
              <a:rPr b="1" lang="es-ES" sz="4000" spc="-1" strike="noStrike">
                <a:solidFill>
                  <a:srgbClr val="ffcc00"/>
                </a:solidFill>
                <a:latin typeface="Arial Unicode MS"/>
              </a:rPr>
              <a:t>Problemática en los Proyectos de Inversion  Agropecuaria y DR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recen de estrategias con visión de mediano y largo plazo, planes o agendas sectoriales o subsector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dentifican y conceptualizan proyectos en procesos de visión de corto plazo dirigidos a resolver problemas urgen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arrollan iniciativas originadas en los bancos internacionales multilaterales. Por lo tanto, no han sido propiamente “proyectos paí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recen de carteras de programas y proyectos de inversión coherente a estrategias de mediano o largo plazo agendas sectoriales o subsector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e formulan y ejecutan proyectos desarticulados territorialmente y desvinculadas de la institucionalidad p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ú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lica y local. Generando poco o ningun enpoderamiento capaz de construir una nueva institucionalidad en torno al proy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560" y="1285560"/>
            <a:ext cx="85690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s-BO" sz="2400" spc="-1" strike="noStrike" u="sng">
                <a:solidFill>
                  <a:srgbClr val="000000"/>
                </a:solidFill>
                <a:uFillTx/>
                <a:latin typeface="Arial"/>
              </a:rPr>
              <a:t>A- Países Beneficiarios.</a:t>
            </a:r>
            <a:r>
              <a:rPr b="0" lang="es-B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R" sz="2100" spc="-1" strike="noStrike">
                <a:solidFill>
                  <a:srgbClr val="ffff00"/>
                </a:solidFill>
                <a:latin typeface="Arial"/>
              </a:rPr>
              <a:t>Liderar el desarrollo</a:t>
            </a:r>
            <a:r>
              <a:rPr b="0" lang="es-CR" sz="2100" spc="-1" strike="noStrike">
                <a:solidFill>
                  <a:srgbClr val="ffffff"/>
                </a:solidFill>
                <a:latin typeface="Arial"/>
              </a:rPr>
              <a:t> y la implementación de sus estrategias nacionales de desarrollo en forma ampliamente </a:t>
            </a:r>
            <a:r>
              <a:rPr b="0" lang="es-CR" sz="2100" spc="-1" strike="noStrike">
                <a:solidFill>
                  <a:srgbClr val="ffff00"/>
                </a:solidFill>
                <a:latin typeface="Arial"/>
              </a:rPr>
              <a:t>participativa y mediante la priorización de resultado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 u="sng">
                <a:solidFill>
                  <a:srgbClr val="000000"/>
                </a:solidFill>
                <a:uFillTx/>
                <a:latin typeface="Arial"/>
              </a:rPr>
              <a:t>B. Países y organismos cooperación/donantes.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R" sz="2100" spc="-1" strike="noStrike">
                <a:solidFill>
                  <a:srgbClr val="ffff00"/>
                </a:solidFill>
                <a:latin typeface="Arial"/>
              </a:rPr>
              <a:t>Respetar y apoyar las estrategias nacionales</a:t>
            </a:r>
            <a:r>
              <a:rPr b="0" lang="es-CR" sz="21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R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100" spc="-1" strike="noStrike">
                <a:solidFill>
                  <a:srgbClr val="ffff00"/>
                </a:solidFill>
                <a:latin typeface="Arial"/>
              </a:rPr>
              <a:t>Los diálogos sobre políticas y los programas de cooperación para el desarrollo </a:t>
            </a:r>
            <a:r>
              <a:rPr b="0" lang="es-CR" sz="2100" spc="-1" strike="noStrike">
                <a:solidFill>
                  <a:srgbClr val="ffffff"/>
                </a:solidFill>
                <a:latin typeface="Arial"/>
              </a:rPr>
              <a:t>(Cumplimiento de compromisos y resultados logrados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ffff00"/>
                </a:solidFill>
                <a:latin typeface="Arial"/>
              </a:rPr>
              <a:t>Aumentar el apoyo financiero a países con estrategias de desarrollo detalladas y sólida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br>
              <a:rPr sz="3200"/>
            </a:br>
            <a:r>
              <a:rPr b="1" lang="es-BO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BO" sz="3200" spc="-1" strike="noStrike">
                <a:solidFill>
                  <a:srgbClr val="ffcc00"/>
                </a:solidFill>
                <a:latin typeface="Arial"/>
              </a:rPr>
              <a:t>2. </a:t>
            </a:r>
            <a:r>
              <a:rPr b="1" lang="es-BO" sz="3600" spc="-1" strike="noStrike">
                <a:solidFill>
                  <a:srgbClr val="ffcc00"/>
                </a:solidFill>
                <a:latin typeface="Arial"/>
              </a:rPr>
              <a:t>Declaración de París, 2002, Directrices UE, AECID</a:t>
            </a:r>
            <a:br>
              <a:rPr sz="3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42920" y="149976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3.1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 El IICA debe </a:t>
            </a: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articularse y alinearse 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a los procesos de apoyo a las estrategias nacionales y a las nuevas modalidades de financiamiento y cooperación para apoyar dichas estrategia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De lo contrario, su acción podría ser 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aislada, de poco impacto y con 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menores posibilidades de captar 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R" sz="2600" spc="-1" strike="noStrike">
                <a:solidFill>
                  <a:srgbClr val="ffff00"/>
                </a:solidFill>
                <a:latin typeface="Arial"/>
              </a:rPr>
              <a:t>recursos extern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1" lang="es-CR" sz="2600" spc="-1" strike="noStrike">
                <a:solidFill>
                  <a:srgbClr val="ffffff"/>
                </a:solidFill>
                <a:latin typeface="Arial"/>
              </a:rPr>
              <a:t>Las actividades de </a:t>
            </a: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preinversión e inversión</a:t>
            </a: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2600" spc="-1" strike="noStrike">
                <a:solidFill>
                  <a:srgbClr val="ffffff"/>
                </a:solidFill>
                <a:latin typeface="Arial"/>
              </a:rPr>
              <a:t>deben verse como una </a:t>
            </a:r>
            <a:r>
              <a:rPr b="0" lang="es-CR" sz="2600" spc="-1" strike="noStrike">
                <a:solidFill>
                  <a:srgbClr val="ffff00"/>
                </a:solidFill>
                <a:latin typeface="Arial"/>
              </a:rPr>
              <a:t>cadena cuyos eslabones deben estar articulados adecuadament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ffcc00"/>
                </a:solidFill>
                <a:latin typeface="Arial"/>
              </a:rPr>
              <a:t>3.  </a:t>
            </a:r>
            <a:r>
              <a:rPr b="1" lang="es-BO" sz="3600" spc="-1" strike="noStrike">
                <a:solidFill>
                  <a:srgbClr val="ffcc00"/>
                </a:solidFill>
                <a:latin typeface="Arial"/>
              </a:rPr>
              <a:t>Acción del IICA en el área de Preinversión</a:t>
            </a:r>
            <a:r>
              <a:rPr b="1" lang="es-BO" sz="26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60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3.4  Alianzas con socios estratégicos</a:t>
            </a:r>
            <a:r>
              <a:rPr b="0" lang="es-C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que puedan aportar recursos y complementar capacidades técnic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60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Desarrollar una estrategia de relacionamiento institucionalizada, sistemática y articul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60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3.6 </a:t>
            </a:r>
            <a:r>
              <a:rPr b="1" lang="es-CR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Es necesario darle un </a:t>
            </a:r>
            <a:r>
              <a:rPr b="0" lang="es-CR" sz="2400" spc="-1" strike="noStrike">
                <a:solidFill>
                  <a:srgbClr val="ffff00"/>
                </a:solidFill>
                <a:latin typeface="Arial"/>
              </a:rPr>
              <a:t>carácter más estratégico a la gestión de los acuerdos y convenios generales de cooperació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00"/>
                </a:solidFill>
                <a:latin typeface="Arial"/>
              </a:rPr>
              <a:t>3.7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Buscar y aliarse con socios estratégicos que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omplementen la visión y misión del I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icando 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moviendo Proyectos Estratég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r>
              <a:rPr b="1" lang="es-BO" sz="2600" spc="-1" strike="noStrike">
                <a:solidFill>
                  <a:srgbClr val="ffcc00"/>
                </a:solidFill>
                <a:latin typeface="Arial"/>
              </a:rPr>
              <a:t>……</a:t>
            </a:r>
            <a:r>
              <a:rPr b="1" lang="es-BO" sz="2600" spc="-1" strike="noStrike">
                <a:solidFill>
                  <a:srgbClr val="ffcc00"/>
                </a:solidFill>
                <a:latin typeface="Arial"/>
              </a:rPr>
              <a:t>.. ACCIÓN DEL IICA EN EL ÁREA DE PREINVERSIÓN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4. 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PARADIGMAS DE SOSTENIBILIDAD DE LOS PROYECTOS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. La  experiencia muestra que, lo que 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entiende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participación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restringe a una estrategia tradicional del poder público para dividir responsabilidades, homologar actos y legitimar  accio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ff0000"/>
                </a:solidFill>
                <a:latin typeface="Arial"/>
              </a:rPr>
              <a:t>participa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u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ceso mediante el cual los diversos actores forman parte en la planificación y gestión de las intervencion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.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l nuevo paradigma de formulación de Proyectos, es distinto al enfoque tradi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lanes, Programas y Proyectos, como propuesta de cambio territorial, están concebidos pa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timular estas energías, partiendo de la capacitació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y de una nueva institucionalida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  <a:ea typeface="Times New Roman"/>
              </a:rPr>
              <a:t>. Paradigmas de Sostenibilidad de los proyecto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0000"/>
                </a:solidFill>
                <a:latin typeface="Arial"/>
              </a:rPr>
              <a:t>5. MODELO DE GEST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71360"/>
            <a:ext cx="8400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El Modelo de Gestión es el sistema institucional y la arquitectura organizacional adecuados y necesarios para implementar el Pla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9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BO" sz="1900" spc="-1" strike="noStrike">
                <a:solidFill>
                  <a:srgbClr val="d3e305"/>
                </a:solidFill>
                <a:latin typeface="Arial"/>
              </a:rPr>
              <a:t> </a:t>
            </a:r>
            <a:r>
              <a:rPr b="1" lang="es-BO" sz="1900" spc="-1" strike="noStrike">
                <a:solidFill>
                  <a:srgbClr val="d3e305"/>
                </a:solidFill>
                <a:latin typeface="Arial"/>
              </a:rPr>
              <a:t>a) 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</a:rPr>
              <a:t>movilizando y articulando a los actores (organizaciones de la sociedad) y    los  agentes (instancias públicas) con sus diversos instrumentos,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BO" sz="2000" spc="-1" strike="noStrike">
                <a:solidFill>
                  <a:srgbClr val="ffff00"/>
                </a:solidFill>
                <a:latin typeface="Arial"/>
              </a:rPr>
              <a:t>b) asegurando la participación de la sociedad en el proceso, para la ejecución y acompañamiento de las ac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ffffff"/>
                </a:solidFill>
                <a:latin typeface="Arial"/>
              </a:rPr>
              <a:t>El modelo debe </a:t>
            </a:r>
            <a:r>
              <a:rPr b="1" lang="es-BO" sz="2400" spc="-1" strike="noStrike">
                <a:solidFill>
                  <a:srgbClr val="ffff00"/>
                </a:solidFill>
                <a:latin typeface="Arial"/>
              </a:rPr>
              <a:t>comprometer a la sociedad en una situación de cor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d3e305"/>
                </a:solidFill>
                <a:latin typeface="Arial"/>
              </a:rPr>
              <a:t>Estructura institu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d3e305"/>
                </a:solidFill>
                <a:latin typeface="Arial"/>
              </a:rPr>
              <a:t>Plan de ejec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d3e305"/>
                </a:solidFill>
                <a:latin typeface="Arial"/>
              </a:rPr>
              <a:t>Monitoreamiento y evalu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ff99"/>
                </a:solidFill>
                <a:latin typeface="Arial"/>
              </a:rPr>
              <a:t>6. ESTRATEGIA COOPERACION TÉCNICA</a:t>
            </a:r>
            <a:br>
              <a:rPr sz="2800"/>
            </a:br>
            <a:r>
              <a:rPr b="1" lang="es-BO" sz="2800" spc="-1" strike="noStrike">
                <a:solidFill>
                  <a:srgbClr val="99ff99"/>
                </a:solidFill>
                <a:latin typeface="Arial"/>
              </a:rPr>
              <a:t>PREINVERSION EN EL IIC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9298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2:44:08Z</dcterms:created>
  <dc:creator>Mau</dc:creator>
  <dc:description/>
  <dc:language>en-US</dc:language>
  <cp:lastModifiedBy>HP</cp:lastModifiedBy>
  <dcterms:modified xsi:type="dcterms:W3CDTF">2009-10-01T05:46:13Z</dcterms:modified>
  <cp:revision>74</cp:revision>
  <dc:subject/>
  <dc:title>PROBLEMAS COMPLEJOS. Tipos de Complejidad.</dc:title>
</cp:coreProperties>
</file>