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BB1-E213-4791-96F8-C7D2629AACB3}" type="slidenum">
              <a:rPr b="0" lang="es-B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Esta es una dimensión difícil de evaluar, requiere identificar cuál ha sido la contribución de las acciones del proyecto a los resultados encontrados, separándolas de otras acciones o factores que pudieron haber influido, por lo tanto requiere de un mayor esfuerz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A07-630B-40A5-8B13-6B7DDF6A3F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560-8840-4422-A148-3AAEDD81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57D-8850-484F-A1E6-3778371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153-DC67-48C3-A58A-FF50F041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BB2-8008-4E91-BC0B-A74B88AC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7D5-9670-4FAB-AFE6-8C658C20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3E9-5950-453C-B11E-6F1C992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E08-F9B5-473D-95BC-B6FEFEB5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FF-4303-4088-9857-273A621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3B6-6122-4F80-9F5D-595C1E21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D56-3362-496B-86C1-B6EF660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A72-708D-45DA-A19B-45F61FB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9B7-26F2-4F67-A294-573136E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486-C8DD-44E0-AEC2-A1009A8ECEA1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857480"/>
            <a:ext cx="82152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UADOR SEPTIEMBRE DE 2009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560" y="0"/>
            <a:ext cx="8715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ARROLLO DE CAPACID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STITUCIONALES Y LOCALES EN GESTION Y NEGOCIACION DE RECUR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307188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AMENTOS DE LA ESTRATEGIA DE COOPERACIÓN TÉCNICA EN TERRI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85880" y="142920"/>
          <a:ext cx="764388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42920"/>
                    <a:ext cx="764388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PROGRAMA DE INVERSIONES LOS RÍOS. </a:t>
            </a:r>
            <a:br>
              <a:rPr sz="2400"/>
            </a:b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ESTRUCTURA DEL DOC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755640" y="836280"/>
            <a:ext cx="7920000" cy="2808720"/>
            <a:chOff x="755640" y="836280"/>
            <a:chExt cx="7920000" cy="2808720"/>
          </a:xfrm>
        </p:grpSpPr>
        <p:sp>
          <p:nvSpPr>
            <p:cNvPr id="70" name="Rectangle 4"/>
            <p:cNvSpPr/>
            <p:nvPr/>
          </p:nvSpPr>
          <p:spPr>
            <a:xfrm>
              <a:off x="1692360" y="836640"/>
              <a:ext cx="6983280" cy="280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90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200" spc="-1" strike="noStrike">
                  <a:solidFill>
                    <a:srgbClr val="0070c0"/>
                  </a:solidFill>
                  <a:latin typeface="Arial"/>
                </a:rPr>
                <a:t>-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RESUMEN EJECUTIV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ANTECED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MARCO CONCEPTUAL DE LA PROPUES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PROGRAMA DE INVERSION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RIGEN Y JUSTIFICACIÓN DEL PROGRAM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BJETIVOS DEL PROGRA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BENEFICIARIOS Y COBERTURA GEOGRÁF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ESTRATEGIA DE INTERVENCIÓN Y ORGANIZACIÓN PARA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LA EJEC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LAN DE EJECU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CARTERA DE PROYECTOS Y PROGRAMA DE INVERSIONES,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STIMACIÓN DE COSTOS DE PREINVERSIÓN E INVER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 rot="10800000">
              <a:off x="755640" y="836280"/>
              <a:ext cx="720720" cy="2808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DOCUMENTO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JECU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"/>
          <p:cNvGrpSpPr/>
          <p:nvPr/>
        </p:nvGrpSpPr>
        <p:grpSpPr>
          <a:xfrm>
            <a:off x="755640" y="3789360"/>
            <a:ext cx="7920000" cy="2735280"/>
            <a:chOff x="755640" y="3789360"/>
            <a:chExt cx="7920000" cy="2735280"/>
          </a:xfrm>
        </p:grpSpPr>
        <p:sp>
          <p:nvSpPr>
            <p:cNvPr id="73" name="Rectangle 7"/>
            <p:cNvSpPr/>
            <p:nvPr/>
          </p:nvSpPr>
          <p:spPr>
            <a:xfrm>
              <a:off x="1692360" y="3789360"/>
              <a:ext cx="6983280" cy="27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CARTERA DE PROYEC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- PROYECTO 1 (Fich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1(Ficha 1.1); subproyecto 1.2 (Ficha 1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n (Ficha 1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2 (Ficha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1(Ficha 2.1); subproyecto 2.2 (Ficha 2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n (Ficha 2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N (Ficha 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1(Ficha N.1); subproyecto N.2 (Ficha N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n (Ficha N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 rot="10800000">
              <a:off x="755640" y="3789360"/>
              <a:ext cx="720720" cy="273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ANEXO: CARTERA DE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PROYECTOS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(FICH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2060640"/>
            <a:ext cx="9036000" cy="1511280"/>
            <a:chOff x="0" y="2060640"/>
            <a:chExt cx="9036000" cy="1511280"/>
          </a:xfrm>
        </p:grpSpPr>
        <p:sp>
          <p:nvSpPr>
            <p:cNvPr id="76" name="AutoShape 3"/>
            <p:cNvSpPr/>
            <p:nvPr/>
          </p:nvSpPr>
          <p:spPr>
            <a:xfrm>
              <a:off x="0" y="2421000"/>
              <a:ext cx="97164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"/>
            <p:cNvSpPr/>
            <p:nvPr/>
          </p:nvSpPr>
          <p:spPr>
            <a:xfrm>
              <a:off x="1332000" y="2637000"/>
              <a:ext cx="115236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stema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mbio 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26272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st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curs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392580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iego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ren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529272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urismo 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6661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d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produc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7885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ervici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inancier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835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5867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3780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3132000" y="2349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313200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4427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7812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7164360" y="2349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716436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8459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0" y="3284640"/>
            <a:ext cx="9036000" cy="3573360"/>
            <a:chOff x="0" y="3284640"/>
            <a:chExt cx="9036000" cy="3573360"/>
          </a:xfrm>
        </p:grpSpPr>
        <p:sp>
          <p:nvSpPr>
            <p:cNvPr id="94" name="AutoShape 21"/>
            <p:cNvSpPr/>
            <p:nvPr/>
          </p:nvSpPr>
          <p:spPr>
            <a:xfrm>
              <a:off x="0" y="3573360"/>
              <a:ext cx="971640" cy="3284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SUB-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r>
                <a:rPr b="0" lang="es-BO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133200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UCR´s par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la gest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erritorial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3"/>
            <p:cNvSpPr/>
            <p:nvPr/>
          </p:nvSpPr>
          <p:spPr>
            <a:xfrm>
              <a:off x="1332000" y="4724280"/>
              <a:ext cx="1150920" cy="9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institucional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ara el camb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4"/>
            <p:cNvSpPr/>
            <p:nvPr/>
          </p:nvSpPr>
          <p:spPr>
            <a:xfrm>
              <a:off x="2629080" y="3573360"/>
              <a:ext cx="1150920" cy="1150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ventario,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nálisis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tuac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ropuest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recurs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3924360" y="472428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xplotac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servori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392436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provecha-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u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ubterráne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5286240" y="357192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t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turística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8"/>
            <p:cNvSpPr/>
            <p:nvPr/>
          </p:nvSpPr>
          <p:spPr>
            <a:xfrm>
              <a:off x="6659640" y="42926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aí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6715080" y="39290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rro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>
              <a:off x="6643800" y="357192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ca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1"/>
            <p:cNvSpPr/>
            <p:nvPr/>
          </p:nvSpPr>
          <p:spPr>
            <a:xfrm>
              <a:off x="6659640" y="4653000"/>
              <a:ext cx="1150920" cy="936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u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ráctic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anaderas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ejora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nétic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2"/>
            <p:cNvSpPr/>
            <p:nvPr/>
          </p:nvSpPr>
          <p:spPr>
            <a:xfrm>
              <a:off x="6661080" y="566100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stud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iocombustible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3"/>
            <p:cNvSpPr/>
            <p:nvPr/>
          </p:nvSpPr>
          <p:spPr>
            <a:xfrm>
              <a:off x="7885080" y="465300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ond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mpetitiv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ara l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novación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>
              <a:off x="788508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operativ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5"/>
            <p:cNvSpPr/>
            <p:nvPr/>
          </p:nvSpPr>
          <p:spPr>
            <a:xfrm>
              <a:off x="1835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>
              <a:off x="313200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7"/>
            <p:cNvSpPr/>
            <p:nvPr/>
          </p:nvSpPr>
          <p:spPr>
            <a:xfrm>
              <a:off x="8459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>
              <a:off x="716436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9"/>
            <p:cNvSpPr/>
            <p:nvPr/>
          </p:nvSpPr>
          <p:spPr>
            <a:xfrm>
              <a:off x="5867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0"/>
            <p:cNvSpPr/>
            <p:nvPr/>
          </p:nvSpPr>
          <p:spPr>
            <a:xfrm>
              <a:off x="450072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41"/>
          <p:cNvSpPr/>
          <p:nvPr/>
        </p:nvSpPr>
        <p:spPr>
          <a:xfrm>
            <a:off x="1835280" y="206064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0" y="549360"/>
            <a:ext cx="7380360" cy="1511280"/>
            <a:chOff x="0" y="549360"/>
            <a:chExt cx="7380360" cy="1511280"/>
          </a:xfrm>
        </p:grpSpPr>
        <p:sp>
          <p:nvSpPr>
            <p:cNvPr id="116" name="AutoShape 43"/>
            <p:cNvSpPr/>
            <p:nvPr/>
          </p:nvSpPr>
          <p:spPr>
            <a:xfrm>
              <a:off x="0" y="549360"/>
              <a:ext cx="104292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LANES/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2411280" y="549360"/>
              <a:ext cx="4969080" cy="1081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DE DESARROLLO PROVINCIAL</a:t>
              </a:r>
              <a:br>
                <a:rPr sz="1400"/>
              </a:br>
              <a:br>
                <a:rPr sz="1400"/>
              </a:b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ESTRATÉGICO AGROPECU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OBJETIVOS DE DESARROLLO DEL MILE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500364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>
              <a:off x="3059280" y="105264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82560" y="135000"/>
            <a:ext cx="5978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- CONCEPTO DE LOS PROYECTOS IDENTIFICAD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EGUNTAS BASICAS PARA RESPONDER EN GRUPO DE TRABAJO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6000" y="1527840"/>
            <a:ext cx="4862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OYETO IDENTIFCADO:  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2049480"/>
          <a:ext cx="8183520" cy="4619520"/>
        </p:xfrm>
        <a:graphic>
          <a:graphicData uri="http://schemas.openxmlformats.org/drawingml/2006/table">
            <a:tbl>
              <a:tblPr/>
              <a:tblGrid>
                <a:gridCol w="2468520"/>
                <a:gridCol w="571500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EGU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SCRIP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POR QU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stificación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PARA QUE Y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s y met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PARA QUIEN?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ciario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 DOND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 COM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-interven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 CON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11 Rectángulo"/>
          <p:cNvGrpSpPr/>
          <p:nvPr/>
        </p:nvGrpSpPr>
        <p:grpSpPr>
          <a:xfrm>
            <a:off x="341280" y="1627200"/>
            <a:ext cx="1474920" cy="1176480"/>
            <a:chOff x="341280" y="1627200"/>
            <a:chExt cx="1474920" cy="1176480"/>
          </a:xfrm>
        </p:grpSpPr>
        <p:pic>
          <p:nvPicPr>
            <p:cNvPr id="125" name="11 Rectángulo" descr=""/>
            <p:cNvPicPr/>
            <p:nvPr/>
          </p:nvPicPr>
          <p:blipFill>
            <a:blip r:embed="rId1"/>
            <a:stretch/>
          </p:blipFill>
          <p:spPr>
            <a:xfrm>
              <a:off x="341280" y="1627200"/>
              <a:ext cx="1474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7120" y="1643040"/>
              <a:ext cx="1440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12 Rectángulo"/>
          <p:cNvGrpSpPr/>
          <p:nvPr/>
        </p:nvGrpSpPr>
        <p:grpSpPr>
          <a:xfrm>
            <a:off x="341280" y="2840040"/>
            <a:ext cx="2193840" cy="1177920"/>
            <a:chOff x="341280" y="2840040"/>
            <a:chExt cx="2193840" cy="1177920"/>
          </a:xfrm>
        </p:grpSpPr>
        <p:pic>
          <p:nvPicPr>
            <p:cNvPr id="128" name="12 Rectángulo" descr=""/>
            <p:cNvPicPr/>
            <p:nvPr/>
          </p:nvPicPr>
          <p:blipFill>
            <a:blip r:embed="rId2"/>
            <a:stretch/>
          </p:blipFill>
          <p:spPr>
            <a:xfrm>
              <a:off x="341280" y="2840040"/>
              <a:ext cx="219384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285768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13 Rectángulo"/>
          <p:cNvGrpSpPr/>
          <p:nvPr/>
        </p:nvGrpSpPr>
        <p:grpSpPr>
          <a:xfrm>
            <a:off x="341280" y="4054320"/>
            <a:ext cx="2914560" cy="1176480"/>
            <a:chOff x="341280" y="4054320"/>
            <a:chExt cx="2914560" cy="1176480"/>
          </a:xfrm>
        </p:grpSpPr>
        <p:pic>
          <p:nvPicPr>
            <p:cNvPr id="131" name="13 Rectángulo" descr=""/>
            <p:cNvPicPr/>
            <p:nvPr/>
          </p:nvPicPr>
          <p:blipFill>
            <a:blip r:embed="rId3"/>
            <a:stretch/>
          </p:blipFill>
          <p:spPr>
            <a:xfrm>
              <a:off x="341280" y="4054320"/>
              <a:ext cx="29145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7120" y="4071960"/>
              <a:ext cx="287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14 Rectángulo"/>
          <p:cNvGrpSpPr/>
          <p:nvPr/>
        </p:nvGrpSpPr>
        <p:grpSpPr>
          <a:xfrm>
            <a:off x="341280" y="5267160"/>
            <a:ext cx="3633840" cy="1182960"/>
            <a:chOff x="341280" y="5267160"/>
            <a:chExt cx="3633840" cy="1182960"/>
          </a:xfrm>
        </p:grpSpPr>
        <p:pic>
          <p:nvPicPr>
            <p:cNvPr id="134" name="14 Rectángulo" descr=""/>
            <p:cNvPicPr/>
            <p:nvPr/>
          </p:nvPicPr>
          <p:blipFill>
            <a:blip r:embed="rId4"/>
            <a:stretch/>
          </p:blipFill>
          <p:spPr>
            <a:xfrm>
              <a:off x="341280" y="5267160"/>
              <a:ext cx="363384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7120" y="5286240"/>
              <a:ext cx="360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44ac"/>
                </a:solidFill>
                <a:latin typeface="Calibri"/>
              </a:rPr>
              <a:t>Criterios para considerar “bancable” un proyec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1785960" y="2000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Per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2500200" y="32148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i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3214800" y="4429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9 CuadroTexto"/>
          <p:cNvSpPr/>
          <p:nvPr/>
        </p:nvSpPr>
        <p:spPr>
          <a:xfrm>
            <a:off x="4000680" y="56437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Sosten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"/>
          <p:cNvGraphicFramePr/>
          <p:nvPr/>
        </p:nvGraphicFramePr>
        <p:xfrm>
          <a:off x="2000160" y="785880"/>
          <a:ext cx="6400800" cy="58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785880"/>
                    <a:ext cx="640080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Rectángulo"/>
          <p:cNvSpPr/>
          <p:nvPr/>
        </p:nvSpPr>
        <p:spPr>
          <a:xfrm>
            <a:off x="357120" y="1643040"/>
            <a:ext cx="144000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CuadroTexto" descr=""/>
          <p:cNvPicPr/>
          <p:nvPr/>
        </p:nvPicPr>
        <p:blipFill>
          <a:blip r:embed="rId1"/>
          <a:stretch/>
        </p:blipFill>
        <p:spPr>
          <a:xfrm>
            <a:off x="1616040" y="1749600"/>
            <a:ext cx="2535120" cy="682560"/>
          </a:xfrm>
          <a:prstGeom prst="rect">
            <a:avLst/>
          </a:prstGeom>
          <a:ln w="0">
            <a:noFill/>
          </a:ln>
        </p:spPr>
      </p:pic>
      <p:sp>
        <p:nvSpPr>
          <p:cNvPr id="146" name="12 CuadroTexto"/>
          <p:cNvSpPr/>
          <p:nvPr/>
        </p:nvSpPr>
        <p:spPr>
          <a:xfrm>
            <a:off x="928800" y="314316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xamina si los OBJETIVOS y RESULTADOS ESPERADOS son adecuados, pertinentes y congruentes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5357880" y="271476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Las prioridades definidas por las instituciones so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4 CuadroTexto"/>
          <p:cNvSpPr/>
          <p:nvPr/>
        </p:nvSpPr>
        <p:spPr>
          <a:xfrm>
            <a:off x="5429160" y="357192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Con las necesidades de los potenciales 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5 CuadroTexto"/>
          <p:cNvSpPr/>
          <p:nvPr/>
        </p:nvSpPr>
        <p:spPr>
          <a:xfrm>
            <a:off x="1357200" y="5643720"/>
            <a:ext cx="70009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aliza la congruencia del proyecto con los objetivos generales de las instituciones participantes, no tanto la coherencia interna del proyecto (Marco Ló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17 Conector angular"/>
          <p:cNvCxnSpPr/>
          <p:nvPr/>
        </p:nvCxnSpPr>
        <p:spPr>
          <a:xfrm flipV="1">
            <a:off x="4143240" y="3084120"/>
            <a:ext cx="1215360" cy="721440"/>
          </a:xfrm>
          <a:prstGeom prst="bentConnector3">
            <a:avLst>
              <a:gd name="adj1" fmla="val 49985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1" name="18 Conector angular"/>
          <p:cNvCxnSpPr/>
          <p:nvPr/>
        </p:nvCxnSpPr>
        <p:spPr>
          <a:xfrm>
            <a:off x="4143240" y="3804840"/>
            <a:ext cx="1286640" cy="137160"/>
          </a:xfrm>
          <a:prstGeom prst="bentConnector3">
            <a:avLst>
              <a:gd name="adj1" fmla="val 49986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Rectángulo"/>
          <p:cNvSpPr/>
          <p:nvPr/>
        </p:nvSpPr>
        <p:spPr>
          <a:xfrm>
            <a:off x="357120" y="2857680"/>
            <a:ext cx="216072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 CuadroTexto" descr=""/>
          <p:cNvPicPr/>
          <p:nvPr/>
        </p:nvPicPr>
        <p:blipFill>
          <a:blip r:embed="rId1"/>
          <a:stretch/>
        </p:blipFill>
        <p:spPr>
          <a:xfrm>
            <a:off x="2328840" y="3121200"/>
            <a:ext cx="2182680" cy="682560"/>
          </a:xfrm>
          <a:prstGeom prst="rect">
            <a:avLst/>
          </a:prstGeom>
          <a:ln w="0">
            <a:noFill/>
          </a:ln>
        </p:spPr>
      </p:pic>
      <p:sp>
        <p:nvSpPr>
          <p:cNvPr id="154" name="12 CuadroTexto"/>
          <p:cNvSpPr/>
          <p:nvPr/>
        </p:nvSpPr>
        <p:spPr>
          <a:xfrm>
            <a:off x="285840" y="428616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debe delimitar los campos de acción y las responsabilidades entre 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inanci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ormu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jecu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3 CuadroTexto"/>
          <p:cNvSpPr/>
          <p:nvPr/>
        </p:nvSpPr>
        <p:spPr>
          <a:xfrm>
            <a:off x="5500800" y="164304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1. La relación insumo/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CuadroTexto"/>
          <p:cNvSpPr/>
          <p:nvPr/>
        </p:nvSpPr>
        <p:spPr>
          <a:xfrm>
            <a:off x="5500800" y="2363760"/>
            <a:ext cx="32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2. Resultados: financieros, humanos o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5 CuadroTexto"/>
          <p:cNvSpPr/>
          <p:nvPr/>
        </p:nvSpPr>
        <p:spPr>
          <a:xfrm>
            <a:off x="5500800" y="321480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3. Costos: relación costos vs resultados  obtenidos, ¿son razon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Prim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CuadroTexto"/>
          <p:cNvSpPr/>
          <p:nvPr/>
        </p:nvSpPr>
        <p:spPr>
          <a:xfrm>
            <a:off x="2428920" y="5572080"/>
            <a:ext cx="66438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duplicación de esfuerzos o superposición entre las actividades y otras intervenciones semej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alternativas más eficientes para obtener más y mejores productos con los recursos disponi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Rectángulo"/>
          <p:cNvSpPr/>
          <p:nvPr/>
        </p:nvSpPr>
        <p:spPr>
          <a:xfrm>
            <a:off x="357120" y="4071960"/>
            <a:ext cx="287964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1 CuadroTexto" descr=""/>
          <p:cNvPicPr/>
          <p:nvPr/>
        </p:nvPicPr>
        <p:blipFill>
          <a:blip r:embed="rId1"/>
          <a:stretch/>
        </p:blipFill>
        <p:spPr>
          <a:xfrm>
            <a:off x="3041640" y="4334040"/>
            <a:ext cx="3749760" cy="682560"/>
          </a:xfrm>
          <a:prstGeom prst="rect">
            <a:avLst/>
          </a:prstGeom>
          <a:ln w="0">
            <a:noFill/>
          </a:ln>
        </p:spPr>
      </p:pic>
      <p:sp>
        <p:nvSpPr>
          <p:cNvPr id="161" name="13 CuadroTexto"/>
          <p:cNvSpPr/>
          <p:nvPr/>
        </p:nvSpPr>
        <p:spPr>
          <a:xfrm>
            <a:off x="4786200" y="314316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on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Segundo Nivel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 cualitativo, responden a preguntas del tipo ¿cómo?,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4 CuadroTexto"/>
          <p:cNvSpPr/>
          <p:nvPr/>
        </p:nvSpPr>
        <p:spPr>
          <a:xfrm>
            <a:off x="4857840" y="45720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Al evaluar los resultados, se debe determinar si se los pueden atribuir al proyecto en cuestión, ¿se puede descartar factores ex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1000080" y="1500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Se toma como base los objetivos del proyecto, se identifican los resultados y se evalúa la magnitud o el alcance del proyecto y la calidad de los impactos sobre el medio que se pretendía intervenir. Se vincula los objetivos a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2 Subtítulo"/>
          <p:cNvSpPr/>
          <p:nvPr/>
        </p:nvSpPr>
        <p:spPr>
          <a:xfrm>
            <a:off x="785880" y="185724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GRAMAS DE INVER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RUMENTO CLAVE PARA LA MOVILIZACION DE RECURS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4 Rectángulo"/>
          <p:cNvSpPr/>
          <p:nvPr/>
        </p:nvSpPr>
        <p:spPr>
          <a:xfrm>
            <a:off x="357120" y="5286240"/>
            <a:ext cx="360036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 CuadroTexto" descr=""/>
          <p:cNvPicPr/>
          <p:nvPr/>
        </p:nvPicPr>
        <p:blipFill>
          <a:blip r:embed="rId1"/>
          <a:stretch/>
        </p:blipFill>
        <p:spPr>
          <a:xfrm>
            <a:off x="3828960" y="5546880"/>
            <a:ext cx="3748320" cy="688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285840" y="1221120"/>
            <a:ext cx="50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qué medida los resultados del programa se sostienen luego de que este finalice o se hayan retirado los recursos ex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1 CuadroTexto"/>
          <p:cNvSpPr/>
          <p:nvPr/>
        </p:nvSpPr>
        <p:spPr>
          <a:xfrm>
            <a:off x="3786120" y="2571840"/>
            <a:ext cx="43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refiere al aprendizaje instituciones, es decir, en qué medida los socios internalizaron la experiencia y se capacitaron para seguir adelante sin el apoyo de la cooperación internacional. Depende de la naturaleza y de los objetivos del programa.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571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EJEMPLO DEL PROGRAMA DE INVERSION DE LOS RIOS</a:t>
            </a:r>
            <a:br>
              <a:rPr sz="4000"/>
            </a:br>
            <a:r>
              <a:rPr b="1" lang="es-AR" sz="4000" spc="-1" strike="noStrike">
                <a:solidFill>
                  <a:srgbClr val="00b050"/>
                </a:solidFill>
                <a:latin typeface="Calibri"/>
              </a:rPr>
              <a:t>(VER ARCHIVO PD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ETODOLOGÍA ADOPTADA EN LA PLANIFICACIÓN DEL DESARROLLO SOSTENIBL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formas y caminos operacionales para a elaboración de estrategias territoriales, fueron definidas como un proceso de trabajo que contempla  procedimientos y actividades secuenciadas, y las  técnicas de producción y deliber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un modo general, ese enfoque de trabajo se estructura en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uatro postulados centra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a)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del proceso técnico y polític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b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ombinación de proceso y produc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nfoque sistemático;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sión estratégica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CR" sz="3200" spc="-1" strike="noStrike">
                <a:solidFill>
                  <a:srgbClr val="ffff00"/>
                </a:solidFill>
                <a:latin typeface="Calibri"/>
              </a:rPr>
              <a:t>Superar la visión sectorial del medio rural,</a:t>
            </a:r>
            <a:br>
              <a:rPr sz="28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Rectángulo"/>
          <p:cNvSpPr/>
          <p:nvPr/>
        </p:nvSpPr>
        <p:spPr>
          <a:xfrm>
            <a:off x="1214280" y="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ROPUESTA DESTACA LA NECESIDAD DE ENFRENTAR UNA SERIE DE RET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1143000" y="521496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Complementar los enfoques de participación y compensa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1000080" y="2571840"/>
            <a:ext cx="75009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Articular las dimensiones urbana y rural de manera orgán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PLANES Y PROGRAMAS DT :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AMIENTOS Y VISIÓN SOBRE LOS CRITERIOS PARA LA ASIGNACIÓN DE LOS RECURSOS DE INVERS</a:t>
            </a:r>
            <a:r>
              <a:rPr b="1" lang="es-ES" sz="24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42920" y="1428840"/>
            <a:ext cx="87868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ben impulsar proyectos 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menten las sinergias entre las caden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ro-productivo-comerciales y los territorios;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omuevan encadenamientos de la agricultura con otros sector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que contribuyan a crear y estimular economías de escala y de aglomerac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encien el desarrollo de nuevas actividades productiv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ulsen la asocia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oncurra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tenciar y movilizar el ahor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se genera al interior de los territorios; y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e coadyuve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talecer el capital humano y soci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os territorios rurales. </a:t>
            </a:r>
            <a:br>
              <a:rPr sz="1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Potenciar la visión convencional de manejo de recursos naturales desde una perspectiva de protección ambiental y de producción limp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Superar la visión de transferencia tecnológica como herramienta para incrementar la productividad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Trascender la visión convencional del capital, la cual se restringe al capital económico</a:t>
            </a:r>
            <a:r>
              <a:rPr b="1" lang="es-CR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esquemas de cooperación que resulten en iniciativas de desarrollo rural orientadas por las demandas de los pobladores y agentes de los territorio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la gestión del conocimient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Desarrollar nuevos mecanismos de gestión, que promuevan la articulación entre lo público y lo privado y entre lo nacional, lo regional y lo loc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otenciar las sinergias intersectoriales y multisectorial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1928880" y="1928880"/>
          <a:ext cx="647676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928880"/>
                    <a:ext cx="647676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76"/>
          <p:cNvGraphicFramePr/>
          <p:nvPr/>
        </p:nvGraphicFramePr>
        <p:xfrm>
          <a:off x="114480" y="252360"/>
          <a:ext cx="891540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52360"/>
                    <a:ext cx="891540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4:39:03Z</dcterms:created>
  <dc:creator>HP</dc:creator>
  <dc:description/>
  <dc:language>en-US</dc:language>
  <cp:lastModifiedBy>HP</cp:lastModifiedBy>
  <dcterms:modified xsi:type="dcterms:W3CDTF">2009-10-01T05:50:44Z</dcterms:modified>
  <cp:revision>43</cp:revision>
  <dc:subject/>
  <dc:title>Los planes y programas de desarrollo territorial, establecen lineamientos que hacen necesaria una visión diferente sobre los criterios para la asignación de los recursos de inversión. Se deben impulsar proyectos que:   Fomenten las sinergias entre las cadenas agro-productivo-comerciales y los territorios;  promuevan encadenamientos de la agricultura con otros sectores, que contribuyan a crear y estimular economías de escala y de aglomeración; potencien el desarrollo de nuevas actividades productivas,  impulsen la asociación y concurran a potenciar y movilizar el ahorro que se genera al interior de los territorios; y  que coadyuven a fortalecer el capital humano y social de los territorios rurales.</dc:title>
</cp:coreProperties>
</file>