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9158-581F-45B7-80D2-9C1336A0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8800-9424-42F3-8331-E4172DEA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D3A5-6F1E-4E7A-B04C-1AFF1E926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5F9C-7275-4F12-9C21-9F58C481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7574-D506-48CF-A8F7-0BA8E6D9D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2F33-6383-4125-96CB-18F47522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01D6-DF4F-4AEB-9598-CFFE96AF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4F6E-BDF7-4E0D-97E5-D8BAA81F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993A-ACA8-4D44-9B3D-3F6194A9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5E66-53A5-4B3A-ABAB-2E3A80D6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451C-A363-4EF2-9F39-6481E536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5AB1-F72C-41C0-9630-13A07982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8275-9FB3-49CD-9C63-14F1A95C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B736-A933-41B7-AC7C-8C69FB3B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6F3C-2276-43D8-8A84-FE41D823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9A48-AF12-4AE3-8981-F0CB4B0DF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728F-3197-4548-9614-2DB2A6A71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AAE9-C8AE-4EE1-95C0-3B83173F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27F7-1978-49C6-9FDF-2CA1DEBE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468F-CF50-4FBB-B9F3-9CEDB4AB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26F6-FFBD-438D-AC93-DC750832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37CC-8384-4A2D-B009-84BA83AB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99D2-F6BE-4E6E-A177-29F7B6D4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5FDB-2990-4DCC-860B-B4151B0E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CC83-08E3-49C4-A796-5F2D45250C6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1D54-80CC-412E-8094-B3B64F31E54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ff"/>
                </a:solidFill>
                <a:latin typeface="Arial"/>
              </a:rPr>
              <a:t>DESARROLLO DE POSTGR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ffffb7"/>
                </a:solidFill>
                <a:latin typeface="Arial Black"/>
              </a:rPr>
              <a:t>DESARROLLO DE POSTGRADO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Arial"/>
              </a:rPr>
              <a:t>MESA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Arial"/>
              </a:rPr>
              <a:t>COORDINADOR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Arial"/>
              </a:rPr>
              <a:t>DR. REGULO CARTAGENA- COLOMB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Arial"/>
              </a:rPr>
              <a:t>SUB- COORDINADOR: RAFAEL OLIV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Arial"/>
              </a:rPr>
              <a:t>SECRETARIA: MIRELLA DESIGNORIB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b7"/>
                </a:solidFill>
                <a:latin typeface="Arial Black"/>
              </a:rPr>
              <a:t>PONENTES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Arial"/>
              </a:rPr>
              <a:t>MARCELO CALVACHE- ECUA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Arial"/>
              </a:rPr>
              <a:t>MARIO GARCIA - COLOMB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Arial"/>
              </a:rPr>
              <a:t>JUAN MELENDEZ- VENEZU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b7"/>
                </a:solidFill>
                <a:latin typeface="Arial Black"/>
              </a:rPr>
              <a:t>ACUERDOS Y RECOMENDACIONES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560" y="1412640"/>
            <a:ext cx="80074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Arial"/>
              </a:rPr>
              <a:t>CREAR PROGRAMAS DE CALIDAD AJUSTADOS A LOS NUEVOS REQUERIMIENTOS DE LA COMUNIDAD ANDINA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Arial"/>
              </a:rPr>
              <a:t>DESARROLLAR  PROGRAMAS CON PERTINENCIA Y COHERENCIA CON LA COMUNIDAD INTERNACIONAL, ADAPTADOS A LOS ENFÓQUES DE GLOBALIZACIÓN Y COMPET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Arial"/>
              </a:rPr>
              <a:t>PROMOVER LÍNEAS DE INVESTIGACIÓN RELACIONADAS A LA BUSQUEDA DE SOLUCIONES CONCRETAS A LOS DIVERSOS PROBLEMAS QUE AFECTAN AL SECTOR SOCIAL, EMPRESARIAL Y ACADÉMICA EN EL ÁREA AGROECOLÓGICA PARA EL SECTOR RUR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Arial"/>
              </a:rPr>
              <a:t>PROMOVER ESTUDIOS DE POSTGRADOS CON ENFÓQUES INTEGRADOS Y DIRECCIONARLOS HACIA TODOS LOS SECTORES DE LA SOCIEDAD A FIN DE SOLUCIONAR PROBLEMAS EMERGENTES Y VULNER4ABLES EN ELLA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95280" y="1484280"/>
            <a:ext cx="80074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55280" y="692280"/>
            <a:ext cx="8007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PROPONER REVISIÓN Y EVALUACIÓN DE LAS ESTRUCTURAS  CURRICULARES DE LOS PROGRAMAS DE POSTGRADO,  PARA AJUSTAR CAMBIOS PERMANENTES, CONSIDERANDO LOS AVANCES CIENTÍFICOS Y TECNOLÓGICOS DEL MOMEN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PREPERAR Y ELABORAR CONJUNTAMENTE CON LOS PAISES DEL ÁREA ANDINA: UNIDADES DE PLANIFICACIÓN Y DESARROLLO DE PROGRAMAS Y LÍNEAS DE INVESTIGACIÓN QUE  CONTRIBUYAN A LAS NECESIDADES DEL SECTOR RU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CONTRIBUIR AL DESARROLLO AGROPECUARIO MEDIANTE  LA FORMACIÓN  DE INVESTIGADORES CAPACES DE IDENTIFICAR, PRIORIZAR Y SOLUCIONAR LOS PROBLEMAS LIMITANTES DE LA PRODUCCIÓN AGRAR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26560" y="475920"/>
            <a:ext cx="80074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CREAR VIAS ABIERTAS DE COMUNICACIÓN CON LOS GOBIERNOS E INSTITUCIONES PARA LOS PROCESOS DE HOMOLOGACIÓN Y ACREDITACIÓN DE LOS TITULOS DOCTORALES Y  DE MAESTRIÁ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REVISAR LOS DISEÑOS DE ESTRUCTURAS CURRICULARES DE LOS ESTUDIOS DE POSTGRADOS, CUYAS UNIDADES DE CREDITOS SON ELEVADAS Y NO ASOCIADAS AL COMPROMISO Y BUSQUEDA HACIA A LA EXCELENCIA ACADÉMICA Y A LA INVESTIG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ELABORAR PROGRAMAS ESPECIALIZADOS EN CENTROS DE RED DE COMUNICACIONES PARA EL DESARROLLO DE LA INVESTIGACIÓN, EXTENSIÓN Y CONTEXTUALIZACIÓN SOCIAL, A DISTANCIA, GARANTIZANDO SUS OBJETIV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26560" y="620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 algn="just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CREAR PROGRAMAS PARA EL FINANCIAMIENTO Y MOBILIDAD DE DOCENTES E INVESTIGADORES DE LOS PAISES DE LA COMUNIDAD ANDINA PARA CONTRIBUIR A FORTALECER  UN LENGUAJE COMÚN EN LA DIVERSIDAD PEDAGÓGICA, INVESTIGACIÓN Y EXTENSIÓN EN EL ÁREA AGRICOLA RU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9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 algn="just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REALIZAR PROGRAMAS  DE POSTGRADO DIRIGIDOS A ELEVAR LA CALIDAD Y PERTINENCIA DE LOS TRABAJOS DE GRADO Y SU ORIENTACIÓN PERMANENTE A SATISFACER NECESIDADES REALES DE LA COMUNIDAD RU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9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 algn="just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ESTABLECER ALIANZAS ESTRATEGICAS QUE PERMITAN EL DESARROLLO DE LA INVESTIGACIÓN A TRAVÉS DE LINEAS DESTINADAS A PROMOVER NUEVOS CONOCIMIENTOS COMO LAS DIVERSAS ALTERNATIVAS PARA DAR SOLUCIÓN A  PROBLEMAS ASOCIADOS A LOS FLAGELOS DE LA HUMAN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23:40:11Z</dcterms:created>
  <dc:creator>ludzmila</dc:creator>
  <dc:description/>
  <dc:language>en-US</dc:language>
  <cp:lastModifiedBy>dolores</cp:lastModifiedBy>
  <dcterms:modified xsi:type="dcterms:W3CDTF">2009-07-14T06:32:05Z</dcterms:modified>
  <cp:revision>3</cp:revision>
  <dc:subject/>
  <dc:title>Diapositiva 1</dc:title>
</cp:coreProperties>
</file>